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1.png" ContentType="image/png"/>
  <Override PartName="/ppt/media/image2.png" ContentType="image/png"/>
  <Override PartName="/ppt/media/image6.jpeg" ContentType="image/jpeg"/>
  <Override PartName="/ppt/media/image21.wmf" ContentType="image/x-wmf"/>
  <Override PartName="/ppt/media/image22.wmf" ContentType="image/x-wmf"/>
  <Override PartName="/ppt/media/image9.gif" ContentType="image/gif"/>
  <Override PartName="/ppt/media/image35.wmf" ContentType="image/x-wmf"/>
  <Override PartName="/ppt/media/image36.wmf" ContentType="image/x-wmf"/>
  <Override PartName="/ppt/media/image13.gif" ContentType="image/gif"/>
  <Override PartName="/ppt/media/image10.gif" ContentType="image/gif"/>
  <Override PartName="/ppt/media/image38.png" ContentType="image/png"/>
  <Override PartName="/ppt/media/image40.png" ContentType="image/png"/>
  <Override PartName="/ppt/media/image39.png" ContentType="image/png"/>
  <Override PartName="/ppt/media/image41.png" ContentType="image/png"/>
  <Override PartName="/ppt/media/image37.gif" ContentType="image/gif"/>
  <Override PartName="/ppt/media/image42.png" ContentType="image/png"/>
  <Override PartName="/ppt/media/image43.png" ContentType="image/png"/>
  <Override PartName="/ppt/media/image44.png" ContentType="image/png"/>
  <Override PartName="/ppt/media/image34.wmf" ContentType="image/x-wmf"/>
  <Override PartName="/ppt/media/image8.gif" ContentType="image/gif"/>
  <Override PartName="/ppt/media/image19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5.wmf" ContentType="image/x-wmf"/>
  <Override PartName="/ppt/media/image5.png" ContentType="image/png"/>
  <Override PartName="/ppt/media/image28.png" ContentType="image/png"/>
  <Override PartName="/ppt/media/image31.wmf" ContentType="image/x-wmf"/>
  <Override PartName="/ppt/media/image12.wmf" ContentType="image/x-wmf"/>
  <Override PartName="/ppt/media/image27.png" ContentType="image/png"/>
  <Override PartName="/ppt/media/image4.gif" ContentType="image/gif"/>
  <Override PartName="/ppt/media/image33.jpeg" ContentType="image/jpeg"/>
  <Override PartName="/ppt/media/image30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0FFE-5EFB-413A-B1B5-EF4FEBDB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DA93-3987-4B65-B5C1-B8A4CCFC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B724-8482-4787-9901-ADADF7FA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371D-152C-4D2E-AEB7-87B3800B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8582-2F23-49A7-AF95-BD8F6F6D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E4AB-9957-4F59-8936-7D488FC7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F7C9-AB3B-4D7A-9526-4B6038DB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00C7-AAF7-4AA9-BD0E-81D30D13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A3C6-CE24-48C3-9ABD-849F2DD2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4AAF-8C52-44F2-A1C4-A4AC6CC5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9C12-B736-4240-8F66-5C0F5019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0973-3C3D-44B2-9A21-39F16495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9AF6-31E3-4AC1-9DAD-328D01F34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7.gif"/><Relationship Id="rId6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7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42.png"/><Relationship Id="rId12" Type="http://schemas.openxmlformats.org/officeDocument/2006/relationships/image" Target="../media/image26.pn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3000" y="5295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6200" y="-7920"/>
            <a:ext cx="6877080" cy="5224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-743040" y="6238800"/>
            <a:ext cx="685800" cy="61920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4240080" y="4024440"/>
            <a:ext cx="4499280" cy="2619360"/>
            <a:chOff x="4240080" y="4024440"/>
            <a:chExt cx="4499280" cy="2619360"/>
          </a:xfrm>
        </p:grpSpPr>
        <p:sp>
          <p:nvSpPr>
            <p:cNvPr id="46" name=""/>
            <p:cNvSpPr txBox="1"/>
            <p:nvPr/>
          </p:nvSpPr>
          <p:spPr>
            <a:xfrm>
              <a:off x="4240080" y="5499000"/>
              <a:ext cx="4499280" cy="1144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2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Elephant"/>
                </a:rPr>
                <a:t>getting fired up for GOD!!!</a:t>
              </a:r>
              <a:endParaRPr b="0" lang="en-US" sz="1800" spc="1" strike="noStrike">
                <a:ln w="9360">
                  <a:solidFill>
                    <a:srgbClr val="e2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latin typeface="Elephant"/>
                <a:ea typeface="Elephant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5967360" y="4024440"/>
              <a:ext cx="1828800" cy="182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6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-1.11111E-006 L 1.075 0.00463 E">
                                      <p:cBhvr>
                                        <p:cTn id="8" dur="1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488600"/>
            <a:ext cx="82486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It’s not a secr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It’s not a fairyta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It’s not made 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Jonah was in a wha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For three whole days, 1 2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The greatest treas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The Word God’s people wro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It’s in the Bi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When Noah built a bo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And it rained and rain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477120" y="2147760"/>
            <a:ext cx="2666880" cy="3276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 flipH="1">
            <a:off x="-343440" y="2106720"/>
            <a:ext cx="26672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God’s promises are tr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the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He’s the only w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God’s promises are tr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the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He’s the only w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For your every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It’s not a secr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It’s not a fairyta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It’s not made 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Jonah was in a wha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For three whole days, 1 2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163080" y="5824440"/>
            <a:ext cx="85248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96296E-006 L -1.12031 -0.00625 E">
                                      <p:cBhvr>
                                        <p:cTn id="24" dur="5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The greatest treas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The Word God’s people wro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It’s in the Bi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When Noah built a bo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And it rained and rain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477120" y="2147760"/>
            <a:ext cx="2666880" cy="3276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 flipH="1">
            <a:off x="-343440" y="2106720"/>
            <a:ext cx="26672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God’s promises are tr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the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He’s the only w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God’s promises are tr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the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He’s the only w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God’s promises are tr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the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He’s the only w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For your every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06200" y="-7920"/>
            <a:ext cx="9037800" cy="6865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9186840" y="5629320"/>
            <a:ext cx="128592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-1.18281 3.33333E-006 E">
                                      <p:cBhvr>
                                        <p:cTn id="40" dur="7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 flipH="1">
            <a:off x="4332240" y="0"/>
            <a:ext cx="4811760" cy="4832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11760" cy="48322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ChocolateBoxDecorative"/>
              </a:rPr>
              <a:t>One Community Theatre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 rot="19522200">
            <a:off x="4394160" y="4430520"/>
            <a:ext cx="4749840" cy="12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Impact"/>
              </a:rPr>
              <a:t>present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11760" cy="4832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 flipH="1">
            <a:off x="4332240" y="0"/>
            <a:ext cx="4811760" cy="4832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878040" y="1760400"/>
            <a:ext cx="735480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6600"/>
                </a:solidFill>
                <a:latin typeface="Carnival MF"/>
              </a:rPr>
              <a:t>Th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cc6600"/>
                </a:solidFill>
                <a:latin typeface="Carnival MF"/>
              </a:rPr>
              <a:t>GOOD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6600"/>
                </a:solidFill>
                <a:latin typeface="Carnival MF"/>
              </a:rPr>
              <a:t>Samarita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-254160" y="-2835360"/>
            <a:ext cx="9144000" cy="104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660033"/>
                </a:solidFill>
                <a:latin typeface="Carnival MF"/>
              </a:rPr>
              <a:t>I WROTE THE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660033"/>
                </a:solidFill>
                <a:latin typeface="Carnival MF"/>
              </a:rPr>
              <a:t>CREDITS BEF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660033"/>
                </a:solidFill>
                <a:latin typeface="Carnival MF"/>
              </a:rPr>
              <a:t>I knew who w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660033"/>
                </a:solidFill>
                <a:latin typeface="Carnival MF"/>
              </a:rPr>
              <a:t>Going to be i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660033"/>
                </a:solidFill>
                <a:latin typeface="Carnival MF"/>
              </a:rPr>
              <a:t>I am sure by now y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660033"/>
                </a:solidFill>
                <a:latin typeface="Carnival MF"/>
              </a:rPr>
              <a:t>worked out who was i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660033"/>
                </a:solidFill>
                <a:latin typeface="Carnival MF"/>
              </a:rPr>
              <a:t>we do hope y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660033"/>
                </a:solidFill>
                <a:latin typeface="Carnival MF"/>
              </a:rPr>
              <a:t>enjoyed the s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660033"/>
                </a:solidFill>
                <a:latin typeface="Carnival MF"/>
              </a:rPr>
              <a:t>And we th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660033"/>
                </a:solidFill>
                <a:latin typeface="Carnival MF"/>
              </a:rPr>
              <a:t>It was pretty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660033"/>
                </a:solidFill>
                <a:latin typeface="Carnival MF"/>
              </a:rPr>
              <a:t>To mention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660033"/>
                </a:solidFill>
                <a:latin typeface="Carnival MF"/>
              </a:rPr>
              <a:t>This skit w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660033"/>
                </a:solidFill>
                <a:latin typeface="Carnival MF"/>
              </a:rPr>
              <a:t>Based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660033"/>
                </a:solidFill>
                <a:latin typeface="Carnival MF"/>
              </a:rPr>
              <a:t>The book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660033"/>
                </a:solidFill>
                <a:latin typeface="Carnival MF"/>
              </a:rPr>
              <a:t>luk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660033"/>
                </a:solidFill>
                <a:latin typeface="Carnival MF"/>
              </a:rPr>
              <a:t>Chapter 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660033"/>
                </a:solidFill>
                <a:latin typeface="Carnival MF"/>
              </a:rPr>
              <a:t>Verses 30-3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 flipH="1">
            <a:off x="4332240" y="0"/>
            <a:ext cx="4811760" cy="48322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11760" cy="4832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419720" y="3048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843280" y="836280"/>
            <a:ext cx="584352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700" spc="-1" strike="noStrike">
                <a:solidFill>
                  <a:srgbClr val="ffff66"/>
                </a:solidFill>
                <a:latin typeface="Lucida Bright"/>
              </a:rPr>
              <a:t>One Way!!</a:t>
            </a: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3389400"/>
            <a:ext cx="26956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Lucida Bright"/>
              </a:rPr>
              <a:t>I lay my life down at Your feet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Lucida Bright"/>
              </a:rPr>
              <a:t>You’re the only one I nee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Lucida Bright"/>
              </a:rPr>
              <a:t>I turn to You and You are always ther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In troubled times, it’s You I see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I put You first that’s all I need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I humble all I am, all to You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One way, Jesus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You’re the only One that I could live fo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One way, Jesus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You’re the only One that I could live fo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Lucida Bright"/>
              </a:rPr>
              <a:t>You are always, always ther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Lucida Bright"/>
              </a:rPr>
              <a:t>Every how and everywher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Lucida Bright"/>
              </a:rPr>
              <a:t>Your grace abounds so deeply within m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You will never, ever chang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Yesterday, today the sam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Forever ‘til forever meets no end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One way, Jesus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You’re the only One that I could live fo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One way, Jesus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You’re the only One that I could live fo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-1252440" y="6286680"/>
            <a:ext cx="133344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33333E-006 L 1.14219 -0.00208 E">
                                      <p:cBhvr>
                                        <p:cTn id="65" dur="5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One way, Jesus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You’re the only One that I could live fo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One way, Jesus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You’re the only One that I could live fo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You are the Way, the Truth, and the Life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We live by faith and not by sigh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For You, we’re living all for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You are the Way, the Truth, and the Life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We live by faith and not by sigh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For You, we’re living all for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You are the Way, the Truth, and the Life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We live by faith and not by sigh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For You, we’re living all for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You are the Way, the Truth, and the Life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We live by faith and not by sigh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For You, we’re living all for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One way, Jesus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You’re the only One that I could live fo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One way, Jesus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You’re the only One that I could live fo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One way, Jesus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You’re the only One that I could live fo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One way, Jesus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Lucida Bright"/>
              </a:rPr>
              <a:t>You’re the only One that I could live fo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00000" y="457200"/>
            <a:ext cx="8244000" cy="640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e6e6e6"/>
                    </a:gs>
                    <a:gs pos="100000">
                      <a:srgbClr val="ffffff"/>
                    </a:gs>
                  </a:gsLst>
                  <a:lin ang="10800000"/>
                </a:gradFill>
                <a:latin typeface="Grand Stylus"/>
              </a:rPr>
              <a:t>Game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e6e6e6"/>
                  </a:gs>
                  <a:gs pos="100000">
                    <a:srgbClr val="ffffff"/>
                  </a:gs>
                </a:gsLst>
                <a:lin ang="10800000"/>
              </a:gradFill>
              <a:latin typeface="Grand Stylus"/>
              <a:ea typeface="Grand Stylu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e6e6e6"/>
                    </a:gs>
                    <a:gs pos="100000">
                      <a:srgbClr val="ffffff"/>
                    </a:gs>
                  </a:gsLst>
                  <a:lin ang="10800000"/>
                </a:gradFill>
                <a:latin typeface="Grand Stylus"/>
              </a:rPr>
              <a:t>Tim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e6e6e6"/>
                  </a:gs>
                  <a:gs pos="100000">
                    <a:srgbClr val="ffffff"/>
                  </a:gs>
                </a:gsLst>
                <a:lin ang="10800000"/>
              </a:gradFill>
              <a:latin typeface="Grand Stylus"/>
              <a:ea typeface="Grand Stylu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08960" y="0"/>
            <a:ext cx="1535040" cy="18288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1827360" cy="14860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940360" y="333360"/>
            <a:ext cx="1746360" cy="2005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826920" y="1557360"/>
            <a:ext cx="1314720" cy="18381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1835280" y="3213000"/>
            <a:ext cx="1657080" cy="18478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5796000" y="1989000"/>
            <a:ext cx="1332000" cy="1835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7521480" y="1844640"/>
            <a:ext cx="1622520" cy="18892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>
            <a:off x="7383600" y="3716280"/>
            <a:ext cx="1760400" cy="18986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9"/>
          <a:stretch/>
        </p:blipFill>
        <p:spPr>
          <a:xfrm>
            <a:off x="1763640" y="5019840"/>
            <a:ext cx="1779840" cy="1838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0"/>
          <a:stretch/>
        </p:blipFill>
        <p:spPr>
          <a:xfrm>
            <a:off x="0" y="5192640"/>
            <a:ext cx="1868400" cy="1665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250" autoRev="1" fill="hold"/>
                                        <p:tgtEl>
                                          <p:spTgt spid="2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7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5" repeatCount="indefinite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5" repeatCount="indefinite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 rot="13640400">
            <a:off x="569160" y="2693160"/>
            <a:ext cx="3851280" cy="3627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500200" y="6051600"/>
            <a:ext cx="797040" cy="8064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211800" y="3706920"/>
            <a:ext cx="2697120" cy="2803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11800" y="439560"/>
            <a:ext cx="2697120" cy="2803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4680" y="439560"/>
            <a:ext cx="2697480" cy="2803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44680" y="3708360"/>
            <a:ext cx="2697480" cy="2803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16720" y="1724040"/>
            <a:ext cx="20239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5676840" y="539640"/>
            <a:ext cx="3691080" cy="820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3281400" y="588960"/>
            <a:ext cx="2790720" cy="18162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6197760" y="3714840"/>
            <a:ext cx="2700000" cy="15001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3897360" y="3718080"/>
            <a:ext cx="1500120" cy="1546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211800" y="439560"/>
            <a:ext cx="2697120" cy="280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48240" y="4930920"/>
            <a:ext cx="252756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95960" y="1738440"/>
            <a:ext cx="266544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257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36840" y="1724040"/>
            <a:ext cx="27082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31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90760" y="4992840"/>
            <a:ext cx="263232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285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 rot="5400000">
            <a:off x="-2464560" y="2893320"/>
            <a:ext cx="6858000" cy="1071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ff"/>
                </a:solidFill>
                <a:latin typeface="Agency FB"/>
              </a:rPr>
              <a:t>Scoreboa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ff"/>
              </a:solidFill>
              <a:latin typeface="Agency FB"/>
              <a:ea typeface="Agency FB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7"/>
          <a:stretch/>
        </p:blipFill>
        <p:spPr>
          <a:xfrm>
            <a:off x="1679400" y="577836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8"/>
          <a:stretch/>
        </p:blipFill>
        <p:spPr>
          <a:xfrm>
            <a:off x="2052720" y="4808520"/>
            <a:ext cx="111132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1835280" y="1484280"/>
            <a:ext cx="136836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35280" y="1484280"/>
            <a:ext cx="1441440" cy="119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1700280"/>
            <a:ext cx="215640" cy="10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47640" y="1413000"/>
            <a:ext cx="216000" cy="12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51280" y="1484280"/>
            <a:ext cx="136836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51280" y="1484280"/>
            <a:ext cx="1441440" cy="119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64000" y="1844640"/>
            <a:ext cx="14472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64000" y="1413000"/>
            <a:ext cx="216000" cy="11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1484280"/>
            <a:ext cx="136872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67280" y="1484280"/>
            <a:ext cx="1441440" cy="119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80360" y="1628640"/>
            <a:ext cx="1443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651640" y="1413000"/>
            <a:ext cx="144360" cy="10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835280" y="2852640"/>
            <a:ext cx="136836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35280" y="2852640"/>
            <a:ext cx="1441440" cy="119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48000" y="3213000"/>
            <a:ext cx="144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547640" y="2781360"/>
            <a:ext cx="216000" cy="10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51280" y="2852640"/>
            <a:ext cx="136836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51280" y="2852640"/>
            <a:ext cx="1441440" cy="119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64000" y="3213000"/>
            <a:ext cx="14472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64000" y="2781360"/>
            <a:ext cx="216000" cy="12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2852640"/>
            <a:ext cx="136872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2852640"/>
            <a:ext cx="1441440" cy="119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020000" y="3645000"/>
            <a:ext cx="57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651640" y="2781360"/>
            <a:ext cx="144360" cy="12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67280" y="4149720"/>
            <a:ext cx="136872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867280" y="4149720"/>
            <a:ext cx="1441440" cy="119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380360" y="4365720"/>
            <a:ext cx="144360" cy="10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651640" y="4076640"/>
            <a:ext cx="144360" cy="12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51280" y="4221000"/>
            <a:ext cx="136836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51280" y="4221000"/>
            <a:ext cx="1441440" cy="119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64000" y="4365720"/>
            <a:ext cx="144720" cy="10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635280" y="4149720"/>
            <a:ext cx="144720" cy="10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835280" y="4221000"/>
            <a:ext cx="136836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35280" y="4221000"/>
            <a:ext cx="1441440" cy="119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348000" y="4581360"/>
            <a:ext cx="144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547640" y="4149720"/>
            <a:ext cx="216000" cy="10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8258040" y="6114960"/>
            <a:ext cx="885960" cy="743040"/>
          </a:xfrm>
          <a:custGeom>
            <a:avLst/>
            <a:gdLst>
              <a:gd name="textAreaLeft" fmla="*/ 47880 w 885960"/>
              <a:gd name="textAreaRight" fmla="*/ 838080 w 885960"/>
              <a:gd name="textAreaTop" fmla="*/ 47880 h 743040"/>
              <a:gd name="textAreaBottom" fmla="*/ 695160 h 743040"/>
            </a:gdLst>
            <a:ahLst/>
            <a:rect l="textAreaLeft" t="textAreaTop" r="textAreaRight" b="textAreaBottom"/>
            <a:pathLst>
              <a:path w="25753" h="21600">
                <a:moveTo>
                  <a:pt x="0" y="0"/>
                </a:moveTo>
                <a:lnTo>
                  <a:pt x="25753" y="0"/>
                </a:lnTo>
                <a:lnTo>
                  <a:pt x="25753" y="21600"/>
                </a:lnTo>
                <a:lnTo>
                  <a:pt x="0" y="21600"/>
                </a:lnTo>
                <a:close/>
              </a:path>
              <a:path fill="lightenLess" w="25753" h="21600">
                <a:moveTo>
                  <a:pt x="0" y="0"/>
                </a:moveTo>
                <a:lnTo>
                  <a:pt x="25753" y="0"/>
                </a:lnTo>
                <a:lnTo>
                  <a:pt x="24353" y="1400"/>
                </a:lnTo>
                <a:lnTo>
                  <a:pt x="1400" y="1400"/>
                </a:lnTo>
                <a:close/>
              </a:path>
              <a:path fill="darken" w="25753" h="21600">
                <a:moveTo>
                  <a:pt x="25753" y="0"/>
                </a:moveTo>
                <a:lnTo>
                  <a:pt x="25753" y="21600"/>
                </a:lnTo>
                <a:lnTo>
                  <a:pt x="24353" y="20200"/>
                </a:lnTo>
                <a:lnTo>
                  <a:pt x="24353" y="1400"/>
                </a:lnTo>
                <a:close/>
              </a:path>
              <a:path fill="darkenLess" w="25753" h="21600">
                <a:moveTo>
                  <a:pt x="25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53" y="20200"/>
                </a:lnTo>
                <a:close/>
              </a:path>
              <a:path fill="lighten" w="25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53" h="21600">
                <a:moveTo>
                  <a:pt x="5870" y="3794"/>
                </a:moveTo>
                <a:lnTo>
                  <a:pt x="19883" y="10800"/>
                </a:lnTo>
                <a:lnTo>
                  <a:pt x="587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 rot="13640400">
            <a:off x="569160" y="2693160"/>
            <a:ext cx="3851280" cy="36273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2500200" y="6051600"/>
            <a:ext cx="797040" cy="8064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211800" y="3706920"/>
            <a:ext cx="2697120" cy="2803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11800" y="439560"/>
            <a:ext cx="2697120" cy="2803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44680" y="439560"/>
            <a:ext cx="2697480" cy="2803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44680" y="3708360"/>
            <a:ext cx="2697480" cy="2803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516720" y="1724040"/>
            <a:ext cx="20239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676840" y="539640"/>
            <a:ext cx="3691080" cy="8208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3281400" y="588960"/>
            <a:ext cx="2790720" cy="18162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5"/>
          <a:stretch/>
        </p:blipFill>
        <p:spPr>
          <a:xfrm>
            <a:off x="6197760" y="3714840"/>
            <a:ext cx="2700000" cy="15001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3897360" y="3718080"/>
            <a:ext cx="1500120" cy="1546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6211800" y="439560"/>
            <a:ext cx="2697120" cy="280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48240" y="4930920"/>
            <a:ext cx="252756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291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195960" y="1738440"/>
            <a:ext cx="266544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257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36840" y="1724040"/>
            <a:ext cx="27082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33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90760" y="4992840"/>
            <a:ext cx="263232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285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 rot="5400000">
            <a:off x="-2464560" y="2893320"/>
            <a:ext cx="6858000" cy="1071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ff"/>
                </a:solidFill>
                <a:latin typeface="Agency FB"/>
              </a:rPr>
              <a:t>Scoreboar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ff"/>
              </a:solidFill>
              <a:latin typeface="Agency FB"/>
              <a:ea typeface="Agency FB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7"/>
          <a:stretch/>
        </p:blipFill>
        <p:spPr>
          <a:xfrm>
            <a:off x="1679400" y="577836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8"/>
          <a:stretch/>
        </p:blipFill>
        <p:spPr>
          <a:xfrm>
            <a:off x="2052720" y="4808520"/>
            <a:ext cx="111132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7200" y="366840"/>
            <a:ext cx="8229600" cy="61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700" spc="-1" strike="noStrike">
                <a:solidFill>
                  <a:srgbClr val="000000"/>
                </a:solidFill>
                <a:latin typeface="Artistamp Medium"/>
              </a:rPr>
              <a:t>God’s Blessing,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700" spc="-1" strike="noStrike">
                <a:solidFill>
                  <a:srgbClr val="000000"/>
                </a:solidFill>
                <a:latin typeface="Artistamp Medium"/>
              </a:rPr>
              <a:t>Our 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700" spc="-1" strike="noStrike">
                <a:solidFill>
                  <a:srgbClr val="000000"/>
                </a:solidFill>
                <a:latin typeface="Artistamp Medium"/>
              </a:rPr>
              <a:t>Offering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ple Butter"/>
              </a:rPr>
              <a:t>Luke Ch 10 v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pple Butter"/>
              </a:rPr>
              <a:t>Love the Lord your Go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pple Butter"/>
              </a:rPr>
              <a:t>With all your hea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pple Butter"/>
              </a:rPr>
              <a:t>And all your sou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pple Butter"/>
              </a:rPr>
              <a:t>And all your mi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pple Butter"/>
              </a:rPr>
              <a:t>And love all of manki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pple Butter"/>
              </a:rPr>
              <a:t>As you would love yoursel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57200" y="199800"/>
            <a:ext cx="8229600" cy="59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pple Butter"/>
              </a:rPr>
              <a:t>And lo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pple Butter"/>
              </a:rPr>
              <a:t>The Lord your Go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pple Butter"/>
              </a:rPr>
              <a:t>With all your he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pple Butter"/>
              </a:rPr>
              <a:t>And all your sou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pple Butter"/>
              </a:rPr>
              <a:t>And mind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pple Butter"/>
              </a:rPr>
              <a:t>and love all manki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0" y="585720"/>
            <a:ext cx="9144000" cy="55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Apple Butter"/>
              </a:rPr>
              <a:t>We’ve got Christian lives to li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Apple Butter"/>
              </a:rPr>
              <a:t>We’ve got Jesus’ love to gi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Apple Butter"/>
              </a:rPr>
              <a:t>We’ve got nothing to h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Apple Butter"/>
              </a:rPr>
              <a:t>Because in Him we abide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Apple Butter"/>
              </a:rPr>
              <a:t>Lov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9280" indent="0" algn="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pple Butter"/>
              </a:rPr>
              <a:t>What is your arrow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89280" indent="0" algn="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pple Butter"/>
              </a:rPr>
              <a:t>prayer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89280" indent="0" algn="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pple Butter"/>
              </a:rPr>
              <a:t>today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 rot="21008400">
            <a:off x="531360" y="2019240"/>
            <a:ext cx="2865600" cy="44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Forte"/>
              </a:rPr>
              <a:t>THANKS</a:t>
            </a:r>
            <a:br>
              <a:rPr sz="12900"/>
            </a:br>
            <a:r>
              <a:rPr b="0" lang="en-US" sz="12900" spc="-1" strike="noStrike">
                <a:solidFill>
                  <a:srgbClr val="000000"/>
                </a:solidFill>
                <a:latin typeface="Forte"/>
              </a:rPr>
              <a:t>GOD!!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Forte"/>
              </a:rPr>
              <a:t>WOW</a:t>
            </a:r>
            <a:br>
              <a:rPr sz="12900"/>
            </a:br>
            <a:r>
              <a:rPr b="0" lang="en-US" sz="12900" spc="-1" strike="noStrike">
                <a:solidFill>
                  <a:srgbClr val="000000"/>
                </a:solidFill>
                <a:latin typeface="Forte"/>
              </a:rPr>
              <a:t>GOD!!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Forte"/>
              </a:rPr>
              <a:t>Help Me God!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Forte"/>
              </a:rPr>
              <a:t>1 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Forte"/>
              </a:rPr>
              <a:t>LOVE YOU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2900" spc="-1" strike="noStrike">
                <a:solidFill>
                  <a:srgbClr val="000000"/>
                </a:solidFill>
                <a:latin typeface="Forte"/>
              </a:rPr>
              <a:t>GOD!!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842160" cy="68421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250920" y="-2979720"/>
            <a:ext cx="1874880" cy="28814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 flipH="1">
            <a:off x="7308720" y="-2979720"/>
            <a:ext cx="1874880" cy="28814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"/>
          <a:stretch/>
        </p:blipFill>
        <p:spPr>
          <a:xfrm>
            <a:off x="7451640" y="-2744640"/>
            <a:ext cx="1147680" cy="27446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5"/>
          <a:stretch/>
        </p:blipFill>
        <p:spPr>
          <a:xfrm>
            <a:off x="0" y="5214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1" fill="hold"/>
                                        <p:tgtEl>
                                          <p:spTgt spid="3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250920" y="189000"/>
            <a:ext cx="8281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Carnival MF"/>
              </a:rPr>
              <a:t>Happy Birthday to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Carnival MF"/>
              <a:ea typeface="Carnival MF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57200" y="1855800"/>
            <a:ext cx="843120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700" spc="-1" strike="noStrike">
              <a:solidFill>
                <a:srgbClr val="000000"/>
              </a:solidFill>
              <a:latin typeface="Calamity Jane NF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50920" y="189000"/>
            <a:ext cx="8281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Carnival MF"/>
              </a:rPr>
              <a:t>Happy Birthday to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Carnival MF"/>
              <a:ea typeface="Carnival MF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457200" y="1855800"/>
            <a:ext cx="843120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700" spc="-1" strike="noStrike">
              <a:solidFill>
                <a:srgbClr val="000000"/>
              </a:solidFill>
              <a:latin typeface="Calamity Jane NF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 rot="16200000">
            <a:off x="8491320" y="6819480"/>
            <a:ext cx="685800" cy="6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64662E-006 L -0.00018 -1.10083 E">
                                      <p:cBhvr>
                                        <p:cTn id="298" dur="10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4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5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6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07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-1338120" y="3643200"/>
            <a:ext cx="11820240" cy="35402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6400" y="4951440"/>
            <a:ext cx="81946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 Did This!"/>
              </a:rPr>
              <a:t>Team Tim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 Did This!"/>
              <a:ea typeface="I Did This!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156760" y="37440"/>
            <a:ext cx="5343120" cy="4194720"/>
            <a:chOff x="2156760" y="37440"/>
            <a:chExt cx="5343120" cy="4194720"/>
          </a:xfrm>
        </p:grpSpPr>
        <p:grpSp>
          <p:nvGrpSpPr>
            <p:cNvPr id="349" name=""/>
            <p:cNvGrpSpPr/>
            <p:nvPr/>
          </p:nvGrpSpPr>
          <p:grpSpPr>
            <a:xfrm>
              <a:off x="2273400" y="355320"/>
              <a:ext cx="4551120" cy="3150000"/>
              <a:chOff x="2273400" y="355320"/>
              <a:chExt cx="4551120" cy="3150000"/>
            </a:xfrm>
          </p:grpSpPr>
          <p:sp>
            <p:nvSpPr>
              <p:cNvPr id="350" name=""/>
              <p:cNvSpPr/>
              <p:nvPr/>
            </p:nvSpPr>
            <p:spPr>
              <a:xfrm>
                <a:off x="2687760" y="429480"/>
                <a:ext cx="4136760" cy="3075840"/>
              </a:xfrm>
              <a:custGeom>
                <a:avLst/>
                <a:gdLst/>
                <a:ahLst/>
                <a:rect l="l" t="t" r="r" b="b"/>
                <a:pathLst>
                  <a:path w="3434" h="2692">
                    <a:moveTo>
                      <a:pt x="2304" y="480"/>
                    </a:moveTo>
                    <a:lnTo>
                      <a:pt x="2138" y="505"/>
                    </a:lnTo>
                    <a:lnTo>
                      <a:pt x="1911" y="505"/>
                    </a:lnTo>
                    <a:lnTo>
                      <a:pt x="1787" y="501"/>
                    </a:lnTo>
                    <a:lnTo>
                      <a:pt x="1712" y="447"/>
                    </a:lnTo>
                    <a:lnTo>
                      <a:pt x="1676" y="415"/>
                    </a:lnTo>
                    <a:lnTo>
                      <a:pt x="1660" y="359"/>
                    </a:lnTo>
                    <a:lnTo>
                      <a:pt x="1667" y="244"/>
                    </a:lnTo>
                    <a:lnTo>
                      <a:pt x="1673" y="135"/>
                    </a:lnTo>
                    <a:lnTo>
                      <a:pt x="1636" y="58"/>
                    </a:lnTo>
                    <a:lnTo>
                      <a:pt x="1564" y="0"/>
                    </a:lnTo>
                    <a:lnTo>
                      <a:pt x="1467" y="0"/>
                    </a:lnTo>
                    <a:lnTo>
                      <a:pt x="1364" y="39"/>
                    </a:lnTo>
                    <a:lnTo>
                      <a:pt x="1223" y="124"/>
                    </a:lnTo>
                    <a:lnTo>
                      <a:pt x="1099" y="239"/>
                    </a:lnTo>
                    <a:lnTo>
                      <a:pt x="1035" y="356"/>
                    </a:lnTo>
                    <a:lnTo>
                      <a:pt x="1026" y="471"/>
                    </a:lnTo>
                    <a:lnTo>
                      <a:pt x="1047" y="595"/>
                    </a:lnTo>
                    <a:lnTo>
                      <a:pt x="1043" y="646"/>
                    </a:lnTo>
                    <a:lnTo>
                      <a:pt x="1022" y="676"/>
                    </a:lnTo>
                    <a:lnTo>
                      <a:pt x="971" y="706"/>
                    </a:lnTo>
                    <a:lnTo>
                      <a:pt x="886" y="710"/>
                    </a:lnTo>
                    <a:lnTo>
                      <a:pt x="753" y="698"/>
                    </a:lnTo>
                    <a:lnTo>
                      <a:pt x="551" y="625"/>
                    </a:lnTo>
                    <a:lnTo>
                      <a:pt x="479" y="620"/>
                    </a:lnTo>
                    <a:lnTo>
                      <a:pt x="415" y="659"/>
                    </a:lnTo>
                    <a:lnTo>
                      <a:pt x="372" y="736"/>
                    </a:lnTo>
                    <a:lnTo>
                      <a:pt x="377" y="834"/>
                    </a:lnTo>
                    <a:lnTo>
                      <a:pt x="424" y="924"/>
                    </a:lnTo>
                    <a:lnTo>
                      <a:pt x="544" y="997"/>
                    </a:lnTo>
                    <a:lnTo>
                      <a:pt x="668" y="1074"/>
                    </a:lnTo>
                    <a:lnTo>
                      <a:pt x="695" y="1132"/>
                    </a:lnTo>
                    <a:lnTo>
                      <a:pt x="689" y="1193"/>
                    </a:lnTo>
                    <a:lnTo>
                      <a:pt x="647" y="1237"/>
                    </a:lnTo>
                    <a:lnTo>
                      <a:pt x="586" y="1258"/>
                    </a:lnTo>
                    <a:lnTo>
                      <a:pt x="457" y="1246"/>
                    </a:lnTo>
                    <a:lnTo>
                      <a:pt x="317" y="1207"/>
                    </a:lnTo>
                    <a:lnTo>
                      <a:pt x="202" y="1207"/>
                    </a:lnTo>
                    <a:lnTo>
                      <a:pt x="99" y="1250"/>
                    </a:lnTo>
                    <a:lnTo>
                      <a:pt x="13" y="1370"/>
                    </a:lnTo>
                    <a:lnTo>
                      <a:pt x="0" y="1455"/>
                    </a:lnTo>
                    <a:lnTo>
                      <a:pt x="27" y="1506"/>
                    </a:lnTo>
                    <a:lnTo>
                      <a:pt x="112" y="1553"/>
                    </a:lnTo>
                    <a:lnTo>
                      <a:pt x="248" y="1591"/>
                    </a:lnTo>
                    <a:lnTo>
                      <a:pt x="457" y="1627"/>
                    </a:lnTo>
                    <a:lnTo>
                      <a:pt x="629" y="1673"/>
                    </a:lnTo>
                    <a:lnTo>
                      <a:pt x="732" y="1707"/>
                    </a:lnTo>
                    <a:lnTo>
                      <a:pt x="758" y="1757"/>
                    </a:lnTo>
                    <a:lnTo>
                      <a:pt x="753" y="1802"/>
                    </a:lnTo>
                    <a:lnTo>
                      <a:pt x="663" y="1844"/>
                    </a:lnTo>
                    <a:lnTo>
                      <a:pt x="479" y="1943"/>
                    </a:lnTo>
                    <a:lnTo>
                      <a:pt x="369" y="2016"/>
                    </a:lnTo>
                    <a:lnTo>
                      <a:pt x="317" y="2088"/>
                    </a:lnTo>
                    <a:lnTo>
                      <a:pt x="296" y="2152"/>
                    </a:lnTo>
                    <a:lnTo>
                      <a:pt x="282" y="2234"/>
                    </a:lnTo>
                    <a:lnTo>
                      <a:pt x="291" y="2298"/>
                    </a:lnTo>
                    <a:lnTo>
                      <a:pt x="330" y="2379"/>
                    </a:lnTo>
                    <a:lnTo>
                      <a:pt x="411" y="2479"/>
                    </a:lnTo>
                    <a:lnTo>
                      <a:pt x="487" y="2508"/>
                    </a:lnTo>
                    <a:lnTo>
                      <a:pt x="569" y="2512"/>
                    </a:lnTo>
                    <a:lnTo>
                      <a:pt x="675" y="2503"/>
                    </a:lnTo>
                    <a:lnTo>
                      <a:pt x="783" y="2460"/>
                    </a:lnTo>
                    <a:lnTo>
                      <a:pt x="864" y="2384"/>
                    </a:lnTo>
                    <a:lnTo>
                      <a:pt x="919" y="2285"/>
                    </a:lnTo>
                    <a:lnTo>
                      <a:pt x="958" y="2182"/>
                    </a:lnTo>
                    <a:lnTo>
                      <a:pt x="992" y="2119"/>
                    </a:lnTo>
                    <a:lnTo>
                      <a:pt x="1043" y="2080"/>
                    </a:lnTo>
                    <a:lnTo>
                      <a:pt x="1107" y="2075"/>
                    </a:lnTo>
                    <a:lnTo>
                      <a:pt x="1164" y="2114"/>
                    </a:lnTo>
                    <a:lnTo>
                      <a:pt x="1195" y="2201"/>
                    </a:lnTo>
                    <a:lnTo>
                      <a:pt x="1233" y="2361"/>
                    </a:lnTo>
                    <a:lnTo>
                      <a:pt x="1228" y="2485"/>
                    </a:lnTo>
                    <a:lnTo>
                      <a:pt x="1245" y="2550"/>
                    </a:lnTo>
                    <a:lnTo>
                      <a:pt x="1291" y="2576"/>
                    </a:lnTo>
                    <a:lnTo>
                      <a:pt x="1394" y="2568"/>
                    </a:lnTo>
                    <a:lnTo>
                      <a:pt x="1501" y="2490"/>
                    </a:lnTo>
                    <a:lnTo>
                      <a:pt x="1612" y="2375"/>
                    </a:lnTo>
                    <a:lnTo>
                      <a:pt x="1715" y="2230"/>
                    </a:lnTo>
                    <a:lnTo>
                      <a:pt x="1796" y="2161"/>
                    </a:lnTo>
                    <a:lnTo>
                      <a:pt x="1842" y="2140"/>
                    </a:lnTo>
                    <a:lnTo>
                      <a:pt x="1911" y="2152"/>
                    </a:lnTo>
                    <a:lnTo>
                      <a:pt x="1993" y="2216"/>
                    </a:lnTo>
                    <a:lnTo>
                      <a:pt x="2067" y="2308"/>
                    </a:lnTo>
                    <a:lnTo>
                      <a:pt x="2223" y="2480"/>
                    </a:lnTo>
                    <a:lnTo>
                      <a:pt x="2347" y="2611"/>
                    </a:lnTo>
                    <a:lnTo>
                      <a:pt x="2425" y="2653"/>
                    </a:lnTo>
                    <a:lnTo>
                      <a:pt x="2544" y="2692"/>
                    </a:lnTo>
                    <a:lnTo>
                      <a:pt x="2625" y="2687"/>
                    </a:lnTo>
                    <a:lnTo>
                      <a:pt x="2685" y="2657"/>
                    </a:lnTo>
                    <a:lnTo>
                      <a:pt x="2736" y="2606"/>
                    </a:lnTo>
                    <a:lnTo>
                      <a:pt x="2762" y="2529"/>
                    </a:lnTo>
                    <a:lnTo>
                      <a:pt x="2770" y="2457"/>
                    </a:lnTo>
                    <a:lnTo>
                      <a:pt x="2723" y="2365"/>
                    </a:lnTo>
                    <a:lnTo>
                      <a:pt x="2625" y="2246"/>
                    </a:lnTo>
                    <a:lnTo>
                      <a:pt x="2441" y="2131"/>
                    </a:lnTo>
                    <a:lnTo>
                      <a:pt x="2428" y="2092"/>
                    </a:lnTo>
                    <a:lnTo>
                      <a:pt x="2462" y="2067"/>
                    </a:lnTo>
                    <a:lnTo>
                      <a:pt x="2556" y="2058"/>
                    </a:lnTo>
                    <a:lnTo>
                      <a:pt x="2762" y="2075"/>
                    </a:lnTo>
                    <a:lnTo>
                      <a:pt x="3108" y="2122"/>
                    </a:lnTo>
                    <a:lnTo>
                      <a:pt x="3257" y="2144"/>
                    </a:lnTo>
                    <a:lnTo>
                      <a:pt x="3360" y="2144"/>
                    </a:lnTo>
                    <a:lnTo>
                      <a:pt x="3420" y="2114"/>
                    </a:lnTo>
                    <a:lnTo>
                      <a:pt x="3434" y="2043"/>
                    </a:lnTo>
                    <a:lnTo>
                      <a:pt x="3390" y="1965"/>
                    </a:lnTo>
                    <a:lnTo>
                      <a:pt x="3275" y="1869"/>
                    </a:lnTo>
                    <a:lnTo>
                      <a:pt x="3160" y="1811"/>
                    </a:lnTo>
                    <a:lnTo>
                      <a:pt x="3006" y="1759"/>
                    </a:lnTo>
                    <a:lnTo>
                      <a:pt x="2800" y="1699"/>
                    </a:lnTo>
                    <a:lnTo>
                      <a:pt x="2699" y="1632"/>
                    </a:lnTo>
                    <a:lnTo>
                      <a:pt x="2673" y="1575"/>
                    </a:lnTo>
                    <a:lnTo>
                      <a:pt x="2694" y="1503"/>
                    </a:lnTo>
                    <a:lnTo>
                      <a:pt x="2774" y="1437"/>
                    </a:lnTo>
                    <a:lnTo>
                      <a:pt x="3006" y="1356"/>
                    </a:lnTo>
                    <a:lnTo>
                      <a:pt x="3133" y="1322"/>
                    </a:lnTo>
                    <a:lnTo>
                      <a:pt x="3212" y="1301"/>
                    </a:lnTo>
                    <a:lnTo>
                      <a:pt x="3270" y="1271"/>
                    </a:lnTo>
                    <a:lnTo>
                      <a:pt x="3290" y="1220"/>
                    </a:lnTo>
                    <a:lnTo>
                      <a:pt x="3262" y="1160"/>
                    </a:lnTo>
                    <a:lnTo>
                      <a:pt x="3209" y="1126"/>
                    </a:lnTo>
                    <a:lnTo>
                      <a:pt x="3103" y="1099"/>
                    </a:lnTo>
                    <a:lnTo>
                      <a:pt x="3009" y="1096"/>
                    </a:lnTo>
                    <a:lnTo>
                      <a:pt x="2912" y="1113"/>
                    </a:lnTo>
                    <a:lnTo>
                      <a:pt x="2689" y="1160"/>
                    </a:lnTo>
                    <a:lnTo>
                      <a:pt x="2540" y="1177"/>
                    </a:lnTo>
                    <a:lnTo>
                      <a:pt x="2438" y="1177"/>
                    </a:lnTo>
                    <a:lnTo>
                      <a:pt x="2407" y="1129"/>
                    </a:lnTo>
                    <a:lnTo>
                      <a:pt x="2407" y="1057"/>
                    </a:lnTo>
                    <a:lnTo>
                      <a:pt x="2453" y="984"/>
                    </a:lnTo>
                    <a:lnTo>
                      <a:pt x="2531" y="929"/>
                    </a:lnTo>
                    <a:lnTo>
                      <a:pt x="2643" y="860"/>
                    </a:lnTo>
                    <a:lnTo>
                      <a:pt x="2441" y="885"/>
                    </a:lnTo>
                    <a:lnTo>
                      <a:pt x="2299" y="863"/>
                    </a:lnTo>
                    <a:lnTo>
                      <a:pt x="2214" y="816"/>
                    </a:lnTo>
                    <a:lnTo>
                      <a:pt x="2168" y="779"/>
                    </a:lnTo>
                    <a:lnTo>
                      <a:pt x="2168" y="698"/>
                    </a:lnTo>
                    <a:lnTo>
                      <a:pt x="2223" y="569"/>
                    </a:lnTo>
                    <a:lnTo>
                      <a:pt x="2271" y="513"/>
                    </a:lnTo>
                    <a:lnTo>
                      <a:pt x="2304" y="480"/>
                    </a:lnTo>
                    <a:lnTo>
                      <a:pt x="2304" y="48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021360" y="1143720"/>
                <a:ext cx="637200" cy="268560"/>
              </a:xfrm>
              <a:custGeom>
                <a:avLst/>
                <a:gdLst/>
                <a:ahLst/>
                <a:rect l="l" t="t" r="r" b="b"/>
                <a:pathLst>
                  <a:path w="529" h="235">
                    <a:moveTo>
                      <a:pt x="0" y="196"/>
                    </a:moveTo>
                    <a:lnTo>
                      <a:pt x="179" y="73"/>
                    </a:lnTo>
                    <a:lnTo>
                      <a:pt x="303" y="12"/>
                    </a:lnTo>
                    <a:lnTo>
                      <a:pt x="414" y="0"/>
                    </a:lnTo>
                    <a:lnTo>
                      <a:pt x="499" y="25"/>
                    </a:lnTo>
                    <a:lnTo>
                      <a:pt x="529" y="73"/>
                    </a:lnTo>
                    <a:lnTo>
                      <a:pt x="525" y="128"/>
                    </a:lnTo>
                    <a:lnTo>
                      <a:pt x="469" y="171"/>
                    </a:lnTo>
                    <a:lnTo>
                      <a:pt x="345" y="218"/>
                    </a:lnTo>
                    <a:lnTo>
                      <a:pt x="234" y="235"/>
                    </a:lnTo>
                    <a:lnTo>
                      <a:pt x="88" y="209"/>
                    </a:lnTo>
                    <a:lnTo>
                      <a:pt x="0" y="196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319120" y="2360880"/>
                <a:ext cx="663840" cy="649800"/>
              </a:xfrm>
              <a:custGeom>
                <a:avLst/>
                <a:gdLst/>
                <a:ahLst/>
                <a:rect l="l" t="t" r="r" b="b"/>
                <a:pathLst>
                  <a:path w="551" h="569">
                    <a:moveTo>
                      <a:pt x="46" y="25"/>
                    </a:moveTo>
                    <a:lnTo>
                      <a:pt x="131" y="0"/>
                    </a:lnTo>
                    <a:lnTo>
                      <a:pt x="237" y="13"/>
                    </a:lnTo>
                    <a:lnTo>
                      <a:pt x="419" y="57"/>
                    </a:lnTo>
                    <a:lnTo>
                      <a:pt x="483" y="103"/>
                    </a:lnTo>
                    <a:lnTo>
                      <a:pt x="551" y="223"/>
                    </a:lnTo>
                    <a:lnTo>
                      <a:pt x="542" y="333"/>
                    </a:lnTo>
                    <a:lnTo>
                      <a:pt x="457" y="480"/>
                    </a:lnTo>
                    <a:lnTo>
                      <a:pt x="375" y="547"/>
                    </a:lnTo>
                    <a:lnTo>
                      <a:pt x="294" y="569"/>
                    </a:lnTo>
                    <a:lnTo>
                      <a:pt x="234" y="531"/>
                    </a:lnTo>
                    <a:lnTo>
                      <a:pt x="212" y="467"/>
                    </a:lnTo>
                    <a:lnTo>
                      <a:pt x="251" y="377"/>
                    </a:lnTo>
                    <a:lnTo>
                      <a:pt x="310" y="275"/>
                    </a:lnTo>
                    <a:lnTo>
                      <a:pt x="209" y="283"/>
                    </a:lnTo>
                    <a:lnTo>
                      <a:pt x="87" y="287"/>
                    </a:lnTo>
                    <a:lnTo>
                      <a:pt x="22" y="242"/>
                    </a:lnTo>
                    <a:lnTo>
                      <a:pt x="0" y="184"/>
                    </a:lnTo>
                    <a:lnTo>
                      <a:pt x="3" y="69"/>
                    </a:lnTo>
                    <a:lnTo>
                      <a:pt x="46" y="25"/>
                    </a:lnTo>
                    <a:lnTo>
                      <a:pt x="46" y="25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653920" y="355320"/>
                <a:ext cx="4135320" cy="3075480"/>
              </a:xfrm>
              <a:custGeom>
                <a:avLst/>
                <a:gdLst/>
                <a:ahLst/>
                <a:rect l="l" t="t" r="r" b="b"/>
                <a:pathLst>
                  <a:path w="3433" h="2692">
                    <a:moveTo>
                      <a:pt x="2304" y="480"/>
                    </a:moveTo>
                    <a:lnTo>
                      <a:pt x="2137" y="506"/>
                    </a:lnTo>
                    <a:lnTo>
                      <a:pt x="1910" y="506"/>
                    </a:lnTo>
                    <a:lnTo>
                      <a:pt x="1786" y="501"/>
                    </a:lnTo>
                    <a:lnTo>
                      <a:pt x="1711" y="448"/>
                    </a:lnTo>
                    <a:lnTo>
                      <a:pt x="1675" y="416"/>
                    </a:lnTo>
                    <a:lnTo>
                      <a:pt x="1658" y="359"/>
                    </a:lnTo>
                    <a:lnTo>
                      <a:pt x="1666" y="244"/>
                    </a:lnTo>
                    <a:lnTo>
                      <a:pt x="1673" y="135"/>
                    </a:lnTo>
                    <a:lnTo>
                      <a:pt x="1635" y="58"/>
                    </a:lnTo>
                    <a:lnTo>
                      <a:pt x="1564" y="0"/>
                    </a:lnTo>
                    <a:lnTo>
                      <a:pt x="1466" y="0"/>
                    </a:lnTo>
                    <a:lnTo>
                      <a:pt x="1363" y="39"/>
                    </a:lnTo>
                    <a:lnTo>
                      <a:pt x="1222" y="124"/>
                    </a:lnTo>
                    <a:lnTo>
                      <a:pt x="1098" y="240"/>
                    </a:lnTo>
                    <a:lnTo>
                      <a:pt x="1034" y="356"/>
                    </a:lnTo>
                    <a:lnTo>
                      <a:pt x="1025" y="471"/>
                    </a:lnTo>
                    <a:lnTo>
                      <a:pt x="1046" y="595"/>
                    </a:lnTo>
                    <a:lnTo>
                      <a:pt x="1043" y="646"/>
                    </a:lnTo>
                    <a:lnTo>
                      <a:pt x="1021" y="676"/>
                    </a:lnTo>
                    <a:lnTo>
                      <a:pt x="970" y="706"/>
                    </a:lnTo>
                    <a:lnTo>
                      <a:pt x="885" y="711"/>
                    </a:lnTo>
                    <a:lnTo>
                      <a:pt x="752" y="697"/>
                    </a:lnTo>
                    <a:lnTo>
                      <a:pt x="551" y="625"/>
                    </a:lnTo>
                    <a:lnTo>
                      <a:pt x="478" y="621"/>
                    </a:lnTo>
                    <a:lnTo>
                      <a:pt x="414" y="660"/>
                    </a:lnTo>
                    <a:lnTo>
                      <a:pt x="371" y="736"/>
                    </a:lnTo>
                    <a:lnTo>
                      <a:pt x="375" y="835"/>
                    </a:lnTo>
                    <a:lnTo>
                      <a:pt x="423" y="925"/>
                    </a:lnTo>
                    <a:lnTo>
                      <a:pt x="542" y="998"/>
                    </a:lnTo>
                    <a:lnTo>
                      <a:pt x="667" y="1074"/>
                    </a:lnTo>
                    <a:lnTo>
                      <a:pt x="695" y="1133"/>
                    </a:lnTo>
                    <a:lnTo>
                      <a:pt x="687" y="1194"/>
                    </a:lnTo>
                    <a:lnTo>
                      <a:pt x="644" y="1237"/>
                    </a:lnTo>
                    <a:lnTo>
                      <a:pt x="586" y="1258"/>
                    </a:lnTo>
                    <a:lnTo>
                      <a:pt x="457" y="1246"/>
                    </a:lnTo>
                    <a:lnTo>
                      <a:pt x="316" y="1207"/>
                    </a:lnTo>
                    <a:lnTo>
                      <a:pt x="200" y="1207"/>
                    </a:lnTo>
                    <a:lnTo>
                      <a:pt x="97" y="1250"/>
                    </a:lnTo>
                    <a:lnTo>
                      <a:pt x="12" y="1370"/>
                    </a:lnTo>
                    <a:lnTo>
                      <a:pt x="0" y="1455"/>
                    </a:lnTo>
                    <a:lnTo>
                      <a:pt x="25" y="1506"/>
                    </a:lnTo>
                    <a:lnTo>
                      <a:pt x="111" y="1554"/>
                    </a:lnTo>
                    <a:lnTo>
                      <a:pt x="248" y="1593"/>
                    </a:lnTo>
                    <a:lnTo>
                      <a:pt x="457" y="1626"/>
                    </a:lnTo>
                    <a:lnTo>
                      <a:pt x="628" y="1674"/>
                    </a:lnTo>
                    <a:lnTo>
                      <a:pt x="731" y="1708"/>
                    </a:lnTo>
                    <a:lnTo>
                      <a:pt x="756" y="1758"/>
                    </a:lnTo>
                    <a:lnTo>
                      <a:pt x="752" y="1802"/>
                    </a:lnTo>
                    <a:lnTo>
                      <a:pt x="662" y="1844"/>
                    </a:lnTo>
                    <a:lnTo>
                      <a:pt x="478" y="1943"/>
                    </a:lnTo>
                    <a:lnTo>
                      <a:pt x="368" y="2016"/>
                    </a:lnTo>
                    <a:lnTo>
                      <a:pt x="316" y="2088"/>
                    </a:lnTo>
                    <a:lnTo>
                      <a:pt x="294" y="2152"/>
                    </a:lnTo>
                    <a:lnTo>
                      <a:pt x="281" y="2234"/>
                    </a:lnTo>
                    <a:lnTo>
                      <a:pt x="290" y="2299"/>
                    </a:lnTo>
                    <a:lnTo>
                      <a:pt x="329" y="2380"/>
                    </a:lnTo>
                    <a:lnTo>
                      <a:pt x="412" y="2480"/>
                    </a:lnTo>
                    <a:lnTo>
                      <a:pt x="487" y="2508"/>
                    </a:lnTo>
                    <a:lnTo>
                      <a:pt x="568" y="2512"/>
                    </a:lnTo>
                    <a:lnTo>
                      <a:pt x="675" y="2504"/>
                    </a:lnTo>
                    <a:lnTo>
                      <a:pt x="782" y="2460"/>
                    </a:lnTo>
                    <a:lnTo>
                      <a:pt x="862" y="2384"/>
                    </a:lnTo>
                    <a:lnTo>
                      <a:pt x="919" y="2285"/>
                    </a:lnTo>
                    <a:lnTo>
                      <a:pt x="958" y="2182"/>
                    </a:lnTo>
                    <a:lnTo>
                      <a:pt x="991" y="2118"/>
                    </a:lnTo>
                    <a:lnTo>
                      <a:pt x="1043" y="2080"/>
                    </a:lnTo>
                    <a:lnTo>
                      <a:pt x="1107" y="2076"/>
                    </a:lnTo>
                    <a:lnTo>
                      <a:pt x="1162" y="2115"/>
                    </a:lnTo>
                    <a:lnTo>
                      <a:pt x="1194" y="2201"/>
                    </a:lnTo>
                    <a:lnTo>
                      <a:pt x="1232" y="2363"/>
                    </a:lnTo>
                    <a:lnTo>
                      <a:pt x="1227" y="2487"/>
                    </a:lnTo>
                    <a:lnTo>
                      <a:pt x="1243" y="2550"/>
                    </a:lnTo>
                    <a:lnTo>
                      <a:pt x="1291" y="2577"/>
                    </a:lnTo>
                    <a:lnTo>
                      <a:pt x="1393" y="2568"/>
                    </a:lnTo>
                    <a:lnTo>
                      <a:pt x="1500" y="2492"/>
                    </a:lnTo>
                    <a:lnTo>
                      <a:pt x="1611" y="2375"/>
                    </a:lnTo>
                    <a:lnTo>
                      <a:pt x="1714" y="2230"/>
                    </a:lnTo>
                    <a:lnTo>
                      <a:pt x="1795" y="2161"/>
                    </a:lnTo>
                    <a:lnTo>
                      <a:pt x="1842" y="2140"/>
                    </a:lnTo>
                    <a:lnTo>
                      <a:pt x="1910" y="2152"/>
                    </a:lnTo>
                    <a:lnTo>
                      <a:pt x="1992" y="2217"/>
                    </a:lnTo>
                    <a:lnTo>
                      <a:pt x="2066" y="2307"/>
                    </a:lnTo>
                    <a:lnTo>
                      <a:pt x="2221" y="2482"/>
                    </a:lnTo>
                    <a:lnTo>
                      <a:pt x="2346" y="2612"/>
                    </a:lnTo>
                    <a:lnTo>
                      <a:pt x="2423" y="2653"/>
                    </a:lnTo>
                    <a:lnTo>
                      <a:pt x="2543" y="2692"/>
                    </a:lnTo>
                    <a:lnTo>
                      <a:pt x="2624" y="2688"/>
                    </a:lnTo>
                    <a:lnTo>
                      <a:pt x="2684" y="2658"/>
                    </a:lnTo>
                    <a:lnTo>
                      <a:pt x="2736" y="2607"/>
                    </a:lnTo>
                    <a:lnTo>
                      <a:pt x="2761" y="2529"/>
                    </a:lnTo>
                    <a:lnTo>
                      <a:pt x="2769" y="2456"/>
                    </a:lnTo>
                    <a:lnTo>
                      <a:pt x="2722" y="2366"/>
                    </a:lnTo>
                    <a:lnTo>
                      <a:pt x="2624" y="2247"/>
                    </a:lnTo>
                    <a:lnTo>
                      <a:pt x="2440" y="2131"/>
                    </a:lnTo>
                    <a:lnTo>
                      <a:pt x="2428" y="2093"/>
                    </a:lnTo>
                    <a:lnTo>
                      <a:pt x="2461" y="2067"/>
                    </a:lnTo>
                    <a:lnTo>
                      <a:pt x="2555" y="2058"/>
                    </a:lnTo>
                    <a:lnTo>
                      <a:pt x="2761" y="2076"/>
                    </a:lnTo>
                    <a:lnTo>
                      <a:pt x="3108" y="2122"/>
                    </a:lnTo>
                    <a:lnTo>
                      <a:pt x="3257" y="2145"/>
                    </a:lnTo>
                    <a:lnTo>
                      <a:pt x="3359" y="2145"/>
                    </a:lnTo>
                    <a:lnTo>
                      <a:pt x="3419" y="2115"/>
                    </a:lnTo>
                    <a:lnTo>
                      <a:pt x="3433" y="2043"/>
                    </a:lnTo>
                    <a:lnTo>
                      <a:pt x="3389" y="1964"/>
                    </a:lnTo>
                    <a:lnTo>
                      <a:pt x="3274" y="1871"/>
                    </a:lnTo>
                    <a:lnTo>
                      <a:pt x="3159" y="1810"/>
                    </a:lnTo>
                    <a:lnTo>
                      <a:pt x="3005" y="1759"/>
                    </a:lnTo>
                    <a:lnTo>
                      <a:pt x="2800" y="1699"/>
                    </a:lnTo>
                    <a:lnTo>
                      <a:pt x="2698" y="1633"/>
                    </a:lnTo>
                    <a:lnTo>
                      <a:pt x="2671" y="1575"/>
                    </a:lnTo>
                    <a:lnTo>
                      <a:pt x="2692" y="1502"/>
                    </a:lnTo>
                    <a:lnTo>
                      <a:pt x="2773" y="1439"/>
                    </a:lnTo>
                    <a:lnTo>
                      <a:pt x="3005" y="1357"/>
                    </a:lnTo>
                    <a:lnTo>
                      <a:pt x="3133" y="1322"/>
                    </a:lnTo>
                    <a:lnTo>
                      <a:pt x="3212" y="1301"/>
                    </a:lnTo>
                    <a:lnTo>
                      <a:pt x="3269" y="1271"/>
                    </a:lnTo>
                    <a:lnTo>
                      <a:pt x="3289" y="1221"/>
                    </a:lnTo>
                    <a:lnTo>
                      <a:pt x="3260" y="1161"/>
                    </a:lnTo>
                    <a:lnTo>
                      <a:pt x="3208" y="1126"/>
                    </a:lnTo>
                    <a:lnTo>
                      <a:pt x="3103" y="1101"/>
                    </a:lnTo>
                    <a:lnTo>
                      <a:pt x="3009" y="1096"/>
                    </a:lnTo>
                    <a:lnTo>
                      <a:pt x="2911" y="1113"/>
                    </a:lnTo>
                    <a:lnTo>
                      <a:pt x="2688" y="1161"/>
                    </a:lnTo>
                    <a:lnTo>
                      <a:pt x="2539" y="1177"/>
                    </a:lnTo>
                    <a:lnTo>
                      <a:pt x="2438" y="1177"/>
                    </a:lnTo>
                    <a:lnTo>
                      <a:pt x="2406" y="1131"/>
                    </a:lnTo>
                    <a:lnTo>
                      <a:pt x="2406" y="1057"/>
                    </a:lnTo>
                    <a:lnTo>
                      <a:pt x="2453" y="984"/>
                    </a:lnTo>
                    <a:lnTo>
                      <a:pt x="2530" y="929"/>
                    </a:lnTo>
                    <a:lnTo>
                      <a:pt x="2640" y="860"/>
                    </a:lnTo>
                    <a:lnTo>
                      <a:pt x="2440" y="886"/>
                    </a:lnTo>
                    <a:lnTo>
                      <a:pt x="2299" y="864"/>
                    </a:lnTo>
                    <a:lnTo>
                      <a:pt x="2213" y="816"/>
                    </a:lnTo>
                    <a:lnTo>
                      <a:pt x="2167" y="779"/>
                    </a:lnTo>
                    <a:lnTo>
                      <a:pt x="2167" y="697"/>
                    </a:lnTo>
                    <a:lnTo>
                      <a:pt x="2222" y="570"/>
                    </a:lnTo>
                    <a:lnTo>
                      <a:pt x="2269" y="513"/>
                    </a:lnTo>
                    <a:lnTo>
                      <a:pt x="2304" y="480"/>
                    </a:lnTo>
                    <a:lnTo>
                      <a:pt x="2304" y="48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86080" y="1069560"/>
                <a:ext cx="637200" cy="268200"/>
              </a:xfrm>
              <a:custGeom>
                <a:avLst/>
                <a:gdLst/>
                <a:ahLst/>
                <a:rect l="l" t="t" r="r" b="b"/>
                <a:pathLst>
                  <a:path w="529" h="235">
                    <a:moveTo>
                      <a:pt x="0" y="198"/>
                    </a:moveTo>
                    <a:lnTo>
                      <a:pt x="179" y="72"/>
                    </a:lnTo>
                    <a:lnTo>
                      <a:pt x="303" y="14"/>
                    </a:lnTo>
                    <a:lnTo>
                      <a:pt x="414" y="0"/>
                    </a:lnTo>
                    <a:lnTo>
                      <a:pt x="499" y="26"/>
                    </a:lnTo>
                    <a:lnTo>
                      <a:pt x="529" y="72"/>
                    </a:lnTo>
                    <a:lnTo>
                      <a:pt x="524" y="129"/>
                    </a:lnTo>
                    <a:lnTo>
                      <a:pt x="469" y="171"/>
                    </a:lnTo>
                    <a:lnTo>
                      <a:pt x="345" y="219"/>
                    </a:lnTo>
                    <a:lnTo>
                      <a:pt x="234" y="235"/>
                    </a:lnTo>
                    <a:lnTo>
                      <a:pt x="89" y="210"/>
                    </a:lnTo>
                    <a:lnTo>
                      <a:pt x="0" y="198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273400" y="2286360"/>
                <a:ext cx="663840" cy="650880"/>
              </a:xfrm>
              <a:custGeom>
                <a:avLst/>
                <a:gdLst/>
                <a:ahLst/>
                <a:rect l="l" t="t" r="r" b="b"/>
                <a:pathLst>
                  <a:path w="551" h="570">
                    <a:moveTo>
                      <a:pt x="55" y="27"/>
                    </a:moveTo>
                    <a:lnTo>
                      <a:pt x="140" y="0"/>
                    </a:lnTo>
                    <a:lnTo>
                      <a:pt x="247" y="14"/>
                    </a:lnTo>
                    <a:lnTo>
                      <a:pt x="392" y="57"/>
                    </a:lnTo>
                    <a:lnTo>
                      <a:pt x="503" y="140"/>
                    </a:lnTo>
                    <a:lnTo>
                      <a:pt x="543" y="236"/>
                    </a:lnTo>
                    <a:lnTo>
                      <a:pt x="551" y="335"/>
                    </a:lnTo>
                    <a:lnTo>
                      <a:pt x="465" y="480"/>
                    </a:lnTo>
                    <a:lnTo>
                      <a:pt x="384" y="549"/>
                    </a:lnTo>
                    <a:lnTo>
                      <a:pt x="303" y="570"/>
                    </a:lnTo>
                    <a:lnTo>
                      <a:pt x="243" y="531"/>
                    </a:lnTo>
                    <a:lnTo>
                      <a:pt x="222" y="467"/>
                    </a:lnTo>
                    <a:lnTo>
                      <a:pt x="260" y="377"/>
                    </a:lnTo>
                    <a:lnTo>
                      <a:pt x="319" y="274"/>
                    </a:lnTo>
                    <a:lnTo>
                      <a:pt x="217" y="283"/>
                    </a:lnTo>
                    <a:lnTo>
                      <a:pt x="111" y="289"/>
                    </a:lnTo>
                    <a:lnTo>
                      <a:pt x="33" y="248"/>
                    </a:lnTo>
                    <a:lnTo>
                      <a:pt x="0" y="142"/>
                    </a:lnTo>
                    <a:lnTo>
                      <a:pt x="13" y="69"/>
                    </a:lnTo>
                    <a:lnTo>
                      <a:pt x="55" y="27"/>
                    </a:lnTo>
                    <a:lnTo>
                      <a:pt x="55" y="27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654800" y="899280"/>
                <a:ext cx="620280" cy="154080"/>
              </a:xfrm>
              <a:custGeom>
                <a:avLst/>
                <a:gdLst/>
                <a:ahLst/>
                <a:rect l="l" t="t" r="r" b="b"/>
                <a:pathLst>
                  <a:path w="515" h="135">
                    <a:moveTo>
                      <a:pt x="0" y="0"/>
                    </a:moveTo>
                    <a:lnTo>
                      <a:pt x="89" y="40"/>
                    </a:lnTo>
                    <a:lnTo>
                      <a:pt x="204" y="61"/>
                    </a:lnTo>
                    <a:lnTo>
                      <a:pt x="305" y="66"/>
                    </a:lnTo>
                    <a:lnTo>
                      <a:pt x="416" y="61"/>
                    </a:lnTo>
                    <a:lnTo>
                      <a:pt x="515" y="52"/>
                    </a:lnTo>
                    <a:lnTo>
                      <a:pt x="405" y="97"/>
                    </a:lnTo>
                    <a:lnTo>
                      <a:pt x="290" y="130"/>
                    </a:lnTo>
                    <a:lnTo>
                      <a:pt x="189" y="135"/>
                    </a:lnTo>
                    <a:lnTo>
                      <a:pt x="112" y="120"/>
                    </a:lnTo>
                    <a:lnTo>
                      <a:pt x="45" y="76"/>
                    </a:lnTo>
                    <a:lnTo>
                      <a:pt x="2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952800" y="428400"/>
                <a:ext cx="466920" cy="685440"/>
              </a:xfrm>
              <a:custGeom>
                <a:avLst/>
                <a:gdLst/>
                <a:ahLst/>
                <a:rect l="l" t="t" r="r" b="b"/>
                <a:pathLst>
                  <a:path w="388" h="600">
                    <a:moveTo>
                      <a:pt x="388" y="0"/>
                    </a:moveTo>
                    <a:lnTo>
                      <a:pt x="264" y="54"/>
                    </a:lnTo>
                    <a:lnTo>
                      <a:pt x="136" y="139"/>
                    </a:lnTo>
                    <a:lnTo>
                      <a:pt x="55" y="220"/>
                    </a:lnTo>
                    <a:lnTo>
                      <a:pt x="16" y="307"/>
                    </a:lnTo>
                    <a:lnTo>
                      <a:pt x="0" y="392"/>
                    </a:lnTo>
                    <a:lnTo>
                      <a:pt x="13" y="493"/>
                    </a:lnTo>
                    <a:lnTo>
                      <a:pt x="70" y="600"/>
                    </a:lnTo>
                    <a:lnTo>
                      <a:pt x="71" y="464"/>
                    </a:lnTo>
                    <a:lnTo>
                      <a:pt x="86" y="360"/>
                    </a:lnTo>
                    <a:lnTo>
                      <a:pt x="116" y="268"/>
                    </a:lnTo>
                    <a:lnTo>
                      <a:pt x="178" y="166"/>
                    </a:lnTo>
                    <a:lnTo>
                      <a:pt x="254" y="96"/>
                    </a:lnTo>
                    <a:lnTo>
                      <a:pt x="388" y="0"/>
                    </a:lnTo>
                    <a:lnTo>
                      <a:pt x="388" y="0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163680" y="1157400"/>
                <a:ext cx="313200" cy="351720"/>
              </a:xfrm>
              <a:custGeom>
                <a:avLst/>
                <a:gdLst/>
                <a:ahLst/>
                <a:rect l="l" t="t" r="r" b="b"/>
                <a:pathLst>
                  <a:path w="260" h="308">
                    <a:moveTo>
                      <a:pt x="19" y="0"/>
                    </a:moveTo>
                    <a:lnTo>
                      <a:pt x="85" y="25"/>
                    </a:lnTo>
                    <a:lnTo>
                      <a:pt x="90" y="43"/>
                    </a:lnTo>
                    <a:lnTo>
                      <a:pt x="61" y="77"/>
                    </a:lnTo>
                    <a:lnTo>
                      <a:pt x="61" y="112"/>
                    </a:lnTo>
                    <a:lnTo>
                      <a:pt x="89" y="173"/>
                    </a:lnTo>
                    <a:lnTo>
                      <a:pt x="174" y="248"/>
                    </a:lnTo>
                    <a:lnTo>
                      <a:pt x="260" y="308"/>
                    </a:lnTo>
                    <a:lnTo>
                      <a:pt x="133" y="270"/>
                    </a:lnTo>
                    <a:lnTo>
                      <a:pt x="27" y="188"/>
                    </a:lnTo>
                    <a:lnTo>
                      <a:pt x="0" y="97"/>
                    </a:lnTo>
                    <a:lnTo>
                      <a:pt x="0" y="3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33480" y="1895760"/>
                <a:ext cx="805680" cy="372240"/>
              </a:xfrm>
              <a:custGeom>
                <a:avLst/>
                <a:gdLst/>
                <a:ahLst/>
                <a:rect l="l" t="t" r="r" b="b"/>
                <a:pathLst>
                  <a:path w="669" h="326">
                    <a:moveTo>
                      <a:pt x="12" y="0"/>
                    </a:moveTo>
                    <a:lnTo>
                      <a:pt x="39" y="56"/>
                    </a:lnTo>
                    <a:lnTo>
                      <a:pt x="133" y="77"/>
                    </a:lnTo>
                    <a:lnTo>
                      <a:pt x="384" y="133"/>
                    </a:lnTo>
                    <a:lnTo>
                      <a:pt x="526" y="178"/>
                    </a:lnTo>
                    <a:lnTo>
                      <a:pt x="590" y="223"/>
                    </a:lnTo>
                    <a:lnTo>
                      <a:pt x="669" y="326"/>
                    </a:lnTo>
                    <a:lnTo>
                      <a:pt x="538" y="251"/>
                    </a:lnTo>
                    <a:lnTo>
                      <a:pt x="389" y="213"/>
                    </a:lnTo>
                    <a:lnTo>
                      <a:pt x="230" y="197"/>
                    </a:lnTo>
                    <a:lnTo>
                      <a:pt x="118" y="158"/>
                    </a:lnTo>
                    <a:lnTo>
                      <a:pt x="24" y="113"/>
                    </a:lnTo>
                    <a:lnTo>
                      <a:pt x="0" y="7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315520" y="2365200"/>
                <a:ext cx="264960" cy="203400"/>
              </a:xfrm>
              <a:custGeom>
                <a:avLst/>
                <a:gdLst/>
                <a:ahLst/>
                <a:rect l="l" t="t" r="r" b="b"/>
                <a:pathLst>
                  <a:path w="220" h="178">
                    <a:moveTo>
                      <a:pt x="53" y="0"/>
                    </a:moveTo>
                    <a:lnTo>
                      <a:pt x="36" y="56"/>
                    </a:lnTo>
                    <a:lnTo>
                      <a:pt x="78" y="110"/>
                    </a:lnTo>
                    <a:lnTo>
                      <a:pt x="142" y="148"/>
                    </a:lnTo>
                    <a:lnTo>
                      <a:pt x="220" y="178"/>
                    </a:lnTo>
                    <a:lnTo>
                      <a:pt x="112" y="175"/>
                    </a:lnTo>
                    <a:lnTo>
                      <a:pt x="41" y="144"/>
                    </a:lnTo>
                    <a:lnTo>
                      <a:pt x="0" y="79"/>
                    </a:lnTo>
                    <a:lnTo>
                      <a:pt x="0" y="43"/>
                    </a:lnTo>
                    <a:lnTo>
                      <a:pt x="26" y="1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93480" y="2913840"/>
                <a:ext cx="620280" cy="280800"/>
              </a:xfrm>
              <a:custGeom>
                <a:avLst/>
                <a:gdLst/>
                <a:ahLst/>
                <a:rect l="l" t="t" r="r" b="b"/>
                <a:pathLst>
                  <a:path w="515" h="246">
                    <a:moveTo>
                      <a:pt x="0" y="67"/>
                    </a:moveTo>
                    <a:lnTo>
                      <a:pt x="89" y="102"/>
                    </a:lnTo>
                    <a:lnTo>
                      <a:pt x="207" y="134"/>
                    </a:lnTo>
                    <a:lnTo>
                      <a:pt x="297" y="130"/>
                    </a:lnTo>
                    <a:lnTo>
                      <a:pt x="376" y="106"/>
                    </a:lnTo>
                    <a:lnTo>
                      <a:pt x="445" y="71"/>
                    </a:lnTo>
                    <a:lnTo>
                      <a:pt x="515" y="0"/>
                    </a:lnTo>
                    <a:lnTo>
                      <a:pt x="490" y="87"/>
                    </a:lnTo>
                    <a:lnTo>
                      <a:pt x="432" y="172"/>
                    </a:lnTo>
                    <a:lnTo>
                      <a:pt x="352" y="220"/>
                    </a:lnTo>
                    <a:lnTo>
                      <a:pt x="257" y="246"/>
                    </a:lnTo>
                    <a:lnTo>
                      <a:pt x="160" y="230"/>
                    </a:lnTo>
                    <a:lnTo>
                      <a:pt x="64" y="190"/>
                    </a:lnTo>
                    <a:lnTo>
                      <a:pt x="16" y="13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169520" y="2936520"/>
                <a:ext cx="452880" cy="303840"/>
              </a:xfrm>
              <a:custGeom>
                <a:avLst/>
                <a:gdLst/>
                <a:ahLst/>
                <a:rect l="l" t="t" r="r" b="b"/>
                <a:pathLst>
                  <a:path w="376" h="266">
                    <a:moveTo>
                      <a:pt x="36" y="69"/>
                    </a:moveTo>
                    <a:lnTo>
                      <a:pt x="50" y="127"/>
                    </a:lnTo>
                    <a:lnTo>
                      <a:pt x="104" y="169"/>
                    </a:lnTo>
                    <a:lnTo>
                      <a:pt x="178" y="151"/>
                    </a:lnTo>
                    <a:lnTo>
                      <a:pt x="257" y="104"/>
                    </a:lnTo>
                    <a:lnTo>
                      <a:pt x="376" y="0"/>
                    </a:lnTo>
                    <a:lnTo>
                      <a:pt x="318" y="79"/>
                    </a:lnTo>
                    <a:lnTo>
                      <a:pt x="247" y="167"/>
                    </a:lnTo>
                    <a:lnTo>
                      <a:pt x="187" y="230"/>
                    </a:lnTo>
                    <a:lnTo>
                      <a:pt x="133" y="261"/>
                    </a:lnTo>
                    <a:lnTo>
                      <a:pt x="73" y="266"/>
                    </a:lnTo>
                    <a:lnTo>
                      <a:pt x="20" y="255"/>
                    </a:lnTo>
                    <a:lnTo>
                      <a:pt x="0" y="191"/>
                    </a:lnTo>
                    <a:lnTo>
                      <a:pt x="6" y="119"/>
                    </a:lnTo>
                    <a:lnTo>
                      <a:pt x="36" y="69"/>
                    </a:lnTo>
                    <a:lnTo>
                      <a:pt x="36" y="69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704200" y="1837440"/>
                <a:ext cx="661320" cy="403200"/>
              </a:xfrm>
              <a:custGeom>
                <a:avLst/>
                <a:gdLst/>
                <a:ahLst/>
                <a:rect l="l" t="t" r="r" b="b"/>
                <a:pathLst>
                  <a:path w="549" h="353">
                    <a:moveTo>
                      <a:pt x="549" y="0"/>
                    </a:moveTo>
                    <a:lnTo>
                      <a:pt x="389" y="45"/>
                    </a:lnTo>
                    <a:lnTo>
                      <a:pt x="253" y="97"/>
                    </a:lnTo>
                    <a:lnTo>
                      <a:pt x="164" y="147"/>
                    </a:lnTo>
                    <a:lnTo>
                      <a:pt x="120" y="194"/>
                    </a:lnTo>
                    <a:lnTo>
                      <a:pt x="92" y="246"/>
                    </a:lnTo>
                    <a:lnTo>
                      <a:pt x="98" y="314"/>
                    </a:lnTo>
                    <a:lnTo>
                      <a:pt x="119" y="353"/>
                    </a:lnTo>
                    <a:lnTo>
                      <a:pt x="53" y="326"/>
                    </a:lnTo>
                    <a:lnTo>
                      <a:pt x="7" y="269"/>
                    </a:lnTo>
                    <a:lnTo>
                      <a:pt x="0" y="184"/>
                    </a:lnTo>
                    <a:lnTo>
                      <a:pt x="51" y="115"/>
                    </a:lnTo>
                    <a:lnTo>
                      <a:pt x="135" y="75"/>
                    </a:lnTo>
                    <a:lnTo>
                      <a:pt x="270" y="39"/>
                    </a:lnTo>
                    <a:lnTo>
                      <a:pt x="425" y="9"/>
                    </a:lnTo>
                    <a:lnTo>
                      <a:pt x="549" y="0"/>
                    </a:lnTo>
                    <a:lnTo>
                      <a:pt x="549" y="0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194880" y="1117440"/>
                <a:ext cx="370800" cy="198720"/>
              </a:xfrm>
              <a:custGeom>
                <a:avLst/>
                <a:gdLst/>
                <a:ahLst/>
                <a:rect l="l" t="t" r="r" b="b"/>
                <a:pathLst>
                  <a:path w="308" h="174">
                    <a:moveTo>
                      <a:pt x="249" y="0"/>
                    </a:moveTo>
                    <a:lnTo>
                      <a:pt x="295" y="29"/>
                    </a:lnTo>
                    <a:lnTo>
                      <a:pt x="308" y="78"/>
                    </a:lnTo>
                    <a:lnTo>
                      <a:pt x="260" y="113"/>
                    </a:lnTo>
                    <a:lnTo>
                      <a:pt x="185" y="151"/>
                    </a:lnTo>
                    <a:lnTo>
                      <a:pt x="91" y="174"/>
                    </a:lnTo>
                    <a:lnTo>
                      <a:pt x="0" y="172"/>
                    </a:lnTo>
                    <a:lnTo>
                      <a:pt x="110" y="151"/>
                    </a:lnTo>
                    <a:lnTo>
                      <a:pt x="205" y="106"/>
                    </a:lnTo>
                    <a:lnTo>
                      <a:pt x="247" y="69"/>
                    </a:lnTo>
                    <a:lnTo>
                      <a:pt x="255" y="33"/>
                    </a:lnTo>
                    <a:lnTo>
                      <a:pt x="249" y="0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 txBox="1"/>
            <p:nvPr/>
          </p:nvSpPr>
          <p:spPr>
            <a:xfrm rot="20605800">
              <a:off x="2484360" y="643680"/>
              <a:ext cx="4687200" cy="298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 Did This!"/>
                </a:rPr>
                <a:t>Kids </a:t>
              </a:r>
              <a:endPara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 Did This!"/>
                <a:ea typeface="I Did This!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 Did This!"/>
                </a:rPr>
                <a:t>@ </a:t>
              </a:r>
              <a:endPara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 Did This!"/>
                <a:ea typeface="I Did This!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 Did This!"/>
                </a:rPr>
                <a:t>One</a:t>
              </a:r>
              <a:endPara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 Did This!"/>
                <a:ea typeface="I Did This!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 rot="5400000">
            <a:off x="-33120" y="-695160"/>
            <a:ext cx="6858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03515E-006 L -0.00503 1.10315 E">
                                      <p:cBhvr>
                                        <p:cTn id="313" dur="10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MCj00933730000[1]" descr=""/>
          <p:cNvPicPr/>
          <p:nvPr/>
        </p:nvPicPr>
        <p:blipFill>
          <a:blip r:embed="rId1">
            <a:lum bright="18000"/>
          </a:blip>
          <a:stretch/>
        </p:blipFill>
        <p:spPr>
          <a:xfrm rot="19973400">
            <a:off x="1396800" y="-266400"/>
            <a:ext cx="5351400" cy="7410600"/>
          </a:xfrm>
          <a:prstGeom prst="rect">
            <a:avLst/>
          </a:prstGeom>
          <a:ln w="0">
            <a:noFill/>
          </a:ln>
        </p:spPr>
      </p:pic>
      <p:pic>
        <p:nvPicPr>
          <p:cNvPr id="368" name="Sparkles" descr=""/>
          <p:cNvPicPr/>
          <p:nvPr/>
        </p:nvPicPr>
        <p:blipFill>
          <a:blip r:embed="rId2"/>
          <a:stretch/>
        </p:blipFill>
        <p:spPr>
          <a:xfrm rot="19971600">
            <a:off x="2139480" y="1433160"/>
            <a:ext cx="6116760" cy="42559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804960" y="-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230040" y="4354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625320" y="43419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-1787400" y="5958000"/>
            <a:ext cx="183168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L 1.21094 7.40741E-007 E">
                                      <p:cBhvr>
                                        <p:cTn id="321" dur="5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3811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3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2767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-714240" y="104760"/>
            <a:ext cx="685800" cy="6192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505400" y="1476360"/>
            <a:ext cx="2709360" cy="2271600"/>
            <a:chOff x="4505400" y="1476360"/>
            <a:chExt cx="2709360" cy="2271600"/>
          </a:xfrm>
        </p:grpSpPr>
        <p:sp>
          <p:nvSpPr>
            <p:cNvPr id="376" name=""/>
            <p:cNvSpPr/>
            <p:nvPr/>
          </p:nvSpPr>
          <p:spPr>
            <a:xfrm>
              <a:off x="4741920" y="1476360"/>
              <a:ext cx="378000" cy="331920"/>
            </a:xfrm>
            <a:custGeom>
              <a:avLst/>
              <a:gdLst/>
              <a:ahLst/>
              <a:rect l="l" t="t" r="r" b="b"/>
              <a:pathLst>
                <a:path w="740" h="734">
                  <a:moveTo>
                    <a:pt x="199" y="0"/>
                  </a:moveTo>
                  <a:lnTo>
                    <a:pt x="409" y="150"/>
                  </a:lnTo>
                  <a:lnTo>
                    <a:pt x="656" y="60"/>
                  </a:lnTo>
                  <a:lnTo>
                    <a:pt x="578" y="307"/>
                  </a:lnTo>
                  <a:lnTo>
                    <a:pt x="740" y="511"/>
                  </a:lnTo>
                  <a:lnTo>
                    <a:pt x="482" y="517"/>
                  </a:lnTo>
                  <a:lnTo>
                    <a:pt x="337" y="734"/>
                  </a:lnTo>
                  <a:lnTo>
                    <a:pt x="253" y="487"/>
                  </a:lnTo>
                  <a:lnTo>
                    <a:pt x="0" y="421"/>
                  </a:lnTo>
                  <a:lnTo>
                    <a:pt x="211" y="259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05400" y="2208240"/>
              <a:ext cx="381240" cy="323640"/>
            </a:xfrm>
            <a:custGeom>
              <a:avLst/>
              <a:gdLst/>
              <a:ahLst/>
              <a:rect l="l" t="t" r="r" b="b"/>
              <a:pathLst>
                <a:path w="746" h="716">
                  <a:moveTo>
                    <a:pt x="379" y="0"/>
                  </a:moveTo>
                  <a:lnTo>
                    <a:pt x="487" y="234"/>
                  </a:lnTo>
                  <a:lnTo>
                    <a:pt x="746" y="277"/>
                  </a:lnTo>
                  <a:lnTo>
                    <a:pt x="554" y="457"/>
                  </a:lnTo>
                  <a:lnTo>
                    <a:pt x="590" y="716"/>
                  </a:lnTo>
                  <a:lnTo>
                    <a:pt x="367" y="589"/>
                  </a:lnTo>
                  <a:lnTo>
                    <a:pt x="132" y="704"/>
                  </a:lnTo>
                  <a:lnTo>
                    <a:pt x="181" y="445"/>
                  </a:lnTo>
                  <a:lnTo>
                    <a:pt x="0" y="258"/>
                  </a:lnTo>
                  <a:lnTo>
                    <a:pt x="259" y="22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d60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554160" y="1819080"/>
              <a:ext cx="378000" cy="334800"/>
            </a:xfrm>
            <a:custGeom>
              <a:avLst/>
              <a:gdLst/>
              <a:ahLst/>
              <a:rect l="l" t="t" r="r" b="b"/>
              <a:pathLst>
                <a:path w="740" h="740">
                  <a:moveTo>
                    <a:pt x="535" y="0"/>
                  </a:moveTo>
                  <a:lnTo>
                    <a:pt x="529" y="258"/>
                  </a:lnTo>
                  <a:lnTo>
                    <a:pt x="740" y="415"/>
                  </a:lnTo>
                  <a:lnTo>
                    <a:pt x="493" y="487"/>
                  </a:lnTo>
                  <a:lnTo>
                    <a:pt x="415" y="740"/>
                  </a:lnTo>
                  <a:lnTo>
                    <a:pt x="264" y="523"/>
                  </a:lnTo>
                  <a:lnTo>
                    <a:pt x="0" y="529"/>
                  </a:lnTo>
                  <a:lnTo>
                    <a:pt x="162" y="319"/>
                  </a:lnTo>
                  <a:lnTo>
                    <a:pt x="78" y="72"/>
                  </a:lnTo>
                  <a:lnTo>
                    <a:pt x="325" y="156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d60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71280" y="2469240"/>
              <a:ext cx="375120" cy="334440"/>
            </a:xfrm>
            <a:custGeom>
              <a:avLst/>
              <a:gdLst/>
              <a:ahLst/>
              <a:rect l="l" t="t" r="r" b="b"/>
              <a:pathLst>
                <a:path w="734" h="740">
                  <a:moveTo>
                    <a:pt x="530" y="0"/>
                  </a:moveTo>
                  <a:lnTo>
                    <a:pt x="530" y="259"/>
                  </a:lnTo>
                  <a:lnTo>
                    <a:pt x="734" y="409"/>
                  </a:lnTo>
                  <a:lnTo>
                    <a:pt x="487" y="487"/>
                  </a:lnTo>
                  <a:lnTo>
                    <a:pt x="409" y="740"/>
                  </a:lnTo>
                  <a:lnTo>
                    <a:pt x="265" y="523"/>
                  </a:lnTo>
                  <a:lnTo>
                    <a:pt x="0" y="523"/>
                  </a:lnTo>
                  <a:lnTo>
                    <a:pt x="157" y="319"/>
                  </a:lnTo>
                  <a:lnTo>
                    <a:pt x="78" y="72"/>
                  </a:lnTo>
                  <a:lnTo>
                    <a:pt x="325" y="157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006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36760" y="2656800"/>
              <a:ext cx="378000" cy="334440"/>
            </a:xfrm>
            <a:custGeom>
              <a:avLst/>
              <a:gdLst/>
              <a:ahLst/>
              <a:rect l="l" t="t" r="r" b="b"/>
              <a:pathLst>
                <a:path w="740" h="740">
                  <a:moveTo>
                    <a:pt x="205" y="0"/>
                  </a:moveTo>
                  <a:lnTo>
                    <a:pt x="415" y="157"/>
                  </a:lnTo>
                  <a:lnTo>
                    <a:pt x="662" y="72"/>
                  </a:lnTo>
                  <a:lnTo>
                    <a:pt x="584" y="319"/>
                  </a:lnTo>
                  <a:lnTo>
                    <a:pt x="740" y="529"/>
                  </a:lnTo>
                  <a:lnTo>
                    <a:pt x="475" y="523"/>
                  </a:lnTo>
                  <a:lnTo>
                    <a:pt x="331" y="740"/>
                  </a:lnTo>
                  <a:lnTo>
                    <a:pt x="247" y="493"/>
                  </a:lnTo>
                  <a:lnTo>
                    <a:pt x="0" y="415"/>
                  </a:lnTo>
                  <a:lnTo>
                    <a:pt x="211" y="265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ffb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92760" y="2512800"/>
              <a:ext cx="310680" cy="1235160"/>
            </a:xfrm>
            <a:custGeom>
              <a:avLst/>
              <a:gdLst/>
              <a:ahLst/>
              <a:rect l="l" t="t" r="r" b="b"/>
              <a:pathLst>
                <a:path w="608" h="2731">
                  <a:moveTo>
                    <a:pt x="0" y="0"/>
                  </a:moveTo>
                  <a:lnTo>
                    <a:pt x="66" y="73"/>
                  </a:lnTo>
                  <a:lnTo>
                    <a:pt x="169" y="211"/>
                  </a:lnTo>
                  <a:lnTo>
                    <a:pt x="283" y="421"/>
                  </a:lnTo>
                  <a:lnTo>
                    <a:pt x="391" y="704"/>
                  </a:lnTo>
                  <a:lnTo>
                    <a:pt x="457" y="1071"/>
                  </a:lnTo>
                  <a:lnTo>
                    <a:pt x="463" y="1522"/>
                  </a:lnTo>
                  <a:lnTo>
                    <a:pt x="385" y="2075"/>
                  </a:lnTo>
                  <a:lnTo>
                    <a:pt x="199" y="2731"/>
                  </a:lnTo>
                  <a:lnTo>
                    <a:pt x="415" y="2232"/>
                  </a:lnTo>
                  <a:lnTo>
                    <a:pt x="548" y="1769"/>
                  </a:lnTo>
                  <a:lnTo>
                    <a:pt x="608" y="1348"/>
                  </a:lnTo>
                  <a:lnTo>
                    <a:pt x="596" y="975"/>
                  </a:lnTo>
                  <a:lnTo>
                    <a:pt x="517" y="650"/>
                  </a:lnTo>
                  <a:lnTo>
                    <a:pt x="391" y="379"/>
                  </a:lnTo>
                  <a:lnTo>
                    <a:pt x="217" y="1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144760" y="2763000"/>
              <a:ext cx="412560" cy="873000"/>
            </a:xfrm>
            <a:custGeom>
              <a:avLst/>
              <a:gdLst/>
              <a:ahLst/>
              <a:rect l="l" t="t" r="r" b="b"/>
              <a:pathLst>
                <a:path w="807" h="1930">
                  <a:moveTo>
                    <a:pt x="807" y="0"/>
                  </a:moveTo>
                  <a:lnTo>
                    <a:pt x="716" y="138"/>
                  </a:lnTo>
                  <a:lnTo>
                    <a:pt x="608" y="355"/>
                  </a:lnTo>
                  <a:lnTo>
                    <a:pt x="494" y="619"/>
                  </a:lnTo>
                  <a:lnTo>
                    <a:pt x="373" y="908"/>
                  </a:lnTo>
                  <a:lnTo>
                    <a:pt x="259" y="1209"/>
                  </a:lnTo>
                  <a:lnTo>
                    <a:pt x="151" y="1497"/>
                  </a:lnTo>
                  <a:lnTo>
                    <a:pt x="67" y="1744"/>
                  </a:lnTo>
                  <a:lnTo>
                    <a:pt x="0" y="1930"/>
                  </a:lnTo>
                  <a:lnTo>
                    <a:pt x="109" y="1756"/>
                  </a:lnTo>
                  <a:lnTo>
                    <a:pt x="235" y="1527"/>
                  </a:lnTo>
                  <a:lnTo>
                    <a:pt x="373" y="1251"/>
                  </a:lnTo>
                  <a:lnTo>
                    <a:pt x="512" y="962"/>
                  </a:lnTo>
                  <a:lnTo>
                    <a:pt x="632" y="667"/>
                  </a:lnTo>
                  <a:lnTo>
                    <a:pt x="728" y="397"/>
                  </a:lnTo>
                  <a:lnTo>
                    <a:pt x="789" y="168"/>
                  </a:lnTo>
                  <a:lnTo>
                    <a:pt x="807" y="0"/>
                  </a:lnTo>
                  <a:close/>
                </a:path>
              </a:pathLst>
            </a:custGeom>
            <a:solidFill>
              <a:srgbClr val="d60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059080" y="1802880"/>
              <a:ext cx="338400" cy="1022760"/>
            </a:xfrm>
            <a:custGeom>
              <a:avLst/>
              <a:gdLst/>
              <a:ahLst/>
              <a:rect l="l" t="t" r="r" b="b"/>
              <a:pathLst>
                <a:path w="662" h="2261">
                  <a:moveTo>
                    <a:pt x="523" y="2261"/>
                  </a:moveTo>
                  <a:lnTo>
                    <a:pt x="547" y="2105"/>
                  </a:lnTo>
                  <a:lnTo>
                    <a:pt x="559" y="1858"/>
                  </a:lnTo>
                  <a:lnTo>
                    <a:pt x="553" y="1557"/>
                  </a:lnTo>
                  <a:lnTo>
                    <a:pt x="523" y="1215"/>
                  </a:lnTo>
                  <a:lnTo>
                    <a:pt x="463" y="866"/>
                  </a:lnTo>
                  <a:lnTo>
                    <a:pt x="361" y="529"/>
                  </a:lnTo>
                  <a:lnTo>
                    <a:pt x="211" y="234"/>
                  </a:lnTo>
                  <a:lnTo>
                    <a:pt x="0" y="0"/>
                  </a:lnTo>
                  <a:lnTo>
                    <a:pt x="186" y="108"/>
                  </a:lnTo>
                  <a:lnTo>
                    <a:pt x="349" y="294"/>
                  </a:lnTo>
                  <a:lnTo>
                    <a:pt x="481" y="547"/>
                  </a:lnTo>
                  <a:lnTo>
                    <a:pt x="584" y="848"/>
                  </a:lnTo>
                  <a:lnTo>
                    <a:pt x="644" y="1191"/>
                  </a:lnTo>
                  <a:lnTo>
                    <a:pt x="662" y="1545"/>
                  </a:lnTo>
                  <a:lnTo>
                    <a:pt x="620" y="1906"/>
                  </a:lnTo>
                  <a:lnTo>
                    <a:pt x="523" y="2261"/>
                  </a:lnTo>
                  <a:close/>
                </a:path>
              </a:pathLst>
            </a:custGeom>
            <a:solidFill>
              <a:srgbClr val="ffb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883120" y="1971360"/>
              <a:ext cx="587520" cy="500400"/>
            </a:xfrm>
            <a:custGeom>
              <a:avLst/>
              <a:gdLst/>
              <a:ahLst/>
              <a:rect l="l" t="t" r="r" b="b"/>
              <a:pathLst>
                <a:path w="1149" h="1106">
                  <a:moveTo>
                    <a:pt x="1149" y="0"/>
                  </a:moveTo>
                  <a:lnTo>
                    <a:pt x="1077" y="12"/>
                  </a:lnTo>
                  <a:lnTo>
                    <a:pt x="999" y="36"/>
                  </a:lnTo>
                  <a:lnTo>
                    <a:pt x="921" y="66"/>
                  </a:lnTo>
                  <a:lnTo>
                    <a:pt x="842" y="108"/>
                  </a:lnTo>
                  <a:lnTo>
                    <a:pt x="758" y="156"/>
                  </a:lnTo>
                  <a:lnTo>
                    <a:pt x="680" y="210"/>
                  </a:lnTo>
                  <a:lnTo>
                    <a:pt x="602" y="270"/>
                  </a:lnTo>
                  <a:lnTo>
                    <a:pt x="524" y="342"/>
                  </a:lnTo>
                  <a:lnTo>
                    <a:pt x="445" y="415"/>
                  </a:lnTo>
                  <a:lnTo>
                    <a:pt x="367" y="499"/>
                  </a:lnTo>
                  <a:lnTo>
                    <a:pt x="295" y="589"/>
                  </a:lnTo>
                  <a:lnTo>
                    <a:pt x="229" y="679"/>
                  </a:lnTo>
                  <a:lnTo>
                    <a:pt x="163" y="781"/>
                  </a:lnTo>
                  <a:lnTo>
                    <a:pt x="103" y="884"/>
                  </a:lnTo>
                  <a:lnTo>
                    <a:pt x="48" y="992"/>
                  </a:lnTo>
                  <a:lnTo>
                    <a:pt x="0" y="1106"/>
                  </a:lnTo>
                  <a:lnTo>
                    <a:pt x="36" y="1064"/>
                  </a:lnTo>
                  <a:lnTo>
                    <a:pt x="84" y="1016"/>
                  </a:lnTo>
                  <a:lnTo>
                    <a:pt x="133" y="956"/>
                  </a:lnTo>
                  <a:lnTo>
                    <a:pt x="187" y="890"/>
                  </a:lnTo>
                  <a:lnTo>
                    <a:pt x="247" y="818"/>
                  </a:lnTo>
                  <a:lnTo>
                    <a:pt x="313" y="739"/>
                  </a:lnTo>
                  <a:lnTo>
                    <a:pt x="379" y="661"/>
                  </a:lnTo>
                  <a:lnTo>
                    <a:pt x="451" y="577"/>
                  </a:lnTo>
                  <a:lnTo>
                    <a:pt x="530" y="493"/>
                  </a:lnTo>
                  <a:lnTo>
                    <a:pt x="608" y="415"/>
                  </a:lnTo>
                  <a:lnTo>
                    <a:pt x="692" y="330"/>
                  </a:lnTo>
                  <a:lnTo>
                    <a:pt x="776" y="252"/>
                  </a:lnTo>
                  <a:lnTo>
                    <a:pt x="867" y="180"/>
                  </a:lnTo>
                  <a:lnTo>
                    <a:pt x="957" y="114"/>
                  </a:lnTo>
                  <a:lnTo>
                    <a:pt x="1053" y="54"/>
                  </a:lnTo>
                  <a:lnTo>
                    <a:pt x="1149" y="0"/>
                  </a:lnTo>
                  <a:close/>
                </a:path>
              </a:pathLst>
            </a:custGeom>
            <a:solidFill>
              <a:srgbClr val="00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57680" y="2741400"/>
              <a:ext cx="1227240" cy="443160"/>
            </a:xfrm>
            <a:custGeom>
              <a:avLst/>
              <a:gdLst/>
              <a:ahLst/>
              <a:rect l="l" t="t" r="r" b="b"/>
              <a:pathLst>
                <a:path w="2400" h="980">
                  <a:moveTo>
                    <a:pt x="0" y="980"/>
                  </a:moveTo>
                  <a:lnTo>
                    <a:pt x="60" y="920"/>
                  </a:lnTo>
                  <a:lnTo>
                    <a:pt x="132" y="848"/>
                  </a:lnTo>
                  <a:lnTo>
                    <a:pt x="216" y="769"/>
                  </a:lnTo>
                  <a:lnTo>
                    <a:pt x="312" y="685"/>
                  </a:lnTo>
                  <a:lnTo>
                    <a:pt x="415" y="601"/>
                  </a:lnTo>
                  <a:lnTo>
                    <a:pt x="535" y="517"/>
                  </a:lnTo>
                  <a:lnTo>
                    <a:pt x="667" y="427"/>
                  </a:lnTo>
                  <a:lnTo>
                    <a:pt x="812" y="348"/>
                  </a:lnTo>
                  <a:lnTo>
                    <a:pt x="968" y="270"/>
                  </a:lnTo>
                  <a:lnTo>
                    <a:pt x="1137" y="192"/>
                  </a:lnTo>
                  <a:lnTo>
                    <a:pt x="1317" y="132"/>
                  </a:lnTo>
                  <a:lnTo>
                    <a:pt x="1510" y="78"/>
                  </a:lnTo>
                  <a:lnTo>
                    <a:pt x="1714" y="36"/>
                  </a:lnTo>
                  <a:lnTo>
                    <a:pt x="1931" y="12"/>
                  </a:lnTo>
                  <a:lnTo>
                    <a:pt x="2159" y="0"/>
                  </a:lnTo>
                  <a:lnTo>
                    <a:pt x="2400" y="6"/>
                  </a:lnTo>
                  <a:lnTo>
                    <a:pt x="2310" y="18"/>
                  </a:lnTo>
                  <a:lnTo>
                    <a:pt x="2207" y="36"/>
                  </a:lnTo>
                  <a:lnTo>
                    <a:pt x="2093" y="60"/>
                  </a:lnTo>
                  <a:lnTo>
                    <a:pt x="1979" y="84"/>
                  </a:lnTo>
                  <a:lnTo>
                    <a:pt x="1846" y="120"/>
                  </a:lnTo>
                  <a:lnTo>
                    <a:pt x="1714" y="156"/>
                  </a:lnTo>
                  <a:lnTo>
                    <a:pt x="1570" y="198"/>
                  </a:lnTo>
                  <a:lnTo>
                    <a:pt x="1419" y="246"/>
                  </a:lnTo>
                  <a:lnTo>
                    <a:pt x="1257" y="306"/>
                  </a:lnTo>
                  <a:lnTo>
                    <a:pt x="1094" y="373"/>
                  </a:lnTo>
                  <a:lnTo>
                    <a:pt x="926" y="451"/>
                  </a:lnTo>
                  <a:lnTo>
                    <a:pt x="752" y="535"/>
                  </a:lnTo>
                  <a:lnTo>
                    <a:pt x="565" y="631"/>
                  </a:lnTo>
                  <a:lnTo>
                    <a:pt x="385" y="733"/>
                  </a:lnTo>
                  <a:lnTo>
                    <a:pt x="192" y="854"/>
                  </a:lnTo>
                  <a:lnTo>
                    <a:pt x="0" y="980"/>
                  </a:lnTo>
                  <a:close/>
                </a:path>
              </a:pathLst>
            </a:custGeom>
            <a:solidFill>
              <a:srgbClr val="00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49760" y="1968840"/>
              <a:ext cx="85680" cy="75960"/>
            </a:xfrm>
            <a:custGeom>
              <a:avLst/>
              <a:gdLst/>
              <a:ahLst/>
              <a:rect l="l" t="t" r="r" b="b"/>
              <a:pathLst>
                <a:path w="168" h="168">
                  <a:moveTo>
                    <a:pt x="84" y="168"/>
                  </a:moveTo>
                  <a:lnTo>
                    <a:pt x="120" y="162"/>
                  </a:lnTo>
                  <a:lnTo>
                    <a:pt x="144" y="144"/>
                  </a:lnTo>
                  <a:lnTo>
                    <a:pt x="162" y="120"/>
                  </a:lnTo>
                  <a:lnTo>
                    <a:pt x="168" y="84"/>
                  </a:lnTo>
                  <a:lnTo>
                    <a:pt x="162" y="48"/>
                  </a:lnTo>
                  <a:lnTo>
                    <a:pt x="144" y="24"/>
                  </a:lnTo>
                  <a:lnTo>
                    <a:pt x="120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84"/>
                  </a:lnTo>
                  <a:lnTo>
                    <a:pt x="6" y="120"/>
                  </a:lnTo>
                  <a:lnTo>
                    <a:pt x="24" y="144"/>
                  </a:lnTo>
                  <a:lnTo>
                    <a:pt x="48" y="162"/>
                  </a:lnTo>
                  <a:lnTo>
                    <a:pt x="84" y="168"/>
                  </a:lnTo>
                  <a:close/>
                </a:path>
              </a:pathLst>
            </a:custGeom>
            <a:solidFill>
              <a:srgbClr val="3f0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37520" y="2711160"/>
              <a:ext cx="88920" cy="78840"/>
            </a:xfrm>
            <a:custGeom>
              <a:avLst/>
              <a:gdLst/>
              <a:ahLst/>
              <a:rect l="l" t="t" r="r" b="b"/>
              <a:pathLst>
                <a:path w="174" h="175">
                  <a:moveTo>
                    <a:pt x="90" y="175"/>
                  </a:moveTo>
                  <a:lnTo>
                    <a:pt x="120" y="169"/>
                  </a:lnTo>
                  <a:lnTo>
                    <a:pt x="150" y="145"/>
                  </a:lnTo>
                  <a:lnTo>
                    <a:pt x="168" y="121"/>
                  </a:lnTo>
                  <a:lnTo>
                    <a:pt x="174" y="85"/>
                  </a:lnTo>
                  <a:lnTo>
                    <a:pt x="168" y="55"/>
                  </a:lnTo>
                  <a:lnTo>
                    <a:pt x="150" y="25"/>
                  </a:lnTo>
                  <a:lnTo>
                    <a:pt x="120" y="7"/>
                  </a:lnTo>
                  <a:lnTo>
                    <a:pt x="90" y="0"/>
                  </a:lnTo>
                  <a:lnTo>
                    <a:pt x="54" y="7"/>
                  </a:lnTo>
                  <a:lnTo>
                    <a:pt x="30" y="25"/>
                  </a:lnTo>
                  <a:lnTo>
                    <a:pt x="6" y="55"/>
                  </a:lnTo>
                  <a:lnTo>
                    <a:pt x="0" y="85"/>
                  </a:lnTo>
                  <a:lnTo>
                    <a:pt x="6" y="121"/>
                  </a:lnTo>
                  <a:lnTo>
                    <a:pt x="30" y="145"/>
                  </a:lnTo>
                  <a:lnTo>
                    <a:pt x="54" y="169"/>
                  </a:lnTo>
                  <a:lnTo>
                    <a:pt x="90" y="175"/>
                  </a:lnTo>
                  <a:close/>
                </a:path>
              </a:pathLst>
            </a:custGeom>
            <a:solidFill>
              <a:srgbClr val="00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113880" y="2586240"/>
              <a:ext cx="89280" cy="75960"/>
            </a:xfrm>
            <a:custGeom>
              <a:avLst/>
              <a:gdLst/>
              <a:ahLst/>
              <a:rect l="l" t="t" r="r" b="b"/>
              <a:pathLst>
                <a:path w="175" h="168">
                  <a:moveTo>
                    <a:pt x="85" y="168"/>
                  </a:moveTo>
                  <a:lnTo>
                    <a:pt x="121" y="162"/>
                  </a:lnTo>
                  <a:lnTo>
                    <a:pt x="151" y="144"/>
                  </a:lnTo>
                  <a:lnTo>
                    <a:pt x="169" y="120"/>
                  </a:lnTo>
                  <a:lnTo>
                    <a:pt x="175" y="84"/>
                  </a:lnTo>
                  <a:lnTo>
                    <a:pt x="169" y="48"/>
                  </a:lnTo>
                  <a:lnTo>
                    <a:pt x="151" y="24"/>
                  </a:lnTo>
                  <a:lnTo>
                    <a:pt x="121" y="6"/>
                  </a:lnTo>
                  <a:lnTo>
                    <a:pt x="85" y="0"/>
                  </a:lnTo>
                  <a:lnTo>
                    <a:pt x="55" y="6"/>
                  </a:lnTo>
                  <a:lnTo>
                    <a:pt x="25" y="24"/>
                  </a:lnTo>
                  <a:lnTo>
                    <a:pt x="6" y="48"/>
                  </a:lnTo>
                  <a:lnTo>
                    <a:pt x="0" y="84"/>
                  </a:lnTo>
                  <a:lnTo>
                    <a:pt x="6" y="120"/>
                  </a:lnTo>
                  <a:lnTo>
                    <a:pt x="25" y="144"/>
                  </a:lnTo>
                  <a:lnTo>
                    <a:pt x="55" y="162"/>
                  </a:lnTo>
                  <a:lnTo>
                    <a:pt x="85" y="168"/>
                  </a:lnTo>
                  <a:close/>
                </a:path>
              </a:pathLst>
            </a:custGeom>
            <a:solidFill>
              <a:srgbClr val="d60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36960" y="2923920"/>
              <a:ext cx="86040" cy="78480"/>
            </a:xfrm>
            <a:custGeom>
              <a:avLst/>
              <a:gdLst/>
              <a:ahLst/>
              <a:rect l="l" t="t" r="r" b="b"/>
              <a:pathLst>
                <a:path w="169" h="174">
                  <a:moveTo>
                    <a:pt x="84" y="174"/>
                  </a:moveTo>
                  <a:lnTo>
                    <a:pt x="114" y="168"/>
                  </a:lnTo>
                  <a:lnTo>
                    <a:pt x="145" y="144"/>
                  </a:lnTo>
                  <a:lnTo>
                    <a:pt x="163" y="120"/>
                  </a:lnTo>
                  <a:lnTo>
                    <a:pt x="169" y="84"/>
                  </a:lnTo>
                  <a:lnTo>
                    <a:pt x="163" y="54"/>
                  </a:lnTo>
                  <a:lnTo>
                    <a:pt x="145" y="24"/>
                  </a:lnTo>
                  <a:lnTo>
                    <a:pt x="114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54"/>
                  </a:lnTo>
                  <a:lnTo>
                    <a:pt x="0" y="84"/>
                  </a:lnTo>
                  <a:lnTo>
                    <a:pt x="6" y="120"/>
                  </a:lnTo>
                  <a:lnTo>
                    <a:pt x="24" y="144"/>
                  </a:lnTo>
                  <a:lnTo>
                    <a:pt x="48" y="168"/>
                  </a:lnTo>
                  <a:lnTo>
                    <a:pt x="84" y="174"/>
                  </a:lnTo>
                  <a:close/>
                </a:path>
              </a:pathLst>
            </a:custGeom>
            <a:solidFill>
              <a:srgbClr val="006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91160" y="3228480"/>
              <a:ext cx="85680" cy="76320"/>
            </a:xfrm>
            <a:custGeom>
              <a:avLst/>
              <a:gdLst/>
              <a:ahLst/>
              <a:rect l="l" t="t" r="r" b="b"/>
              <a:pathLst>
                <a:path w="168" h="169">
                  <a:moveTo>
                    <a:pt x="84" y="169"/>
                  </a:moveTo>
                  <a:lnTo>
                    <a:pt x="120" y="163"/>
                  </a:lnTo>
                  <a:lnTo>
                    <a:pt x="144" y="145"/>
                  </a:lnTo>
                  <a:lnTo>
                    <a:pt x="162" y="114"/>
                  </a:lnTo>
                  <a:lnTo>
                    <a:pt x="168" y="84"/>
                  </a:lnTo>
                  <a:lnTo>
                    <a:pt x="162" y="48"/>
                  </a:lnTo>
                  <a:lnTo>
                    <a:pt x="144" y="24"/>
                  </a:lnTo>
                  <a:lnTo>
                    <a:pt x="120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84"/>
                  </a:lnTo>
                  <a:lnTo>
                    <a:pt x="6" y="114"/>
                  </a:lnTo>
                  <a:lnTo>
                    <a:pt x="24" y="145"/>
                  </a:lnTo>
                  <a:lnTo>
                    <a:pt x="48" y="163"/>
                  </a:lnTo>
                  <a:lnTo>
                    <a:pt x="84" y="169"/>
                  </a:lnTo>
                  <a:close/>
                </a:path>
              </a:pathLst>
            </a:custGeom>
            <a:solidFill>
              <a:srgbClr val="ffb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261480" y="1789200"/>
              <a:ext cx="86400" cy="75960"/>
            </a:xfrm>
            <a:custGeom>
              <a:avLst/>
              <a:gdLst/>
              <a:ahLst/>
              <a:rect l="l" t="t" r="r" b="b"/>
              <a:pathLst>
                <a:path w="169" h="168">
                  <a:moveTo>
                    <a:pt x="84" y="168"/>
                  </a:moveTo>
                  <a:lnTo>
                    <a:pt x="121" y="162"/>
                  </a:lnTo>
                  <a:lnTo>
                    <a:pt x="145" y="144"/>
                  </a:lnTo>
                  <a:lnTo>
                    <a:pt x="163" y="114"/>
                  </a:lnTo>
                  <a:lnTo>
                    <a:pt x="169" y="84"/>
                  </a:lnTo>
                  <a:lnTo>
                    <a:pt x="163" y="48"/>
                  </a:lnTo>
                  <a:lnTo>
                    <a:pt x="145" y="24"/>
                  </a:lnTo>
                  <a:lnTo>
                    <a:pt x="121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84"/>
                  </a:lnTo>
                  <a:lnTo>
                    <a:pt x="6" y="114"/>
                  </a:lnTo>
                  <a:lnTo>
                    <a:pt x="24" y="144"/>
                  </a:lnTo>
                  <a:lnTo>
                    <a:pt x="48" y="162"/>
                  </a:lnTo>
                  <a:lnTo>
                    <a:pt x="84" y="168"/>
                  </a:lnTo>
                  <a:close/>
                </a:path>
              </a:pathLst>
            </a:custGeom>
            <a:solidFill>
              <a:srgbClr val="3f0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43360" y="2036520"/>
              <a:ext cx="85680" cy="7848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174"/>
                  </a:moveTo>
                  <a:lnTo>
                    <a:pt x="120" y="168"/>
                  </a:lnTo>
                  <a:lnTo>
                    <a:pt x="144" y="150"/>
                  </a:lnTo>
                  <a:lnTo>
                    <a:pt x="162" y="120"/>
                  </a:lnTo>
                  <a:lnTo>
                    <a:pt x="168" y="90"/>
                  </a:lnTo>
                  <a:lnTo>
                    <a:pt x="162" y="54"/>
                  </a:lnTo>
                  <a:lnTo>
                    <a:pt x="144" y="24"/>
                  </a:lnTo>
                  <a:lnTo>
                    <a:pt x="120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54"/>
                  </a:lnTo>
                  <a:lnTo>
                    <a:pt x="0" y="90"/>
                  </a:lnTo>
                  <a:lnTo>
                    <a:pt x="6" y="120"/>
                  </a:lnTo>
                  <a:lnTo>
                    <a:pt x="24" y="150"/>
                  </a:lnTo>
                  <a:lnTo>
                    <a:pt x="48" y="168"/>
                  </a:lnTo>
                  <a:lnTo>
                    <a:pt x="84" y="174"/>
                  </a:lnTo>
                  <a:close/>
                </a:path>
              </a:pathLst>
            </a:custGeom>
            <a:solidFill>
              <a:srgbClr val="006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430280" y="1521000"/>
            <a:ext cx="2710080" cy="2271600"/>
            <a:chOff x="1430280" y="1521000"/>
            <a:chExt cx="2710080" cy="2271600"/>
          </a:xfrm>
        </p:grpSpPr>
        <p:sp>
          <p:nvSpPr>
            <p:cNvPr id="394" name=""/>
            <p:cNvSpPr/>
            <p:nvPr/>
          </p:nvSpPr>
          <p:spPr>
            <a:xfrm flipH="1">
              <a:off x="3525120" y="1521000"/>
              <a:ext cx="378360" cy="331920"/>
            </a:xfrm>
            <a:custGeom>
              <a:avLst/>
              <a:gdLst/>
              <a:ahLst/>
              <a:rect l="l" t="t" r="r" b="b"/>
              <a:pathLst>
                <a:path w="740" h="734">
                  <a:moveTo>
                    <a:pt x="199" y="0"/>
                  </a:moveTo>
                  <a:lnTo>
                    <a:pt x="409" y="150"/>
                  </a:lnTo>
                  <a:lnTo>
                    <a:pt x="656" y="60"/>
                  </a:lnTo>
                  <a:lnTo>
                    <a:pt x="578" y="307"/>
                  </a:lnTo>
                  <a:lnTo>
                    <a:pt x="740" y="511"/>
                  </a:lnTo>
                  <a:lnTo>
                    <a:pt x="482" y="517"/>
                  </a:lnTo>
                  <a:lnTo>
                    <a:pt x="337" y="734"/>
                  </a:lnTo>
                  <a:lnTo>
                    <a:pt x="253" y="487"/>
                  </a:lnTo>
                  <a:lnTo>
                    <a:pt x="0" y="421"/>
                  </a:lnTo>
                  <a:lnTo>
                    <a:pt x="211" y="259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3758760" y="2252880"/>
              <a:ext cx="381240" cy="323640"/>
            </a:xfrm>
            <a:custGeom>
              <a:avLst/>
              <a:gdLst/>
              <a:ahLst/>
              <a:rect l="l" t="t" r="r" b="b"/>
              <a:pathLst>
                <a:path w="746" h="716">
                  <a:moveTo>
                    <a:pt x="379" y="0"/>
                  </a:moveTo>
                  <a:lnTo>
                    <a:pt x="487" y="234"/>
                  </a:lnTo>
                  <a:lnTo>
                    <a:pt x="746" y="277"/>
                  </a:lnTo>
                  <a:lnTo>
                    <a:pt x="554" y="457"/>
                  </a:lnTo>
                  <a:lnTo>
                    <a:pt x="590" y="716"/>
                  </a:lnTo>
                  <a:lnTo>
                    <a:pt x="367" y="589"/>
                  </a:lnTo>
                  <a:lnTo>
                    <a:pt x="132" y="704"/>
                  </a:lnTo>
                  <a:lnTo>
                    <a:pt x="181" y="445"/>
                  </a:lnTo>
                  <a:lnTo>
                    <a:pt x="0" y="258"/>
                  </a:lnTo>
                  <a:lnTo>
                    <a:pt x="259" y="22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d60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1712520" y="1863720"/>
              <a:ext cx="378360" cy="334800"/>
            </a:xfrm>
            <a:custGeom>
              <a:avLst/>
              <a:gdLst/>
              <a:ahLst/>
              <a:rect l="l" t="t" r="r" b="b"/>
              <a:pathLst>
                <a:path w="740" h="740">
                  <a:moveTo>
                    <a:pt x="535" y="0"/>
                  </a:moveTo>
                  <a:lnTo>
                    <a:pt x="529" y="258"/>
                  </a:lnTo>
                  <a:lnTo>
                    <a:pt x="740" y="415"/>
                  </a:lnTo>
                  <a:lnTo>
                    <a:pt x="493" y="487"/>
                  </a:lnTo>
                  <a:lnTo>
                    <a:pt x="415" y="740"/>
                  </a:lnTo>
                  <a:lnTo>
                    <a:pt x="264" y="523"/>
                  </a:lnTo>
                  <a:lnTo>
                    <a:pt x="0" y="529"/>
                  </a:lnTo>
                  <a:lnTo>
                    <a:pt x="162" y="319"/>
                  </a:lnTo>
                  <a:lnTo>
                    <a:pt x="78" y="72"/>
                  </a:lnTo>
                  <a:lnTo>
                    <a:pt x="325" y="156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d60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2799360" y="2513880"/>
              <a:ext cx="375120" cy="334440"/>
            </a:xfrm>
            <a:custGeom>
              <a:avLst/>
              <a:gdLst/>
              <a:ahLst/>
              <a:rect l="l" t="t" r="r" b="b"/>
              <a:pathLst>
                <a:path w="734" h="740">
                  <a:moveTo>
                    <a:pt x="530" y="0"/>
                  </a:moveTo>
                  <a:lnTo>
                    <a:pt x="530" y="259"/>
                  </a:lnTo>
                  <a:lnTo>
                    <a:pt x="734" y="409"/>
                  </a:lnTo>
                  <a:lnTo>
                    <a:pt x="487" y="487"/>
                  </a:lnTo>
                  <a:lnTo>
                    <a:pt x="409" y="740"/>
                  </a:lnTo>
                  <a:lnTo>
                    <a:pt x="265" y="523"/>
                  </a:lnTo>
                  <a:lnTo>
                    <a:pt x="0" y="523"/>
                  </a:lnTo>
                  <a:lnTo>
                    <a:pt x="157" y="319"/>
                  </a:lnTo>
                  <a:lnTo>
                    <a:pt x="78" y="72"/>
                  </a:lnTo>
                  <a:lnTo>
                    <a:pt x="325" y="157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006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1429920" y="2701440"/>
              <a:ext cx="378360" cy="334440"/>
            </a:xfrm>
            <a:custGeom>
              <a:avLst/>
              <a:gdLst/>
              <a:ahLst/>
              <a:rect l="l" t="t" r="r" b="b"/>
              <a:pathLst>
                <a:path w="740" h="740">
                  <a:moveTo>
                    <a:pt x="205" y="0"/>
                  </a:moveTo>
                  <a:lnTo>
                    <a:pt x="415" y="157"/>
                  </a:lnTo>
                  <a:lnTo>
                    <a:pt x="662" y="72"/>
                  </a:lnTo>
                  <a:lnTo>
                    <a:pt x="584" y="319"/>
                  </a:lnTo>
                  <a:lnTo>
                    <a:pt x="740" y="529"/>
                  </a:lnTo>
                  <a:lnTo>
                    <a:pt x="475" y="523"/>
                  </a:lnTo>
                  <a:lnTo>
                    <a:pt x="331" y="740"/>
                  </a:lnTo>
                  <a:lnTo>
                    <a:pt x="247" y="493"/>
                  </a:lnTo>
                  <a:lnTo>
                    <a:pt x="0" y="415"/>
                  </a:lnTo>
                  <a:lnTo>
                    <a:pt x="211" y="265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ffb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3441960" y="2557440"/>
              <a:ext cx="310680" cy="1235160"/>
            </a:xfrm>
            <a:custGeom>
              <a:avLst/>
              <a:gdLst/>
              <a:ahLst/>
              <a:rect l="l" t="t" r="r" b="b"/>
              <a:pathLst>
                <a:path w="608" h="2731">
                  <a:moveTo>
                    <a:pt x="0" y="0"/>
                  </a:moveTo>
                  <a:lnTo>
                    <a:pt x="66" y="73"/>
                  </a:lnTo>
                  <a:lnTo>
                    <a:pt x="169" y="211"/>
                  </a:lnTo>
                  <a:lnTo>
                    <a:pt x="283" y="421"/>
                  </a:lnTo>
                  <a:lnTo>
                    <a:pt x="391" y="704"/>
                  </a:lnTo>
                  <a:lnTo>
                    <a:pt x="457" y="1071"/>
                  </a:lnTo>
                  <a:lnTo>
                    <a:pt x="463" y="1522"/>
                  </a:lnTo>
                  <a:lnTo>
                    <a:pt x="385" y="2075"/>
                  </a:lnTo>
                  <a:lnTo>
                    <a:pt x="199" y="2731"/>
                  </a:lnTo>
                  <a:lnTo>
                    <a:pt x="415" y="2232"/>
                  </a:lnTo>
                  <a:lnTo>
                    <a:pt x="548" y="1769"/>
                  </a:lnTo>
                  <a:lnTo>
                    <a:pt x="608" y="1348"/>
                  </a:lnTo>
                  <a:lnTo>
                    <a:pt x="596" y="975"/>
                  </a:lnTo>
                  <a:lnTo>
                    <a:pt x="517" y="650"/>
                  </a:lnTo>
                  <a:lnTo>
                    <a:pt x="391" y="379"/>
                  </a:lnTo>
                  <a:lnTo>
                    <a:pt x="217" y="1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3088080" y="2807640"/>
              <a:ext cx="412560" cy="873000"/>
            </a:xfrm>
            <a:custGeom>
              <a:avLst/>
              <a:gdLst/>
              <a:ahLst/>
              <a:rect l="l" t="t" r="r" b="b"/>
              <a:pathLst>
                <a:path w="807" h="1930">
                  <a:moveTo>
                    <a:pt x="807" y="0"/>
                  </a:moveTo>
                  <a:lnTo>
                    <a:pt x="716" y="138"/>
                  </a:lnTo>
                  <a:lnTo>
                    <a:pt x="608" y="355"/>
                  </a:lnTo>
                  <a:lnTo>
                    <a:pt x="494" y="619"/>
                  </a:lnTo>
                  <a:lnTo>
                    <a:pt x="373" y="908"/>
                  </a:lnTo>
                  <a:lnTo>
                    <a:pt x="259" y="1209"/>
                  </a:lnTo>
                  <a:lnTo>
                    <a:pt x="151" y="1497"/>
                  </a:lnTo>
                  <a:lnTo>
                    <a:pt x="67" y="1744"/>
                  </a:lnTo>
                  <a:lnTo>
                    <a:pt x="0" y="1930"/>
                  </a:lnTo>
                  <a:lnTo>
                    <a:pt x="109" y="1756"/>
                  </a:lnTo>
                  <a:lnTo>
                    <a:pt x="235" y="1527"/>
                  </a:lnTo>
                  <a:lnTo>
                    <a:pt x="373" y="1251"/>
                  </a:lnTo>
                  <a:lnTo>
                    <a:pt x="512" y="962"/>
                  </a:lnTo>
                  <a:lnTo>
                    <a:pt x="632" y="667"/>
                  </a:lnTo>
                  <a:lnTo>
                    <a:pt x="728" y="397"/>
                  </a:lnTo>
                  <a:lnTo>
                    <a:pt x="789" y="168"/>
                  </a:lnTo>
                  <a:lnTo>
                    <a:pt x="807" y="0"/>
                  </a:lnTo>
                  <a:close/>
                </a:path>
              </a:pathLst>
            </a:custGeom>
            <a:solidFill>
              <a:srgbClr val="d60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248280" y="1847520"/>
              <a:ext cx="338400" cy="1022760"/>
            </a:xfrm>
            <a:custGeom>
              <a:avLst/>
              <a:gdLst/>
              <a:ahLst/>
              <a:rect l="l" t="t" r="r" b="b"/>
              <a:pathLst>
                <a:path w="662" h="2261">
                  <a:moveTo>
                    <a:pt x="523" y="2261"/>
                  </a:moveTo>
                  <a:lnTo>
                    <a:pt x="547" y="2105"/>
                  </a:lnTo>
                  <a:lnTo>
                    <a:pt x="559" y="1858"/>
                  </a:lnTo>
                  <a:lnTo>
                    <a:pt x="553" y="1557"/>
                  </a:lnTo>
                  <a:lnTo>
                    <a:pt x="523" y="1215"/>
                  </a:lnTo>
                  <a:lnTo>
                    <a:pt x="463" y="866"/>
                  </a:lnTo>
                  <a:lnTo>
                    <a:pt x="361" y="529"/>
                  </a:lnTo>
                  <a:lnTo>
                    <a:pt x="211" y="234"/>
                  </a:lnTo>
                  <a:lnTo>
                    <a:pt x="0" y="0"/>
                  </a:lnTo>
                  <a:lnTo>
                    <a:pt x="186" y="108"/>
                  </a:lnTo>
                  <a:lnTo>
                    <a:pt x="349" y="294"/>
                  </a:lnTo>
                  <a:lnTo>
                    <a:pt x="481" y="547"/>
                  </a:lnTo>
                  <a:lnTo>
                    <a:pt x="584" y="848"/>
                  </a:lnTo>
                  <a:lnTo>
                    <a:pt x="644" y="1191"/>
                  </a:lnTo>
                  <a:lnTo>
                    <a:pt x="662" y="1545"/>
                  </a:lnTo>
                  <a:lnTo>
                    <a:pt x="620" y="1906"/>
                  </a:lnTo>
                  <a:lnTo>
                    <a:pt x="523" y="2261"/>
                  </a:lnTo>
                  <a:close/>
                </a:path>
              </a:pathLst>
            </a:custGeom>
            <a:solidFill>
              <a:srgbClr val="ffb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2174760" y="2016000"/>
              <a:ext cx="587520" cy="500400"/>
            </a:xfrm>
            <a:custGeom>
              <a:avLst/>
              <a:gdLst/>
              <a:ahLst/>
              <a:rect l="l" t="t" r="r" b="b"/>
              <a:pathLst>
                <a:path w="1149" h="1106">
                  <a:moveTo>
                    <a:pt x="1149" y="0"/>
                  </a:moveTo>
                  <a:lnTo>
                    <a:pt x="1077" y="12"/>
                  </a:lnTo>
                  <a:lnTo>
                    <a:pt x="999" y="36"/>
                  </a:lnTo>
                  <a:lnTo>
                    <a:pt x="921" y="66"/>
                  </a:lnTo>
                  <a:lnTo>
                    <a:pt x="842" y="108"/>
                  </a:lnTo>
                  <a:lnTo>
                    <a:pt x="758" y="156"/>
                  </a:lnTo>
                  <a:lnTo>
                    <a:pt x="680" y="210"/>
                  </a:lnTo>
                  <a:lnTo>
                    <a:pt x="602" y="270"/>
                  </a:lnTo>
                  <a:lnTo>
                    <a:pt x="524" y="342"/>
                  </a:lnTo>
                  <a:lnTo>
                    <a:pt x="445" y="415"/>
                  </a:lnTo>
                  <a:lnTo>
                    <a:pt x="367" y="499"/>
                  </a:lnTo>
                  <a:lnTo>
                    <a:pt x="295" y="589"/>
                  </a:lnTo>
                  <a:lnTo>
                    <a:pt x="229" y="679"/>
                  </a:lnTo>
                  <a:lnTo>
                    <a:pt x="163" y="781"/>
                  </a:lnTo>
                  <a:lnTo>
                    <a:pt x="103" y="884"/>
                  </a:lnTo>
                  <a:lnTo>
                    <a:pt x="48" y="992"/>
                  </a:lnTo>
                  <a:lnTo>
                    <a:pt x="0" y="1106"/>
                  </a:lnTo>
                  <a:lnTo>
                    <a:pt x="36" y="1064"/>
                  </a:lnTo>
                  <a:lnTo>
                    <a:pt x="84" y="1016"/>
                  </a:lnTo>
                  <a:lnTo>
                    <a:pt x="133" y="956"/>
                  </a:lnTo>
                  <a:lnTo>
                    <a:pt x="187" y="890"/>
                  </a:lnTo>
                  <a:lnTo>
                    <a:pt x="247" y="818"/>
                  </a:lnTo>
                  <a:lnTo>
                    <a:pt x="313" y="739"/>
                  </a:lnTo>
                  <a:lnTo>
                    <a:pt x="379" y="661"/>
                  </a:lnTo>
                  <a:lnTo>
                    <a:pt x="451" y="577"/>
                  </a:lnTo>
                  <a:lnTo>
                    <a:pt x="530" y="493"/>
                  </a:lnTo>
                  <a:lnTo>
                    <a:pt x="608" y="415"/>
                  </a:lnTo>
                  <a:lnTo>
                    <a:pt x="692" y="330"/>
                  </a:lnTo>
                  <a:lnTo>
                    <a:pt x="776" y="252"/>
                  </a:lnTo>
                  <a:lnTo>
                    <a:pt x="867" y="180"/>
                  </a:lnTo>
                  <a:lnTo>
                    <a:pt x="957" y="114"/>
                  </a:lnTo>
                  <a:lnTo>
                    <a:pt x="1053" y="54"/>
                  </a:lnTo>
                  <a:lnTo>
                    <a:pt x="1149" y="0"/>
                  </a:lnTo>
                  <a:close/>
                </a:path>
              </a:pathLst>
            </a:custGeom>
            <a:solidFill>
              <a:srgbClr val="00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860480" y="2786040"/>
              <a:ext cx="1227240" cy="443160"/>
            </a:xfrm>
            <a:custGeom>
              <a:avLst/>
              <a:gdLst/>
              <a:ahLst/>
              <a:rect l="l" t="t" r="r" b="b"/>
              <a:pathLst>
                <a:path w="2400" h="980">
                  <a:moveTo>
                    <a:pt x="0" y="980"/>
                  </a:moveTo>
                  <a:lnTo>
                    <a:pt x="60" y="920"/>
                  </a:lnTo>
                  <a:lnTo>
                    <a:pt x="132" y="848"/>
                  </a:lnTo>
                  <a:lnTo>
                    <a:pt x="216" y="769"/>
                  </a:lnTo>
                  <a:lnTo>
                    <a:pt x="312" y="685"/>
                  </a:lnTo>
                  <a:lnTo>
                    <a:pt x="415" y="601"/>
                  </a:lnTo>
                  <a:lnTo>
                    <a:pt x="535" y="517"/>
                  </a:lnTo>
                  <a:lnTo>
                    <a:pt x="667" y="427"/>
                  </a:lnTo>
                  <a:lnTo>
                    <a:pt x="812" y="348"/>
                  </a:lnTo>
                  <a:lnTo>
                    <a:pt x="968" y="270"/>
                  </a:lnTo>
                  <a:lnTo>
                    <a:pt x="1137" y="192"/>
                  </a:lnTo>
                  <a:lnTo>
                    <a:pt x="1317" y="132"/>
                  </a:lnTo>
                  <a:lnTo>
                    <a:pt x="1510" y="78"/>
                  </a:lnTo>
                  <a:lnTo>
                    <a:pt x="1714" y="36"/>
                  </a:lnTo>
                  <a:lnTo>
                    <a:pt x="1931" y="12"/>
                  </a:lnTo>
                  <a:lnTo>
                    <a:pt x="2159" y="0"/>
                  </a:lnTo>
                  <a:lnTo>
                    <a:pt x="2400" y="6"/>
                  </a:lnTo>
                  <a:lnTo>
                    <a:pt x="2310" y="18"/>
                  </a:lnTo>
                  <a:lnTo>
                    <a:pt x="2207" y="36"/>
                  </a:lnTo>
                  <a:lnTo>
                    <a:pt x="2093" y="60"/>
                  </a:lnTo>
                  <a:lnTo>
                    <a:pt x="1979" y="84"/>
                  </a:lnTo>
                  <a:lnTo>
                    <a:pt x="1846" y="120"/>
                  </a:lnTo>
                  <a:lnTo>
                    <a:pt x="1714" y="156"/>
                  </a:lnTo>
                  <a:lnTo>
                    <a:pt x="1570" y="198"/>
                  </a:lnTo>
                  <a:lnTo>
                    <a:pt x="1419" y="246"/>
                  </a:lnTo>
                  <a:lnTo>
                    <a:pt x="1257" y="306"/>
                  </a:lnTo>
                  <a:lnTo>
                    <a:pt x="1094" y="373"/>
                  </a:lnTo>
                  <a:lnTo>
                    <a:pt x="926" y="451"/>
                  </a:lnTo>
                  <a:lnTo>
                    <a:pt x="752" y="535"/>
                  </a:lnTo>
                  <a:lnTo>
                    <a:pt x="565" y="631"/>
                  </a:lnTo>
                  <a:lnTo>
                    <a:pt x="385" y="733"/>
                  </a:lnTo>
                  <a:lnTo>
                    <a:pt x="192" y="854"/>
                  </a:lnTo>
                  <a:lnTo>
                    <a:pt x="0" y="980"/>
                  </a:lnTo>
                  <a:close/>
                </a:path>
              </a:pathLst>
            </a:custGeom>
            <a:solidFill>
              <a:srgbClr val="00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3909960" y="2013480"/>
              <a:ext cx="85680" cy="75960"/>
            </a:xfrm>
            <a:custGeom>
              <a:avLst/>
              <a:gdLst/>
              <a:ahLst/>
              <a:rect l="l" t="t" r="r" b="b"/>
              <a:pathLst>
                <a:path w="168" h="168">
                  <a:moveTo>
                    <a:pt x="84" y="168"/>
                  </a:moveTo>
                  <a:lnTo>
                    <a:pt x="120" y="162"/>
                  </a:lnTo>
                  <a:lnTo>
                    <a:pt x="144" y="144"/>
                  </a:lnTo>
                  <a:lnTo>
                    <a:pt x="162" y="120"/>
                  </a:lnTo>
                  <a:lnTo>
                    <a:pt x="168" y="84"/>
                  </a:lnTo>
                  <a:lnTo>
                    <a:pt x="162" y="48"/>
                  </a:lnTo>
                  <a:lnTo>
                    <a:pt x="144" y="24"/>
                  </a:lnTo>
                  <a:lnTo>
                    <a:pt x="120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84"/>
                  </a:lnTo>
                  <a:lnTo>
                    <a:pt x="6" y="120"/>
                  </a:lnTo>
                  <a:lnTo>
                    <a:pt x="24" y="144"/>
                  </a:lnTo>
                  <a:lnTo>
                    <a:pt x="48" y="162"/>
                  </a:lnTo>
                  <a:lnTo>
                    <a:pt x="84" y="168"/>
                  </a:lnTo>
                  <a:close/>
                </a:path>
              </a:pathLst>
            </a:custGeom>
            <a:solidFill>
              <a:srgbClr val="3f0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3918960" y="2755800"/>
              <a:ext cx="88920" cy="78840"/>
            </a:xfrm>
            <a:custGeom>
              <a:avLst/>
              <a:gdLst/>
              <a:ahLst/>
              <a:rect l="l" t="t" r="r" b="b"/>
              <a:pathLst>
                <a:path w="174" h="175">
                  <a:moveTo>
                    <a:pt x="90" y="175"/>
                  </a:moveTo>
                  <a:lnTo>
                    <a:pt x="120" y="169"/>
                  </a:lnTo>
                  <a:lnTo>
                    <a:pt x="150" y="145"/>
                  </a:lnTo>
                  <a:lnTo>
                    <a:pt x="168" y="121"/>
                  </a:lnTo>
                  <a:lnTo>
                    <a:pt x="174" y="85"/>
                  </a:lnTo>
                  <a:lnTo>
                    <a:pt x="168" y="55"/>
                  </a:lnTo>
                  <a:lnTo>
                    <a:pt x="150" y="25"/>
                  </a:lnTo>
                  <a:lnTo>
                    <a:pt x="120" y="7"/>
                  </a:lnTo>
                  <a:lnTo>
                    <a:pt x="90" y="0"/>
                  </a:lnTo>
                  <a:lnTo>
                    <a:pt x="54" y="7"/>
                  </a:lnTo>
                  <a:lnTo>
                    <a:pt x="30" y="25"/>
                  </a:lnTo>
                  <a:lnTo>
                    <a:pt x="6" y="55"/>
                  </a:lnTo>
                  <a:lnTo>
                    <a:pt x="0" y="85"/>
                  </a:lnTo>
                  <a:lnTo>
                    <a:pt x="6" y="121"/>
                  </a:lnTo>
                  <a:lnTo>
                    <a:pt x="30" y="145"/>
                  </a:lnTo>
                  <a:lnTo>
                    <a:pt x="54" y="169"/>
                  </a:lnTo>
                  <a:lnTo>
                    <a:pt x="90" y="175"/>
                  </a:lnTo>
                  <a:close/>
                </a:path>
              </a:pathLst>
            </a:custGeom>
            <a:solidFill>
              <a:srgbClr val="00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2442240" y="2630880"/>
              <a:ext cx="89280" cy="75960"/>
            </a:xfrm>
            <a:custGeom>
              <a:avLst/>
              <a:gdLst/>
              <a:ahLst/>
              <a:rect l="l" t="t" r="r" b="b"/>
              <a:pathLst>
                <a:path w="175" h="168">
                  <a:moveTo>
                    <a:pt x="85" y="168"/>
                  </a:moveTo>
                  <a:lnTo>
                    <a:pt x="121" y="162"/>
                  </a:lnTo>
                  <a:lnTo>
                    <a:pt x="151" y="144"/>
                  </a:lnTo>
                  <a:lnTo>
                    <a:pt x="169" y="120"/>
                  </a:lnTo>
                  <a:lnTo>
                    <a:pt x="175" y="84"/>
                  </a:lnTo>
                  <a:lnTo>
                    <a:pt x="169" y="48"/>
                  </a:lnTo>
                  <a:lnTo>
                    <a:pt x="151" y="24"/>
                  </a:lnTo>
                  <a:lnTo>
                    <a:pt x="121" y="6"/>
                  </a:lnTo>
                  <a:lnTo>
                    <a:pt x="85" y="0"/>
                  </a:lnTo>
                  <a:lnTo>
                    <a:pt x="55" y="6"/>
                  </a:lnTo>
                  <a:lnTo>
                    <a:pt x="25" y="24"/>
                  </a:lnTo>
                  <a:lnTo>
                    <a:pt x="6" y="48"/>
                  </a:lnTo>
                  <a:lnTo>
                    <a:pt x="0" y="84"/>
                  </a:lnTo>
                  <a:lnTo>
                    <a:pt x="6" y="120"/>
                  </a:lnTo>
                  <a:lnTo>
                    <a:pt x="25" y="144"/>
                  </a:lnTo>
                  <a:lnTo>
                    <a:pt x="55" y="162"/>
                  </a:lnTo>
                  <a:lnTo>
                    <a:pt x="85" y="168"/>
                  </a:lnTo>
                  <a:close/>
                </a:path>
              </a:pathLst>
            </a:custGeom>
            <a:solidFill>
              <a:srgbClr val="d60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1922040" y="2968560"/>
              <a:ext cx="86040" cy="78480"/>
            </a:xfrm>
            <a:custGeom>
              <a:avLst/>
              <a:gdLst/>
              <a:ahLst/>
              <a:rect l="l" t="t" r="r" b="b"/>
              <a:pathLst>
                <a:path w="169" h="174">
                  <a:moveTo>
                    <a:pt x="84" y="174"/>
                  </a:moveTo>
                  <a:lnTo>
                    <a:pt x="114" y="168"/>
                  </a:lnTo>
                  <a:lnTo>
                    <a:pt x="145" y="144"/>
                  </a:lnTo>
                  <a:lnTo>
                    <a:pt x="163" y="120"/>
                  </a:lnTo>
                  <a:lnTo>
                    <a:pt x="169" y="84"/>
                  </a:lnTo>
                  <a:lnTo>
                    <a:pt x="163" y="54"/>
                  </a:lnTo>
                  <a:lnTo>
                    <a:pt x="145" y="24"/>
                  </a:lnTo>
                  <a:lnTo>
                    <a:pt x="114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54"/>
                  </a:lnTo>
                  <a:lnTo>
                    <a:pt x="0" y="84"/>
                  </a:lnTo>
                  <a:lnTo>
                    <a:pt x="6" y="120"/>
                  </a:lnTo>
                  <a:lnTo>
                    <a:pt x="24" y="144"/>
                  </a:lnTo>
                  <a:lnTo>
                    <a:pt x="48" y="168"/>
                  </a:lnTo>
                  <a:lnTo>
                    <a:pt x="84" y="174"/>
                  </a:lnTo>
                  <a:close/>
                </a:path>
              </a:pathLst>
            </a:custGeom>
            <a:solidFill>
              <a:srgbClr val="006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2968560" y="3273120"/>
              <a:ext cx="85680" cy="76320"/>
            </a:xfrm>
            <a:custGeom>
              <a:avLst/>
              <a:gdLst/>
              <a:ahLst/>
              <a:rect l="l" t="t" r="r" b="b"/>
              <a:pathLst>
                <a:path w="168" h="169">
                  <a:moveTo>
                    <a:pt x="84" y="169"/>
                  </a:moveTo>
                  <a:lnTo>
                    <a:pt x="120" y="163"/>
                  </a:lnTo>
                  <a:lnTo>
                    <a:pt x="144" y="145"/>
                  </a:lnTo>
                  <a:lnTo>
                    <a:pt x="162" y="114"/>
                  </a:lnTo>
                  <a:lnTo>
                    <a:pt x="168" y="84"/>
                  </a:lnTo>
                  <a:lnTo>
                    <a:pt x="162" y="48"/>
                  </a:lnTo>
                  <a:lnTo>
                    <a:pt x="144" y="24"/>
                  </a:lnTo>
                  <a:lnTo>
                    <a:pt x="120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84"/>
                  </a:lnTo>
                  <a:lnTo>
                    <a:pt x="6" y="114"/>
                  </a:lnTo>
                  <a:lnTo>
                    <a:pt x="24" y="145"/>
                  </a:lnTo>
                  <a:lnTo>
                    <a:pt x="48" y="163"/>
                  </a:lnTo>
                  <a:lnTo>
                    <a:pt x="84" y="169"/>
                  </a:lnTo>
                  <a:close/>
                </a:path>
              </a:pathLst>
            </a:custGeom>
            <a:solidFill>
              <a:srgbClr val="ffb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297520" y="1833840"/>
              <a:ext cx="86400" cy="75960"/>
            </a:xfrm>
            <a:custGeom>
              <a:avLst/>
              <a:gdLst/>
              <a:ahLst/>
              <a:rect l="l" t="t" r="r" b="b"/>
              <a:pathLst>
                <a:path w="169" h="168">
                  <a:moveTo>
                    <a:pt x="84" y="168"/>
                  </a:moveTo>
                  <a:lnTo>
                    <a:pt x="121" y="162"/>
                  </a:lnTo>
                  <a:lnTo>
                    <a:pt x="145" y="144"/>
                  </a:lnTo>
                  <a:lnTo>
                    <a:pt x="163" y="114"/>
                  </a:lnTo>
                  <a:lnTo>
                    <a:pt x="169" y="84"/>
                  </a:lnTo>
                  <a:lnTo>
                    <a:pt x="163" y="48"/>
                  </a:lnTo>
                  <a:lnTo>
                    <a:pt x="145" y="24"/>
                  </a:lnTo>
                  <a:lnTo>
                    <a:pt x="121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84"/>
                  </a:lnTo>
                  <a:lnTo>
                    <a:pt x="6" y="114"/>
                  </a:lnTo>
                  <a:lnTo>
                    <a:pt x="24" y="144"/>
                  </a:lnTo>
                  <a:lnTo>
                    <a:pt x="48" y="162"/>
                  </a:lnTo>
                  <a:lnTo>
                    <a:pt x="84" y="168"/>
                  </a:lnTo>
                  <a:close/>
                </a:path>
              </a:pathLst>
            </a:custGeom>
            <a:solidFill>
              <a:srgbClr val="3f0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916360" y="2081160"/>
              <a:ext cx="85680" cy="7848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174"/>
                  </a:moveTo>
                  <a:lnTo>
                    <a:pt x="120" y="168"/>
                  </a:lnTo>
                  <a:lnTo>
                    <a:pt x="144" y="150"/>
                  </a:lnTo>
                  <a:lnTo>
                    <a:pt x="162" y="120"/>
                  </a:lnTo>
                  <a:lnTo>
                    <a:pt x="168" y="90"/>
                  </a:lnTo>
                  <a:lnTo>
                    <a:pt x="162" y="54"/>
                  </a:lnTo>
                  <a:lnTo>
                    <a:pt x="144" y="24"/>
                  </a:lnTo>
                  <a:lnTo>
                    <a:pt x="120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54"/>
                  </a:lnTo>
                  <a:lnTo>
                    <a:pt x="0" y="90"/>
                  </a:lnTo>
                  <a:lnTo>
                    <a:pt x="6" y="120"/>
                  </a:lnTo>
                  <a:lnTo>
                    <a:pt x="24" y="150"/>
                  </a:lnTo>
                  <a:lnTo>
                    <a:pt x="48" y="168"/>
                  </a:lnTo>
                  <a:lnTo>
                    <a:pt x="84" y="174"/>
                  </a:lnTo>
                  <a:close/>
                </a:path>
              </a:pathLst>
            </a:custGeom>
            <a:solidFill>
              <a:srgbClr val="006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114000" y="-290880"/>
            <a:ext cx="2857680" cy="2545920"/>
            <a:chOff x="3114000" y="-290880"/>
            <a:chExt cx="2857680" cy="2545920"/>
          </a:xfrm>
        </p:grpSpPr>
        <p:sp>
          <p:nvSpPr>
            <p:cNvPr id="412" name=""/>
            <p:cNvSpPr/>
            <p:nvPr/>
          </p:nvSpPr>
          <p:spPr>
            <a:xfrm rot="20299800">
              <a:off x="3161880" y="117720"/>
              <a:ext cx="378000" cy="331920"/>
            </a:xfrm>
            <a:custGeom>
              <a:avLst/>
              <a:gdLst/>
              <a:ahLst/>
              <a:rect l="l" t="t" r="r" b="b"/>
              <a:pathLst>
                <a:path w="740" h="734">
                  <a:moveTo>
                    <a:pt x="199" y="0"/>
                  </a:moveTo>
                  <a:lnTo>
                    <a:pt x="409" y="150"/>
                  </a:lnTo>
                  <a:lnTo>
                    <a:pt x="656" y="60"/>
                  </a:lnTo>
                  <a:lnTo>
                    <a:pt x="578" y="307"/>
                  </a:lnTo>
                  <a:lnTo>
                    <a:pt x="740" y="511"/>
                  </a:lnTo>
                  <a:lnTo>
                    <a:pt x="482" y="517"/>
                  </a:lnTo>
                  <a:lnTo>
                    <a:pt x="337" y="734"/>
                  </a:lnTo>
                  <a:lnTo>
                    <a:pt x="253" y="487"/>
                  </a:lnTo>
                  <a:lnTo>
                    <a:pt x="0" y="421"/>
                  </a:lnTo>
                  <a:lnTo>
                    <a:pt x="211" y="259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20299800">
              <a:off x="3210840" y="884880"/>
              <a:ext cx="381240" cy="323640"/>
            </a:xfrm>
            <a:custGeom>
              <a:avLst/>
              <a:gdLst/>
              <a:ahLst/>
              <a:rect l="l" t="t" r="r" b="b"/>
              <a:pathLst>
                <a:path w="746" h="716">
                  <a:moveTo>
                    <a:pt x="379" y="0"/>
                  </a:moveTo>
                  <a:lnTo>
                    <a:pt x="487" y="234"/>
                  </a:lnTo>
                  <a:lnTo>
                    <a:pt x="746" y="277"/>
                  </a:lnTo>
                  <a:lnTo>
                    <a:pt x="554" y="457"/>
                  </a:lnTo>
                  <a:lnTo>
                    <a:pt x="590" y="716"/>
                  </a:lnTo>
                  <a:lnTo>
                    <a:pt x="367" y="589"/>
                  </a:lnTo>
                  <a:lnTo>
                    <a:pt x="132" y="704"/>
                  </a:lnTo>
                  <a:lnTo>
                    <a:pt x="181" y="445"/>
                  </a:lnTo>
                  <a:lnTo>
                    <a:pt x="0" y="258"/>
                  </a:lnTo>
                  <a:lnTo>
                    <a:pt x="259" y="22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d60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20299800">
              <a:off x="4973040" y="-232560"/>
              <a:ext cx="378000" cy="334800"/>
            </a:xfrm>
            <a:custGeom>
              <a:avLst/>
              <a:gdLst/>
              <a:ahLst/>
              <a:rect l="l" t="t" r="r" b="b"/>
              <a:pathLst>
                <a:path w="740" h="740">
                  <a:moveTo>
                    <a:pt x="535" y="0"/>
                  </a:moveTo>
                  <a:lnTo>
                    <a:pt x="529" y="258"/>
                  </a:lnTo>
                  <a:lnTo>
                    <a:pt x="740" y="415"/>
                  </a:lnTo>
                  <a:lnTo>
                    <a:pt x="493" y="487"/>
                  </a:lnTo>
                  <a:lnTo>
                    <a:pt x="415" y="740"/>
                  </a:lnTo>
                  <a:lnTo>
                    <a:pt x="264" y="523"/>
                  </a:lnTo>
                  <a:lnTo>
                    <a:pt x="0" y="529"/>
                  </a:lnTo>
                  <a:lnTo>
                    <a:pt x="162" y="319"/>
                  </a:lnTo>
                  <a:lnTo>
                    <a:pt x="78" y="72"/>
                  </a:lnTo>
                  <a:lnTo>
                    <a:pt x="325" y="156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d60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20299800">
              <a:off x="4206960" y="771480"/>
              <a:ext cx="375120" cy="334800"/>
            </a:xfrm>
            <a:custGeom>
              <a:avLst/>
              <a:gdLst/>
              <a:ahLst/>
              <a:rect l="l" t="t" r="r" b="b"/>
              <a:pathLst>
                <a:path w="734" h="740">
                  <a:moveTo>
                    <a:pt x="530" y="0"/>
                  </a:moveTo>
                  <a:lnTo>
                    <a:pt x="530" y="259"/>
                  </a:lnTo>
                  <a:lnTo>
                    <a:pt x="734" y="409"/>
                  </a:lnTo>
                  <a:lnTo>
                    <a:pt x="487" y="487"/>
                  </a:lnTo>
                  <a:lnTo>
                    <a:pt x="409" y="740"/>
                  </a:lnTo>
                  <a:lnTo>
                    <a:pt x="265" y="523"/>
                  </a:lnTo>
                  <a:lnTo>
                    <a:pt x="0" y="523"/>
                  </a:lnTo>
                  <a:lnTo>
                    <a:pt x="157" y="319"/>
                  </a:lnTo>
                  <a:lnTo>
                    <a:pt x="78" y="72"/>
                  </a:lnTo>
                  <a:lnTo>
                    <a:pt x="325" y="157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006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20299800">
              <a:off x="5545080" y="441360"/>
              <a:ext cx="378000" cy="334800"/>
            </a:xfrm>
            <a:custGeom>
              <a:avLst/>
              <a:gdLst/>
              <a:ahLst/>
              <a:rect l="l" t="t" r="r" b="b"/>
              <a:pathLst>
                <a:path w="740" h="740">
                  <a:moveTo>
                    <a:pt x="205" y="0"/>
                  </a:moveTo>
                  <a:lnTo>
                    <a:pt x="415" y="157"/>
                  </a:lnTo>
                  <a:lnTo>
                    <a:pt x="662" y="72"/>
                  </a:lnTo>
                  <a:lnTo>
                    <a:pt x="584" y="319"/>
                  </a:lnTo>
                  <a:lnTo>
                    <a:pt x="740" y="529"/>
                  </a:lnTo>
                  <a:lnTo>
                    <a:pt x="475" y="523"/>
                  </a:lnTo>
                  <a:lnTo>
                    <a:pt x="331" y="740"/>
                  </a:lnTo>
                  <a:lnTo>
                    <a:pt x="247" y="493"/>
                  </a:lnTo>
                  <a:lnTo>
                    <a:pt x="0" y="415"/>
                  </a:lnTo>
                  <a:lnTo>
                    <a:pt x="211" y="265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ffb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20299800">
              <a:off x="3854160" y="1005840"/>
              <a:ext cx="310680" cy="1235520"/>
            </a:xfrm>
            <a:custGeom>
              <a:avLst/>
              <a:gdLst/>
              <a:ahLst/>
              <a:rect l="l" t="t" r="r" b="b"/>
              <a:pathLst>
                <a:path w="608" h="2731">
                  <a:moveTo>
                    <a:pt x="0" y="0"/>
                  </a:moveTo>
                  <a:lnTo>
                    <a:pt x="66" y="73"/>
                  </a:lnTo>
                  <a:lnTo>
                    <a:pt x="169" y="211"/>
                  </a:lnTo>
                  <a:lnTo>
                    <a:pt x="283" y="421"/>
                  </a:lnTo>
                  <a:lnTo>
                    <a:pt x="391" y="704"/>
                  </a:lnTo>
                  <a:lnTo>
                    <a:pt x="457" y="1071"/>
                  </a:lnTo>
                  <a:lnTo>
                    <a:pt x="463" y="1522"/>
                  </a:lnTo>
                  <a:lnTo>
                    <a:pt x="385" y="2075"/>
                  </a:lnTo>
                  <a:lnTo>
                    <a:pt x="199" y="2731"/>
                  </a:lnTo>
                  <a:lnTo>
                    <a:pt x="415" y="2232"/>
                  </a:lnTo>
                  <a:lnTo>
                    <a:pt x="548" y="1769"/>
                  </a:lnTo>
                  <a:lnTo>
                    <a:pt x="608" y="1348"/>
                  </a:lnTo>
                  <a:lnTo>
                    <a:pt x="596" y="975"/>
                  </a:lnTo>
                  <a:lnTo>
                    <a:pt x="517" y="650"/>
                  </a:lnTo>
                  <a:lnTo>
                    <a:pt x="391" y="379"/>
                  </a:lnTo>
                  <a:lnTo>
                    <a:pt x="217" y="1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20299800">
              <a:off x="4110480" y="1139400"/>
              <a:ext cx="412560" cy="873000"/>
            </a:xfrm>
            <a:custGeom>
              <a:avLst/>
              <a:gdLst/>
              <a:ahLst/>
              <a:rect l="l" t="t" r="r" b="b"/>
              <a:pathLst>
                <a:path w="807" h="1930">
                  <a:moveTo>
                    <a:pt x="807" y="0"/>
                  </a:moveTo>
                  <a:lnTo>
                    <a:pt x="716" y="138"/>
                  </a:lnTo>
                  <a:lnTo>
                    <a:pt x="608" y="355"/>
                  </a:lnTo>
                  <a:lnTo>
                    <a:pt x="494" y="619"/>
                  </a:lnTo>
                  <a:lnTo>
                    <a:pt x="373" y="908"/>
                  </a:lnTo>
                  <a:lnTo>
                    <a:pt x="259" y="1209"/>
                  </a:lnTo>
                  <a:lnTo>
                    <a:pt x="151" y="1497"/>
                  </a:lnTo>
                  <a:lnTo>
                    <a:pt x="67" y="1744"/>
                  </a:lnTo>
                  <a:lnTo>
                    <a:pt x="0" y="1930"/>
                  </a:lnTo>
                  <a:lnTo>
                    <a:pt x="109" y="1756"/>
                  </a:lnTo>
                  <a:lnTo>
                    <a:pt x="235" y="1527"/>
                  </a:lnTo>
                  <a:lnTo>
                    <a:pt x="373" y="1251"/>
                  </a:lnTo>
                  <a:lnTo>
                    <a:pt x="512" y="962"/>
                  </a:lnTo>
                  <a:lnTo>
                    <a:pt x="632" y="667"/>
                  </a:lnTo>
                  <a:lnTo>
                    <a:pt x="728" y="397"/>
                  </a:lnTo>
                  <a:lnTo>
                    <a:pt x="789" y="168"/>
                  </a:lnTo>
                  <a:lnTo>
                    <a:pt x="807" y="0"/>
                  </a:lnTo>
                  <a:close/>
                </a:path>
              </a:pathLst>
            </a:custGeom>
            <a:solidFill>
              <a:srgbClr val="d60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20299800">
              <a:off x="3706200" y="286920"/>
              <a:ext cx="338400" cy="1022760"/>
            </a:xfrm>
            <a:custGeom>
              <a:avLst/>
              <a:gdLst/>
              <a:ahLst/>
              <a:rect l="l" t="t" r="r" b="b"/>
              <a:pathLst>
                <a:path w="662" h="2261">
                  <a:moveTo>
                    <a:pt x="523" y="2261"/>
                  </a:moveTo>
                  <a:lnTo>
                    <a:pt x="547" y="2105"/>
                  </a:lnTo>
                  <a:lnTo>
                    <a:pt x="559" y="1858"/>
                  </a:lnTo>
                  <a:lnTo>
                    <a:pt x="553" y="1557"/>
                  </a:lnTo>
                  <a:lnTo>
                    <a:pt x="523" y="1215"/>
                  </a:lnTo>
                  <a:lnTo>
                    <a:pt x="463" y="866"/>
                  </a:lnTo>
                  <a:lnTo>
                    <a:pt x="361" y="529"/>
                  </a:lnTo>
                  <a:lnTo>
                    <a:pt x="211" y="234"/>
                  </a:lnTo>
                  <a:lnTo>
                    <a:pt x="0" y="0"/>
                  </a:lnTo>
                  <a:lnTo>
                    <a:pt x="186" y="108"/>
                  </a:lnTo>
                  <a:lnTo>
                    <a:pt x="349" y="294"/>
                  </a:lnTo>
                  <a:lnTo>
                    <a:pt x="481" y="547"/>
                  </a:lnTo>
                  <a:lnTo>
                    <a:pt x="584" y="848"/>
                  </a:lnTo>
                  <a:lnTo>
                    <a:pt x="644" y="1191"/>
                  </a:lnTo>
                  <a:lnTo>
                    <a:pt x="662" y="1545"/>
                  </a:lnTo>
                  <a:lnTo>
                    <a:pt x="620" y="1906"/>
                  </a:lnTo>
                  <a:lnTo>
                    <a:pt x="523" y="2261"/>
                  </a:lnTo>
                  <a:close/>
                </a:path>
              </a:pathLst>
            </a:custGeom>
            <a:solidFill>
              <a:srgbClr val="ffb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20299800">
              <a:off x="4429080" y="111960"/>
              <a:ext cx="587520" cy="500400"/>
            </a:xfrm>
            <a:custGeom>
              <a:avLst/>
              <a:gdLst/>
              <a:ahLst/>
              <a:rect l="l" t="t" r="r" b="b"/>
              <a:pathLst>
                <a:path w="1149" h="1106">
                  <a:moveTo>
                    <a:pt x="1149" y="0"/>
                  </a:moveTo>
                  <a:lnTo>
                    <a:pt x="1077" y="12"/>
                  </a:lnTo>
                  <a:lnTo>
                    <a:pt x="999" y="36"/>
                  </a:lnTo>
                  <a:lnTo>
                    <a:pt x="921" y="66"/>
                  </a:lnTo>
                  <a:lnTo>
                    <a:pt x="842" y="108"/>
                  </a:lnTo>
                  <a:lnTo>
                    <a:pt x="758" y="156"/>
                  </a:lnTo>
                  <a:lnTo>
                    <a:pt x="680" y="210"/>
                  </a:lnTo>
                  <a:lnTo>
                    <a:pt x="602" y="270"/>
                  </a:lnTo>
                  <a:lnTo>
                    <a:pt x="524" y="342"/>
                  </a:lnTo>
                  <a:lnTo>
                    <a:pt x="445" y="415"/>
                  </a:lnTo>
                  <a:lnTo>
                    <a:pt x="367" y="499"/>
                  </a:lnTo>
                  <a:lnTo>
                    <a:pt x="295" y="589"/>
                  </a:lnTo>
                  <a:lnTo>
                    <a:pt x="229" y="679"/>
                  </a:lnTo>
                  <a:lnTo>
                    <a:pt x="163" y="781"/>
                  </a:lnTo>
                  <a:lnTo>
                    <a:pt x="103" y="884"/>
                  </a:lnTo>
                  <a:lnTo>
                    <a:pt x="48" y="992"/>
                  </a:lnTo>
                  <a:lnTo>
                    <a:pt x="0" y="1106"/>
                  </a:lnTo>
                  <a:lnTo>
                    <a:pt x="36" y="1064"/>
                  </a:lnTo>
                  <a:lnTo>
                    <a:pt x="84" y="1016"/>
                  </a:lnTo>
                  <a:lnTo>
                    <a:pt x="133" y="956"/>
                  </a:lnTo>
                  <a:lnTo>
                    <a:pt x="187" y="890"/>
                  </a:lnTo>
                  <a:lnTo>
                    <a:pt x="247" y="818"/>
                  </a:lnTo>
                  <a:lnTo>
                    <a:pt x="313" y="739"/>
                  </a:lnTo>
                  <a:lnTo>
                    <a:pt x="379" y="661"/>
                  </a:lnTo>
                  <a:lnTo>
                    <a:pt x="451" y="577"/>
                  </a:lnTo>
                  <a:lnTo>
                    <a:pt x="530" y="493"/>
                  </a:lnTo>
                  <a:lnTo>
                    <a:pt x="608" y="415"/>
                  </a:lnTo>
                  <a:lnTo>
                    <a:pt x="692" y="330"/>
                  </a:lnTo>
                  <a:lnTo>
                    <a:pt x="776" y="252"/>
                  </a:lnTo>
                  <a:lnTo>
                    <a:pt x="867" y="180"/>
                  </a:lnTo>
                  <a:lnTo>
                    <a:pt x="957" y="114"/>
                  </a:lnTo>
                  <a:lnTo>
                    <a:pt x="1053" y="54"/>
                  </a:lnTo>
                  <a:lnTo>
                    <a:pt x="1149" y="0"/>
                  </a:lnTo>
                  <a:close/>
                </a:path>
              </a:pathLst>
            </a:custGeom>
            <a:solidFill>
              <a:srgbClr val="00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20299800">
              <a:off x="4377600" y="831960"/>
              <a:ext cx="1227240" cy="443160"/>
            </a:xfrm>
            <a:custGeom>
              <a:avLst/>
              <a:gdLst/>
              <a:ahLst/>
              <a:rect l="l" t="t" r="r" b="b"/>
              <a:pathLst>
                <a:path w="2400" h="980">
                  <a:moveTo>
                    <a:pt x="0" y="980"/>
                  </a:moveTo>
                  <a:lnTo>
                    <a:pt x="60" y="920"/>
                  </a:lnTo>
                  <a:lnTo>
                    <a:pt x="132" y="848"/>
                  </a:lnTo>
                  <a:lnTo>
                    <a:pt x="216" y="769"/>
                  </a:lnTo>
                  <a:lnTo>
                    <a:pt x="312" y="685"/>
                  </a:lnTo>
                  <a:lnTo>
                    <a:pt x="415" y="601"/>
                  </a:lnTo>
                  <a:lnTo>
                    <a:pt x="535" y="517"/>
                  </a:lnTo>
                  <a:lnTo>
                    <a:pt x="667" y="427"/>
                  </a:lnTo>
                  <a:lnTo>
                    <a:pt x="812" y="348"/>
                  </a:lnTo>
                  <a:lnTo>
                    <a:pt x="968" y="270"/>
                  </a:lnTo>
                  <a:lnTo>
                    <a:pt x="1137" y="192"/>
                  </a:lnTo>
                  <a:lnTo>
                    <a:pt x="1317" y="132"/>
                  </a:lnTo>
                  <a:lnTo>
                    <a:pt x="1510" y="78"/>
                  </a:lnTo>
                  <a:lnTo>
                    <a:pt x="1714" y="36"/>
                  </a:lnTo>
                  <a:lnTo>
                    <a:pt x="1931" y="12"/>
                  </a:lnTo>
                  <a:lnTo>
                    <a:pt x="2159" y="0"/>
                  </a:lnTo>
                  <a:lnTo>
                    <a:pt x="2400" y="6"/>
                  </a:lnTo>
                  <a:lnTo>
                    <a:pt x="2310" y="18"/>
                  </a:lnTo>
                  <a:lnTo>
                    <a:pt x="2207" y="36"/>
                  </a:lnTo>
                  <a:lnTo>
                    <a:pt x="2093" y="60"/>
                  </a:lnTo>
                  <a:lnTo>
                    <a:pt x="1979" y="84"/>
                  </a:lnTo>
                  <a:lnTo>
                    <a:pt x="1846" y="120"/>
                  </a:lnTo>
                  <a:lnTo>
                    <a:pt x="1714" y="156"/>
                  </a:lnTo>
                  <a:lnTo>
                    <a:pt x="1570" y="198"/>
                  </a:lnTo>
                  <a:lnTo>
                    <a:pt x="1419" y="246"/>
                  </a:lnTo>
                  <a:lnTo>
                    <a:pt x="1257" y="306"/>
                  </a:lnTo>
                  <a:lnTo>
                    <a:pt x="1094" y="373"/>
                  </a:lnTo>
                  <a:lnTo>
                    <a:pt x="926" y="451"/>
                  </a:lnTo>
                  <a:lnTo>
                    <a:pt x="752" y="535"/>
                  </a:lnTo>
                  <a:lnTo>
                    <a:pt x="565" y="631"/>
                  </a:lnTo>
                  <a:lnTo>
                    <a:pt x="385" y="733"/>
                  </a:lnTo>
                  <a:lnTo>
                    <a:pt x="192" y="854"/>
                  </a:lnTo>
                  <a:lnTo>
                    <a:pt x="0" y="980"/>
                  </a:lnTo>
                  <a:close/>
                </a:path>
              </a:pathLst>
            </a:custGeom>
            <a:solidFill>
              <a:srgbClr val="00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20299800">
              <a:off x="3221280" y="672480"/>
              <a:ext cx="85680" cy="75960"/>
            </a:xfrm>
            <a:custGeom>
              <a:avLst/>
              <a:gdLst/>
              <a:ahLst/>
              <a:rect l="l" t="t" r="r" b="b"/>
              <a:pathLst>
                <a:path w="168" h="168">
                  <a:moveTo>
                    <a:pt x="84" y="168"/>
                  </a:moveTo>
                  <a:lnTo>
                    <a:pt x="120" y="162"/>
                  </a:lnTo>
                  <a:lnTo>
                    <a:pt x="144" y="144"/>
                  </a:lnTo>
                  <a:lnTo>
                    <a:pt x="162" y="120"/>
                  </a:lnTo>
                  <a:lnTo>
                    <a:pt x="168" y="84"/>
                  </a:lnTo>
                  <a:lnTo>
                    <a:pt x="162" y="48"/>
                  </a:lnTo>
                  <a:lnTo>
                    <a:pt x="144" y="24"/>
                  </a:lnTo>
                  <a:lnTo>
                    <a:pt x="120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84"/>
                  </a:lnTo>
                  <a:lnTo>
                    <a:pt x="6" y="120"/>
                  </a:lnTo>
                  <a:lnTo>
                    <a:pt x="24" y="144"/>
                  </a:lnTo>
                  <a:lnTo>
                    <a:pt x="48" y="162"/>
                  </a:lnTo>
                  <a:lnTo>
                    <a:pt x="84" y="168"/>
                  </a:lnTo>
                  <a:close/>
                </a:path>
              </a:pathLst>
            </a:custGeom>
            <a:solidFill>
              <a:srgbClr val="3f0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20299800">
              <a:off x="3484440" y="1366560"/>
              <a:ext cx="88920" cy="79200"/>
            </a:xfrm>
            <a:custGeom>
              <a:avLst/>
              <a:gdLst/>
              <a:ahLst/>
              <a:rect l="l" t="t" r="r" b="b"/>
              <a:pathLst>
                <a:path w="174" h="175">
                  <a:moveTo>
                    <a:pt x="90" y="175"/>
                  </a:moveTo>
                  <a:lnTo>
                    <a:pt x="120" y="169"/>
                  </a:lnTo>
                  <a:lnTo>
                    <a:pt x="150" y="145"/>
                  </a:lnTo>
                  <a:lnTo>
                    <a:pt x="168" y="121"/>
                  </a:lnTo>
                  <a:lnTo>
                    <a:pt x="174" y="85"/>
                  </a:lnTo>
                  <a:lnTo>
                    <a:pt x="168" y="55"/>
                  </a:lnTo>
                  <a:lnTo>
                    <a:pt x="150" y="25"/>
                  </a:lnTo>
                  <a:lnTo>
                    <a:pt x="120" y="7"/>
                  </a:lnTo>
                  <a:lnTo>
                    <a:pt x="90" y="0"/>
                  </a:lnTo>
                  <a:lnTo>
                    <a:pt x="54" y="7"/>
                  </a:lnTo>
                  <a:lnTo>
                    <a:pt x="30" y="25"/>
                  </a:lnTo>
                  <a:lnTo>
                    <a:pt x="6" y="55"/>
                  </a:lnTo>
                  <a:lnTo>
                    <a:pt x="0" y="85"/>
                  </a:lnTo>
                  <a:lnTo>
                    <a:pt x="6" y="121"/>
                  </a:lnTo>
                  <a:lnTo>
                    <a:pt x="30" y="145"/>
                  </a:lnTo>
                  <a:lnTo>
                    <a:pt x="54" y="169"/>
                  </a:lnTo>
                  <a:lnTo>
                    <a:pt x="90" y="175"/>
                  </a:lnTo>
                  <a:close/>
                </a:path>
              </a:pathLst>
            </a:custGeom>
            <a:solidFill>
              <a:srgbClr val="00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20299800">
              <a:off x="4809960" y="705240"/>
              <a:ext cx="89280" cy="75960"/>
            </a:xfrm>
            <a:custGeom>
              <a:avLst/>
              <a:gdLst/>
              <a:ahLst/>
              <a:rect l="l" t="t" r="r" b="b"/>
              <a:pathLst>
                <a:path w="175" h="168">
                  <a:moveTo>
                    <a:pt x="85" y="168"/>
                  </a:moveTo>
                  <a:lnTo>
                    <a:pt x="121" y="162"/>
                  </a:lnTo>
                  <a:lnTo>
                    <a:pt x="151" y="144"/>
                  </a:lnTo>
                  <a:lnTo>
                    <a:pt x="169" y="120"/>
                  </a:lnTo>
                  <a:lnTo>
                    <a:pt x="175" y="84"/>
                  </a:lnTo>
                  <a:lnTo>
                    <a:pt x="169" y="48"/>
                  </a:lnTo>
                  <a:lnTo>
                    <a:pt x="151" y="24"/>
                  </a:lnTo>
                  <a:lnTo>
                    <a:pt x="121" y="6"/>
                  </a:lnTo>
                  <a:lnTo>
                    <a:pt x="85" y="0"/>
                  </a:lnTo>
                  <a:lnTo>
                    <a:pt x="55" y="6"/>
                  </a:lnTo>
                  <a:lnTo>
                    <a:pt x="25" y="24"/>
                  </a:lnTo>
                  <a:lnTo>
                    <a:pt x="6" y="48"/>
                  </a:lnTo>
                  <a:lnTo>
                    <a:pt x="0" y="84"/>
                  </a:lnTo>
                  <a:lnTo>
                    <a:pt x="6" y="120"/>
                  </a:lnTo>
                  <a:lnTo>
                    <a:pt x="25" y="144"/>
                  </a:lnTo>
                  <a:lnTo>
                    <a:pt x="55" y="162"/>
                  </a:lnTo>
                  <a:lnTo>
                    <a:pt x="85" y="168"/>
                  </a:lnTo>
                  <a:close/>
                </a:path>
              </a:pathLst>
            </a:custGeom>
            <a:solidFill>
              <a:srgbClr val="d60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20299800">
              <a:off x="5420880" y="826200"/>
              <a:ext cx="86040" cy="78480"/>
            </a:xfrm>
            <a:custGeom>
              <a:avLst/>
              <a:gdLst/>
              <a:ahLst/>
              <a:rect l="l" t="t" r="r" b="b"/>
              <a:pathLst>
                <a:path w="169" h="174">
                  <a:moveTo>
                    <a:pt x="84" y="174"/>
                  </a:moveTo>
                  <a:lnTo>
                    <a:pt x="114" y="168"/>
                  </a:lnTo>
                  <a:lnTo>
                    <a:pt x="145" y="144"/>
                  </a:lnTo>
                  <a:lnTo>
                    <a:pt x="163" y="120"/>
                  </a:lnTo>
                  <a:lnTo>
                    <a:pt x="169" y="84"/>
                  </a:lnTo>
                  <a:lnTo>
                    <a:pt x="163" y="54"/>
                  </a:lnTo>
                  <a:lnTo>
                    <a:pt x="145" y="24"/>
                  </a:lnTo>
                  <a:lnTo>
                    <a:pt x="114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54"/>
                  </a:lnTo>
                  <a:lnTo>
                    <a:pt x="0" y="84"/>
                  </a:lnTo>
                  <a:lnTo>
                    <a:pt x="6" y="120"/>
                  </a:lnTo>
                  <a:lnTo>
                    <a:pt x="24" y="144"/>
                  </a:lnTo>
                  <a:lnTo>
                    <a:pt x="48" y="168"/>
                  </a:lnTo>
                  <a:lnTo>
                    <a:pt x="84" y="174"/>
                  </a:lnTo>
                  <a:close/>
                </a:path>
              </a:pathLst>
            </a:custGeom>
            <a:solidFill>
              <a:srgbClr val="006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20299800">
              <a:off x="4561200" y="1495440"/>
              <a:ext cx="85680" cy="76320"/>
            </a:xfrm>
            <a:custGeom>
              <a:avLst/>
              <a:gdLst/>
              <a:ahLst/>
              <a:rect l="l" t="t" r="r" b="b"/>
              <a:pathLst>
                <a:path w="168" h="169">
                  <a:moveTo>
                    <a:pt x="84" y="169"/>
                  </a:moveTo>
                  <a:lnTo>
                    <a:pt x="120" y="163"/>
                  </a:lnTo>
                  <a:lnTo>
                    <a:pt x="144" y="145"/>
                  </a:lnTo>
                  <a:lnTo>
                    <a:pt x="162" y="114"/>
                  </a:lnTo>
                  <a:lnTo>
                    <a:pt x="168" y="84"/>
                  </a:lnTo>
                  <a:lnTo>
                    <a:pt x="162" y="48"/>
                  </a:lnTo>
                  <a:lnTo>
                    <a:pt x="144" y="24"/>
                  </a:lnTo>
                  <a:lnTo>
                    <a:pt x="120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84"/>
                  </a:lnTo>
                  <a:lnTo>
                    <a:pt x="6" y="114"/>
                  </a:lnTo>
                  <a:lnTo>
                    <a:pt x="24" y="145"/>
                  </a:lnTo>
                  <a:lnTo>
                    <a:pt x="48" y="163"/>
                  </a:lnTo>
                  <a:lnTo>
                    <a:pt x="84" y="169"/>
                  </a:lnTo>
                  <a:close/>
                </a:path>
              </a:pathLst>
            </a:custGeom>
            <a:solidFill>
              <a:srgbClr val="ffb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20299800">
              <a:off x="4652640" y="-89280"/>
              <a:ext cx="86400" cy="75960"/>
            </a:xfrm>
            <a:custGeom>
              <a:avLst/>
              <a:gdLst/>
              <a:ahLst/>
              <a:rect l="l" t="t" r="r" b="b"/>
              <a:pathLst>
                <a:path w="169" h="168">
                  <a:moveTo>
                    <a:pt x="84" y="168"/>
                  </a:moveTo>
                  <a:lnTo>
                    <a:pt x="121" y="162"/>
                  </a:lnTo>
                  <a:lnTo>
                    <a:pt x="145" y="144"/>
                  </a:lnTo>
                  <a:lnTo>
                    <a:pt x="163" y="114"/>
                  </a:lnTo>
                  <a:lnTo>
                    <a:pt x="169" y="84"/>
                  </a:lnTo>
                  <a:lnTo>
                    <a:pt x="163" y="48"/>
                  </a:lnTo>
                  <a:lnTo>
                    <a:pt x="145" y="24"/>
                  </a:lnTo>
                  <a:lnTo>
                    <a:pt x="121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84"/>
                  </a:lnTo>
                  <a:lnTo>
                    <a:pt x="6" y="114"/>
                  </a:lnTo>
                  <a:lnTo>
                    <a:pt x="24" y="144"/>
                  </a:lnTo>
                  <a:lnTo>
                    <a:pt x="48" y="162"/>
                  </a:lnTo>
                  <a:lnTo>
                    <a:pt x="84" y="168"/>
                  </a:lnTo>
                  <a:close/>
                </a:path>
              </a:pathLst>
            </a:custGeom>
            <a:solidFill>
              <a:srgbClr val="3f0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20299800">
              <a:off x="4169880" y="368640"/>
              <a:ext cx="85680" cy="7848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174"/>
                  </a:moveTo>
                  <a:lnTo>
                    <a:pt x="120" y="168"/>
                  </a:lnTo>
                  <a:lnTo>
                    <a:pt x="144" y="150"/>
                  </a:lnTo>
                  <a:lnTo>
                    <a:pt x="162" y="120"/>
                  </a:lnTo>
                  <a:lnTo>
                    <a:pt x="168" y="90"/>
                  </a:lnTo>
                  <a:lnTo>
                    <a:pt x="162" y="54"/>
                  </a:lnTo>
                  <a:lnTo>
                    <a:pt x="144" y="24"/>
                  </a:lnTo>
                  <a:lnTo>
                    <a:pt x="120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54"/>
                  </a:lnTo>
                  <a:lnTo>
                    <a:pt x="0" y="90"/>
                  </a:lnTo>
                  <a:lnTo>
                    <a:pt x="6" y="120"/>
                  </a:lnTo>
                  <a:lnTo>
                    <a:pt x="24" y="150"/>
                  </a:lnTo>
                  <a:lnTo>
                    <a:pt x="48" y="168"/>
                  </a:lnTo>
                  <a:lnTo>
                    <a:pt x="84" y="174"/>
                  </a:lnTo>
                  <a:close/>
                </a:path>
              </a:pathLst>
            </a:custGeom>
            <a:solidFill>
              <a:srgbClr val="006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444480" y="2115720"/>
            <a:ext cx="1601280" cy="2195280"/>
            <a:chOff x="3444480" y="2115720"/>
            <a:chExt cx="1601280" cy="2195280"/>
          </a:xfrm>
        </p:grpSpPr>
        <p:sp>
          <p:nvSpPr>
            <p:cNvPr id="430" name=""/>
            <p:cNvSpPr/>
            <p:nvPr/>
          </p:nvSpPr>
          <p:spPr>
            <a:xfrm rot="19913400">
              <a:off x="3499920" y="2850480"/>
              <a:ext cx="378360" cy="331560"/>
            </a:xfrm>
            <a:custGeom>
              <a:avLst/>
              <a:gdLst/>
              <a:ahLst/>
              <a:rect l="l" t="t" r="r" b="b"/>
              <a:pathLst>
                <a:path w="740" h="734">
                  <a:moveTo>
                    <a:pt x="199" y="0"/>
                  </a:moveTo>
                  <a:lnTo>
                    <a:pt x="409" y="150"/>
                  </a:lnTo>
                  <a:lnTo>
                    <a:pt x="656" y="60"/>
                  </a:lnTo>
                  <a:lnTo>
                    <a:pt x="578" y="307"/>
                  </a:lnTo>
                  <a:lnTo>
                    <a:pt x="740" y="511"/>
                  </a:lnTo>
                  <a:lnTo>
                    <a:pt x="482" y="517"/>
                  </a:lnTo>
                  <a:lnTo>
                    <a:pt x="337" y="734"/>
                  </a:lnTo>
                  <a:lnTo>
                    <a:pt x="253" y="487"/>
                  </a:lnTo>
                  <a:lnTo>
                    <a:pt x="0" y="421"/>
                  </a:lnTo>
                  <a:lnTo>
                    <a:pt x="211" y="259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9913400">
              <a:off x="4356000" y="2465640"/>
              <a:ext cx="378000" cy="334440"/>
            </a:xfrm>
            <a:custGeom>
              <a:avLst/>
              <a:gdLst/>
              <a:ahLst/>
              <a:rect l="l" t="t" r="r" b="b"/>
              <a:pathLst>
                <a:path w="740" h="740">
                  <a:moveTo>
                    <a:pt x="535" y="0"/>
                  </a:moveTo>
                  <a:lnTo>
                    <a:pt x="529" y="258"/>
                  </a:lnTo>
                  <a:lnTo>
                    <a:pt x="740" y="415"/>
                  </a:lnTo>
                  <a:lnTo>
                    <a:pt x="493" y="487"/>
                  </a:lnTo>
                  <a:lnTo>
                    <a:pt x="415" y="740"/>
                  </a:lnTo>
                  <a:lnTo>
                    <a:pt x="264" y="523"/>
                  </a:lnTo>
                  <a:lnTo>
                    <a:pt x="0" y="529"/>
                  </a:lnTo>
                  <a:lnTo>
                    <a:pt x="162" y="319"/>
                  </a:lnTo>
                  <a:lnTo>
                    <a:pt x="78" y="72"/>
                  </a:lnTo>
                  <a:lnTo>
                    <a:pt x="325" y="156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d60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9913400">
              <a:off x="4139280" y="3019680"/>
              <a:ext cx="375120" cy="334440"/>
            </a:xfrm>
            <a:custGeom>
              <a:avLst/>
              <a:gdLst/>
              <a:ahLst/>
              <a:rect l="l" t="t" r="r" b="b"/>
              <a:pathLst>
                <a:path w="734" h="740">
                  <a:moveTo>
                    <a:pt x="530" y="0"/>
                  </a:moveTo>
                  <a:lnTo>
                    <a:pt x="530" y="259"/>
                  </a:lnTo>
                  <a:lnTo>
                    <a:pt x="734" y="409"/>
                  </a:lnTo>
                  <a:lnTo>
                    <a:pt x="487" y="487"/>
                  </a:lnTo>
                  <a:lnTo>
                    <a:pt x="409" y="740"/>
                  </a:lnTo>
                  <a:lnTo>
                    <a:pt x="265" y="523"/>
                  </a:lnTo>
                  <a:lnTo>
                    <a:pt x="0" y="523"/>
                  </a:lnTo>
                  <a:lnTo>
                    <a:pt x="157" y="319"/>
                  </a:lnTo>
                  <a:lnTo>
                    <a:pt x="78" y="72"/>
                  </a:lnTo>
                  <a:lnTo>
                    <a:pt x="325" y="157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006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9913400">
              <a:off x="4610880" y="3050280"/>
              <a:ext cx="378000" cy="334440"/>
            </a:xfrm>
            <a:custGeom>
              <a:avLst/>
              <a:gdLst/>
              <a:ahLst/>
              <a:rect l="l" t="t" r="r" b="b"/>
              <a:pathLst>
                <a:path w="740" h="740">
                  <a:moveTo>
                    <a:pt x="205" y="0"/>
                  </a:moveTo>
                  <a:lnTo>
                    <a:pt x="415" y="157"/>
                  </a:lnTo>
                  <a:lnTo>
                    <a:pt x="662" y="72"/>
                  </a:lnTo>
                  <a:lnTo>
                    <a:pt x="584" y="319"/>
                  </a:lnTo>
                  <a:lnTo>
                    <a:pt x="740" y="529"/>
                  </a:lnTo>
                  <a:lnTo>
                    <a:pt x="475" y="523"/>
                  </a:lnTo>
                  <a:lnTo>
                    <a:pt x="331" y="740"/>
                  </a:lnTo>
                  <a:lnTo>
                    <a:pt x="247" y="493"/>
                  </a:lnTo>
                  <a:lnTo>
                    <a:pt x="0" y="415"/>
                  </a:lnTo>
                  <a:lnTo>
                    <a:pt x="211" y="265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ffb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9913400">
              <a:off x="4114800" y="3392640"/>
              <a:ext cx="412200" cy="872640"/>
            </a:xfrm>
            <a:custGeom>
              <a:avLst/>
              <a:gdLst/>
              <a:ahLst/>
              <a:rect l="l" t="t" r="r" b="b"/>
              <a:pathLst>
                <a:path w="807" h="1930">
                  <a:moveTo>
                    <a:pt x="807" y="0"/>
                  </a:moveTo>
                  <a:lnTo>
                    <a:pt x="716" y="138"/>
                  </a:lnTo>
                  <a:lnTo>
                    <a:pt x="608" y="355"/>
                  </a:lnTo>
                  <a:lnTo>
                    <a:pt x="494" y="619"/>
                  </a:lnTo>
                  <a:lnTo>
                    <a:pt x="373" y="908"/>
                  </a:lnTo>
                  <a:lnTo>
                    <a:pt x="259" y="1209"/>
                  </a:lnTo>
                  <a:lnTo>
                    <a:pt x="151" y="1497"/>
                  </a:lnTo>
                  <a:lnTo>
                    <a:pt x="67" y="1744"/>
                  </a:lnTo>
                  <a:lnTo>
                    <a:pt x="0" y="1930"/>
                  </a:lnTo>
                  <a:lnTo>
                    <a:pt x="109" y="1756"/>
                  </a:lnTo>
                  <a:lnTo>
                    <a:pt x="235" y="1527"/>
                  </a:lnTo>
                  <a:lnTo>
                    <a:pt x="373" y="1251"/>
                  </a:lnTo>
                  <a:lnTo>
                    <a:pt x="512" y="962"/>
                  </a:lnTo>
                  <a:lnTo>
                    <a:pt x="632" y="667"/>
                  </a:lnTo>
                  <a:lnTo>
                    <a:pt x="728" y="397"/>
                  </a:lnTo>
                  <a:lnTo>
                    <a:pt x="789" y="168"/>
                  </a:lnTo>
                  <a:lnTo>
                    <a:pt x="807" y="0"/>
                  </a:lnTo>
                  <a:close/>
                </a:path>
              </a:pathLst>
            </a:custGeom>
            <a:solidFill>
              <a:srgbClr val="d60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9913400">
              <a:off x="4472640" y="2131560"/>
              <a:ext cx="86400" cy="75960"/>
            </a:xfrm>
            <a:custGeom>
              <a:avLst/>
              <a:gdLst/>
              <a:ahLst/>
              <a:rect l="l" t="t" r="r" b="b"/>
              <a:pathLst>
                <a:path w="169" h="168">
                  <a:moveTo>
                    <a:pt x="84" y="168"/>
                  </a:moveTo>
                  <a:lnTo>
                    <a:pt x="121" y="162"/>
                  </a:lnTo>
                  <a:lnTo>
                    <a:pt x="145" y="144"/>
                  </a:lnTo>
                  <a:lnTo>
                    <a:pt x="163" y="114"/>
                  </a:lnTo>
                  <a:lnTo>
                    <a:pt x="169" y="84"/>
                  </a:lnTo>
                  <a:lnTo>
                    <a:pt x="163" y="48"/>
                  </a:lnTo>
                  <a:lnTo>
                    <a:pt x="145" y="24"/>
                  </a:lnTo>
                  <a:lnTo>
                    <a:pt x="121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84"/>
                  </a:lnTo>
                  <a:lnTo>
                    <a:pt x="6" y="114"/>
                  </a:lnTo>
                  <a:lnTo>
                    <a:pt x="24" y="144"/>
                  </a:lnTo>
                  <a:lnTo>
                    <a:pt x="48" y="162"/>
                  </a:lnTo>
                  <a:lnTo>
                    <a:pt x="84" y="168"/>
                  </a:lnTo>
                  <a:close/>
                </a:path>
              </a:pathLst>
            </a:custGeom>
            <a:solidFill>
              <a:srgbClr val="3f0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9913400">
              <a:off x="4044960" y="2640960"/>
              <a:ext cx="85680" cy="7848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174"/>
                  </a:moveTo>
                  <a:lnTo>
                    <a:pt x="120" y="168"/>
                  </a:lnTo>
                  <a:lnTo>
                    <a:pt x="144" y="150"/>
                  </a:lnTo>
                  <a:lnTo>
                    <a:pt x="162" y="120"/>
                  </a:lnTo>
                  <a:lnTo>
                    <a:pt x="168" y="90"/>
                  </a:lnTo>
                  <a:lnTo>
                    <a:pt x="162" y="54"/>
                  </a:lnTo>
                  <a:lnTo>
                    <a:pt x="144" y="24"/>
                  </a:lnTo>
                  <a:lnTo>
                    <a:pt x="120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54"/>
                  </a:lnTo>
                  <a:lnTo>
                    <a:pt x="0" y="90"/>
                  </a:lnTo>
                  <a:lnTo>
                    <a:pt x="6" y="120"/>
                  </a:lnTo>
                  <a:lnTo>
                    <a:pt x="24" y="150"/>
                  </a:lnTo>
                  <a:lnTo>
                    <a:pt x="48" y="168"/>
                  </a:lnTo>
                  <a:lnTo>
                    <a:pt x="84" y="174"/>
                  </a:lnTo>
                  <a:close/>
                </a:path>
              </a:pathLst>
            </a:custGeom>
            <a:solidFill>
              <a:srgbClr val="006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9913400">
              <a:off x="4666680" y="3610080"/>
              <a:ext cx="86040" cy="75960"/>
            </a:xfrm>
            <a:custGeom>
              <a:avLst/>
              <a:gdLst/>
              <a:ahLst/>
              <a:rect l="l" t="t" r="r" b="b"/>
              <a:pathLst>
                <a:path w="169" h="168">
                  <a:moveTo>
                    <a:pt x="84" y="168"/>
                  </a:moveTo>
                  <a:lnTo>
                    <a:pt x="121" y="162"/>
                  </a:lnTo>
                  <a:lnTo>
                    <a:pt x="145" y="144"/>
                  </a:lnTo>
                  <a:lnTo>
                    <a:pt x="163" y="114"/>
                  </a:lnTo>
                  <a:lnTo>
                    <a:pt x="169" y="84"/>
                  </a:lnTo>
                  <a:lnTo>
                    <a:pt x="163" y="48"/>
                  </a:lnTo>
                  <a:lnTo>
                    <a:pt x="145" y="24"/>
                  </a:lnTo>
                  <a:lnTo>
                    <a:pt x="121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84"/>
                  </a:lnTo>
                  <a:lnTo>
                    <a:pt x="6" y="114"/>
                  </a:lnTo>
                  <a:lnTo>
                    <a:pt x="24" y="144"/>
                  </a:lnTo>
                  <a:lnTo>
                    <a:pt x="48" y="162"/>
                  </a:lnTo>
                  <a:lnTo>
                    <a:pt x="84" y="168"/>
                  </a:lnTo>
                  <a:close/>
                </a:path>
              </a:pathLst>
            </a:custGeom>
            <a:solidFill>
              <a:srgbClr val="3f0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9913400">
              <a:off x="3864960" y="3457800"/>
              <a:ext cx="85680" cy="7848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174"/>
                  </a:moveTo>
                  <a:lnTo>
                    <a:pt x="120" y="168"/>
                  </a:lnTo>
                  <a:lnTo>
                    <a:pt x="144" y="150"/>
                  </a:lnTo>
                  <a:lnTo>
                    <a:pt x="162" y="120"/>
                  </a:lnTo>
                  <a:lnTo>
                    <a:pt x="168" y="90"/>
                  </a:lnTo>
                  <a:lnTo>
                    <a:pt x="162" y="54"/>
                  </a:lnTo>
                  <a:lnTo>
                    <a:pt x="144" y="24"/>
                  </a:lnTo>
                  <a:lnTo>
                    <a:pt x="120" y="6"/>
                  </a:lnTo>
                  <a:lnTo>
                    <a:pt x="84" y="0"/>
                  </a:lnTo>
                  <a:lnTo>
                    <a:pt x="48" y="6"/>
                  </a:lnTo>
                  <a:lnTo>
                    <a:pt x="24" y="24"/>
                  </a:lnTo>
                  <a:lnTo>
                    <a:pt x="6" y="54"/>
                  </a:lnTo>
                  <a:lnTo>
                    <a:pt x="0" y="90"/>
                  </a:lnTo>
                  <a:lnTo>
                    <a:pt x="6" y="120"/>
                  </a:lnTo>
                  <a:lnTo>
                    <a:pt x="24" y="150"/>
                  </a:lnTo>
                  <a:lnTo>
                    <a:pt x="48" y="168"/>
                  </a:lnTo>
                  <a:lnTo>
                    <a:pt x="84" y="174"/>
                  </a:lnTo>
                  <a:close/>
                </a:path>
              </a:pathLst>
            </a:custGeom>
            <a:solidFill>
              <a:srgbClr val="006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 rot="20299800">
            <a:off x="2568600" y="3436560"/>
            <a:ext cx="90360" cy="7452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20299800">
            <a:off x="2568600" y="1552680"/>
            <a:ext cx="90360" cy="7596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d605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20299800">
            <a:off x="5818320" y="1353600"/>
            <a:ext cx="88920" cy="7632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d605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20299800">
            <a:off x="6281640" y="3193560"/>
            <a:ext cx="90720" cy="7632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20299800">
            <a:off x="6218280" y="3590640"/>
            <a:ext cx="88920" cy="7596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rot="20299800">
            <a:off x="5962680" y="1920600"/>
            <a:ext cx="88920" cy="7596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20299800">
            <a:off x="2184480" y="1297080"/>
            <a:ext cx="90360" cy="7596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20299800">
            <a:off x="2744640" y="801360"/>
            <a:ext cx="90720" cy="7632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d605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20299800">
            <a:off x="6315120" y="1057320"/>
            <a:ext cx="88920" cy="7452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20299800">
            <a:off x="3560760" y="2146320"/>
            <a:ext cx="90360" cy="7632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0299800">
            <a:off x="2457360" y="999720"/>
            <a:ext cx="88920" cy="7632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rot="20299800">
            <a:off x="5881680" y="1112400"/>
            <a:ext cx="88920" cy="7632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rot="20299800">
            <a:off x="5321160" y="1411200"/>
            <a:ext cx="90720" cy="7488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rot="20299800">
            <a:off x="2968560" y="1439640"/>
            <a:ext cx="88920" cy="7596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20299800">
            <a:off x="4921200" y="2118960"/>
            <a:ext cx="88920" cy="7632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20299800">
            <a:off x="4281480" y="2812680"/>
            <a:ext cx="88920" cy="7632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rot="20299800">
            <a:off x="5865840" y="3365640"/>
            <a:ext cx="88920" cy="7452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20299800">
            <a:off x="2071800" y="2416320"/>
            <a:ext cx="90360" cy="7596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20299800">
            <a:off x="2392200" y="3166560"/>
            <a:ext cx="90720" cy="7632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85" y="168"/>
                </a:moveTo>
                <a:lnTo>
                  <a:pt x="121" y="162"/>
                </a:lnTo>
                <a:lnTo>
                  <a:pt x="151" y="144"/>
                </a:lnTo>
                <a:lnTo>
                  <a:pt x="169" y="120"/>
                </a:lnTo>
                <a:lnTo>
                  <a:pt x="175" y="84"/>
                </a:lnTo>
                <a:lnTo>
                  <a:pt x="169" y="48"/>
                </a:lnTo>
                <a:lnTo>
                  <a:pt x="151" y="24"/>
                </a:lnTo>
                <a:lnTo>
                  <a:pt x="121" y="6"/>
                </a:lnTo>
                <a:lnTo>
                  <a:pt x="85" y="0"/>
                </a:lnTo>
                <a:lnTo>
                  <a:pt x="55" y="6"/>
                </a:lnTo>
                <a:lnTo>
                  <a:pt x="25" y="24"/>
                </a:lnTo>
                <a:lnTo>
                  <a:pt x="6" y="48"/>
                </a:lnTo>
                <a:lnTo>
                  <a:pt x="0" y="84"/>
                </a:lnTo>
                <a:lnTo>
                  <a:pt x="6" y="120"/>
                </a:lnTo>
                <a:lnTo>
                  <a:pt x="25" y="144"/>
                </a:lnTo>
                <a:lnTo>
                  <a:pt x="55" y="162"/>
                </a:lnTo>
                <a:lnTo>
                  <a:pt x="85" y="16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177840" y="3645000"/>
            <a:ext cx="8400960" cy="483552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3"/>
          <a:stretch/>
        </p:blipFill>
        <p:spPr>
          <a:xfrm>
            <a:off x="447840" y="4956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7114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7.77058E-007 L 1.11372 0.00139 E">
                                      <p:cBhvr>
                                        <p:cTn id="334" dur="10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0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" dur="5942" fill="hold"/>
                                        <p:tgtEl>
                                          <p:spTgt spid="4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865080" y="744480"/>
            <a:ext cx="8274240" cy="5183280"/>
          </a:xfrm>
          <a:prstGeom prst="irregularSeal1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550800" y="744480"/>
            <a:ext cx="8593200" cy="5186520"/>
            <a:chOff x="550800" y="744480"/>
            <a:chExt cx="8593200" cy="5186520"/>
          </a:xfrm>
        </p:grpSpPr>
        <p:grpSp>
          <p:nvGrpSpPr>
            <p:cNvPr id="463" name=""/>
            <p:cNvGrpSpPr/>
            <p:nvPr/>
          </p:nvGrpSpPr>
          <p:grpSpPr>
            <a:xfrm>
              <a:off x="550800" y="1644480"/>
              <a:ext cx="8540640" cy="3481200"/>
              <a:chOff x="550800" y="1644480"/>
              <a:chExt cx="8540640" cy="3481200"/>
            </a:xfrm>
          </p:grpSpPr>
          <p:sp>
            <p:nvSpPr>
              <p:cNvPr id="464" name=""/>
              <p:cNvSpPr/>
              <p:nvPr/>
            </p:nvSpPr>
            <p:spPr>
              <a:xfrm>
                <a:off x="675000" y="1727640"/>
                <a:ext cx="8272440" cy="3250800"/>
              </a:xfrm>
              <a:custGeom>
                <a:avLst/>
                <a:gdLst/>
                <a:ahLst/>
                <a:rect l="l" t="t" r="r" b="b"/>
                <a:pathLst>
                  <a:path w="16607" h="7025">
                    <a:moveTo>
                      <a:pt x="4760" y="6457"/>
                    </a:moveTo>
                    <a:lnTo>
                      <a:pt x="3232" y="6826"/>
                    </a:lnTo>
                    <a:lnTo>
                      <a:pt x="1303" y="6686"/>
                    </a:lnTo>
                    <a:lnTo>
                      <a:pt x="1278" y="6666"/>
                    </a:lnTo>
                    <a:lnTo>
                      <a:pt x="1240" y="6646"/>
                    </a:lnTo>
                    <a:lnTo>
                      <a:pt x="1203" y="6626"/>
                    </a:lnTo>
                    <a:lnTo>
                      <a:pt x="1178" y="6606"/>
                    </a:lnTo>
                    <a:lnTo>
                      <a:pt x="1140" y="6576"/>
                    </a:lnTo>
                    <a:lnTo>
                      <a:pt x="1090" y="6556"/>
                    </a:lnTo>
                    <a:lnTo>
                      <a:pt x="1040" y="6527"/>
                    </a:lnTo>
                    <a:lnTo>
                      <a:pt x="990" y="6487"/>
                    </a:lnTo>
                    <a:lnTo>
                      <a:pt x="940" y="6457"/>
                    </a:lnTo>
                    <a:lnTo>
                      <a:pt x="890" y="6417"/>
                    </a:lnTo>
                    <a:lnTo>
                      <a:pt x="827" y="6367"/>
                    </a:lnTo>
                    <a:lnTo>
                      <a:pt x="764" y="6327"/>
                    </a:lnTo>
                    <a:lnTo>
                      <a:pt x="702" y="6287"/>
                    </a:lnTo>
                    <a:lnTo>
                      <a:pt x="652" y="6238"/>
                    </a:lnTo>
                    <a:lnTo>
                      <a:pt x="614" y="6208"/>
                    </a:lnTo>
                    <a:lnTo>
                      <a:pt x="589" y="6178"/>
                    </a:lnTo>
                    <a:lnTo>
                      <a:pt x="552" y="6158"/>
                    </a:lnTo>
                    <a:lnTo>
                      <a:pt x="526" y="6128"/>
                    </a:lnTo>
                    <a:lnTo>
                      <a:pt x="489" y="6098"/>
                    </a:lnTo>
                    <a:lnTo>
                      <a:pt x="464" y="6068"/>
                    </a:lnTo>
                    <a:lnTo>
                      <a:pt x="439" y="6048"/>
                    </a:lnTo>
                    <a:lnTo>
                      <a:pt x="401" y="6018"/>
                    </a:lnTo>
                    <a:lnTo>
                      <a:pt x="376" y="5979"/>
                    </a:lnTo>
                    <a:lnTo>
                      <a:pt x="351" y="5959"/>
                    </a:lnTo>
                    <a:lnTo>
                      <a:pt x="314" y="5919"/>
                    </a:lnTo>
                    <a:lnTo>
                      <a:pt x="289" y="5899"/>
                    </a:lnTo>
                    <a:lnTo>
                      <a:pt x="263" y="5859"/>
                    </a:lnTo>
                    <a:lnTo>
                      <a:pt x="238" y="5829"/>
                    </a:lnTo>
                    <a:lnTo>
                      <a:pt x="213" y="5799"/>
                    </a:lnTo>
                    <a:lnTo>
                      <a:pt x="201" y="5769"/>
                    </a:lnTo>
                    <a:lnTo>
                      <a:pt x="176" y="5729"/>
                    </a:lnTo>
                    <a:lnTo>
                      <a:pt x="151" y="5700"/>
                    </a:lnTo>
                    <a:lnTo>
                      <a:pt x="138" y="5670"/>
                    </a:lnTo>
                    <a:lnTo>
                      <a:pt x="113" y="5640"/>
                    </a:lnTo>
                    <a:lnTo>
                      <a:pt x="88" y="5600"/>
                    </a:lnTo>
                    <a:lnTo>
                      <a:pt x="76" y="5570"/>
                    </a:lnTo>
                    <a:lnTo>
                      <a:pt x="63" y="5540"/>
                    </a:lnTo>
                    <a:lnTo>
                      <a:pt x="51" y="5500"/>
                    </a:lnTo>
                    <a:lnTo>
                      <a:pt x="38" y="5470"/>
                    </a:lnTo>
                    <a:lnTo>
                      <a:pt x="26" y="5430"/>
                    </a:lnTo>
                    <a:lnTo>
                      <a:pt x="13" y="5401"/>
                    </a:lnTo>
                    <a:lnTo>
                      <a:pt x="13" y="5361"/>
                    </a:lnTo>
                    <a:lnTo>
                      <a:pt x="0" y="5331"/>
                    </a:lnTo>
                    <a:lnTo>
                      <a:pt x="0" y="5291"/>
                    </a:lnTo>
                    <a:lnTo>
                      <a:pt x="0" y="5261"/>
                    </a:lnTo>
                    <a:lnTo>
                      <a:pt x="0" y="5221"/>
                    </a:lnTo>
                    <a:lnTo>
                      <a:pt x="0" y="5181"/>
                    </a:lnTo>
                    <a:lnTo>
                      <a:pt x="0" y="5151"/>
                    </a:lnTo>
                    <a:lnTo>
                      <a:pt x="0" y="5112"/>
                    </a:lnTo>
                    <a:lnTo>
                      <a:pt x="0" y="5082"/>
                    </a:lnTo>
                    <a:lnTo>
                      <a:pt x="0" y="5042"/>
                    </a:lnTo>
                    <a:lnTo>
                      <a:pt x="0" y="5012"/>
                    </a:lnTo>
                    <a:lnTo>
                      <a:pt x="0" y="4972"/>
                    </a:lnTo>
                    <a:lnTo>
                      <a:pt x="13" y="4942"/>
                    </a:lnTo>
                    <a:lnTo>
                      <a:pt x="13" y="4892"/>
                    </a:lnTo>
                    <a:lnTo>
                      <a:pt x="13" y="4862"/>
                    </a:lnTo>
                    <a:lnTo>
                      <a:pt x="13" y="4823"/>
                    </a:lnTo>
                    <a:lnTo>
                      <a:pt x="26" y="4793"/>
                    </a:lnTo>
                    <a:lnTo>
                      <a:pt x="26" y="4763"/>
                    </a:lnTo>
                    <a:lnTo>
                      <a:pt x="26" y="4733"/>
                    </a:lnTo>
                    <a:lnTo>
                      <a:pt x="38" y="4693"/>
                    </a:lnTo>
                    <a:lnTo>
                      <a:pt x="51" y="4663"/>
                    </a:lnTo>
                    <a:lnTo>
                      <a:pt x="51" y="4633"/>
                    </a:lnTo>
                    <a:lnTo>
                      <a:pt x="63" y="4593"/>
                    </a:lnTo>
                    <a:lnTo>
                      <a:pt x="63" y="4564"/>
                    </a:lnTo>
                    <a:lnTo>
                      <a:pt x="63" y="4534"/>
                    </a:lnTo>
                    <a:lnTo>
                      <a:pt x="76" y="4504"/>
                    </a:lnTo>
                    <a:lnTo>
                      <a:pt x="76" y="4474"/>
                    </a:lnTo>
                    <a:lnTo>
                      <a:pt x="88" y="4444"/>
                    </a:lnTo>
                    <a:lnTo>
                      <a:pt x="101" y="4424"/>
                    </a:lnTo>
                    <a:lnTo>
                      <a:pt x="101" y="4384"/>
                    </a:lnTo>
                    <a:lnTo>
                      <a:pt x="113" y="4364"/>
                    </a:lnTo>
                    <a:lnTo>
                      <a:pt x="113" y="4334"/>
                    </a:lnTo>
                    <a:lnTo>
                      <a:pt x="126" y="4304"/>
                    </a:lnTo>
                    <a:lnTo>
                      <a:pt x="138" y="4275"/>
                    </a:lnTo>
                    <a:lnTo>
                      <a:pt x="138" y="4255"/>
                    </a:lnTo>
                    <a:lnTo>
                      <a:pt x="151" y="4225"/>
                    </a:lnTo>
                    <a:lnTo>
                      <a:pt x="163" y="4205"/>
                    </a:lnTo>
                    <a:lnTo>
                      <a:pt x="163" y="4175"/>
                    </a:lnTo>
                    <a:lnTo>
                      <a:pt x="176" y="4145"/>
                    </a:lnTo>
                    <a:lnTo>
                      <a:pt x="176" y="4125"/>
                    </a:lnTo>
                    <a:lnTo>
                      <a:pt x="188" y="4105"/>
                    </a:lnTo>
                    <a:lnTo>
                      <a:pt x="201" y="4055"/>
                    </a:lnTo>
                    <a:lnTo>
                      <a:pt x="213" y="4015"/>
                    </a:lnTo>
                    <a:lnTo>
                      <a:pt x="226" y="3976"/>
                    </a:lnTo>
                    <a:lnTo>
                      <a:pt x="238" y="3946"/>
                    </a:lnTo>
                    <a:lnTo>
                      <a:pt x="251" y="3916"/>
                    </a:lnTo>
                    <a:lnTo>
                      <a:pt x="276" y="3886"/>
                    </a:lnTo>
                    <a:lnTo>
                      <a:pt x="276" y="3856"/>
                    </a:lnTo>
                    <a:lnTo>
                      <a:pt x="289" y="3836"/>
                    </a:lnTo>
                    <a:lnTo>
                      <a:pt x="289" y="3806"/>
                    </a:lnTo>
                    <a:lnTo>
                      <a:pt x="301" y="3796"/>
                    </a:lnTo>
                    <a:lnTo>
                      <a:pt x="314" y="3776"/>
                    </a:lnTo>
                    <a:lnTo>
                      <a:pt x="326" y="3766"/>
                    </a:lnTo>
                    <a:lnTo>
                      <a:pt x="1466" y="3368"/>
                    </a:lnTo>
                    <a:lnTo>
                      <a:pt x="1453" y="3358"/>
                    </a:lnTo>
                    <a:lnTo>
                      <a:pt x="1428" y="3338"/>
                    </a:lnTo>
                    <a:lnTo>
                      <a:pt x="1416" y="3318"/>
                    </a:lnTo>
                    <a:lnTo>
                      <a:pt x="1403" y="3298"/>
                    </a:lnTo>
                    <a:lnTo>
                      <a:pt x="1378" y="3278"/>
                    </a:lnTo>
                    <a:lnTo>
                      <a:pt x="1353" y="3258"/>
                    </a:lnTo>
                    <a:lnTo>
                      <a:pt x="1328" y="3218"/>
                    </a:lnTo>
                    <a:lnTo>
                      <a:pt x="1290" y="3198"/>
                    </a:lnTo>
                    <a:lnTo>
                      <a:pt x="1265" y="3158"/>
                    </a:lnTo>
                    <a:lnTo>
                      <a:pt x="1240" y="3129"/>
                    </a:lnTo>
                    <a:lnTo>
                      <a:pt x="1203" y="3089"/>
                    </a:lnTo>
                    <a:lnTo>
                      <a:pt x="1178" y="3059"/>
                    </a:lnTo>
                    <a:lnTo>
                      <a:pt x="1153" y="3019"/>
                    </a:lnTo>
                    <a:lnTo>
                      <a:pt x="1115" y="2979"/>
                    </a:lnTo>
                    <a:lnTo>
                      <a:pt x="1078" y="2929"/>
                    </a:lnTo>
                    <a:lnTo>
                      <a:pt x="1053" y="2889"/>
                    </a:lnTo>
                    <a:lnTo>
                      <a:pt x="1015" y="2840"/>
                    </a:lnTo>
                    <a:lnTo>
                      <a:pt x="990" y="2800"/>
                    </a:lnTo>
                    <a:lnTo>
                      <a:pt x="952" y="2750"/>
                    </a:lnTo>
                    <a:lnTo>
                      <a:pt x="927" y="2700"/>
                    </a:lnTo>
                    <a:lnTo>
                      <a:pt x="915" y="2650"/>
                    </a:lnTo>
                    <a:lnTo>
                      <a:pt x="890" y="2610"/>
                    </a:lnTo>
                    <a:lnTo>
                      <a:pt x="865" y="2561"/>
                    </a:lnTo>
                    <a:lnTo>
                      <a:pt x="852" y="2511"/>
                    </a:lnTo>
                    <a:lnTo>
                      <a:pt x="840" y="2461"/>
                    </a:lnTo>
                    <a:lnTo>
                      <a:pt x="827" y="2411"/>
                    </a:lnTo>
                    <a:lnTo>
                      <a:pt x="815" y="2361"/>
                    </a:lnTo>
                    <a:lnTo>
                      <a:pt x="815" y="2321"/>
                    </a:lnTo>
                    <a:lnTo>
                      <a:pt x="815" y="2272"/>
                    </a:lnTo>
                    <a:lnTo>
                      <a:pt x="827" y="2232"/>
                    </a:lnTo>
                    <a:lnTo>
                      <a:pt x="827" y="2182"/>
                    </a:lnTo>
                    <a:lnTo>
                      <a:pt x="840" y="2132"/>
                    </a:lnTo>
                    <a:lnTo>
                      <a:pt x="865" y="2092"/>
                    </a:lnTo>
                    <a:lnTo>
                      <a:pt x="902" y="2052"/>
                    </a:lnTo>
                    <a:lnTo>
                      <a:pt x="927" y="2003"/>
                    </a:lnTo>
                    <a:lnTo>
                      <a:pt x="977" y="1963"/>
                    </a:lnTo>
                    <a:lnTo>
                      <a:pt x="1015" y="1933"/>
                    </a:lnTo>
                    <a:lnTo>
                      <a:pt x="1065" y="1893"/>
                    </a:lnTo>
                    <a:lnTo>
                      <a:pt x="1115" y="1853"/>
                    </a:lnTo>
                    <a:lnTo>
                      <a:pt x="1165" y="1813"/>
                    </a:lnTo>
                    <a:lnTo>
                      <a:pt x="1228" y="1773"/>
                    </a:lnTo>
                    <a:lnTo>
                      <a:pt x="1290" y="1743"/>
                    </a:lnTo>
                    <a:lnTo>
                      <a:pt x="1341" y="1714"/>
                    </a:lnTo>
                    <a:lnTo>
                      <a:pt x="1416" y="1684"/>
                    </a:lnTo>
                    <a:lnTo>
                      <a:pt x="1441" y="1664"/>
                    </a:lnTo>
                    <a:lnTo>
                      <a:pt x="1466" y="1654"/>
                    </a:lnTo>
                    <a:lnTo>
                      <a:pt x="1503" y="1644"/>
                    </a:lnTo>
                    <a:lnTo>
                      <a:pt x="1541" y="1624"/>
                    </a:lnTo>
                    <a:lnTo>
                      <a:pt x="1591" y="1604"/>
                    </a:lnTo>
                    <a:lnTo>
                      <a:pt x="1654" y="1574"/>
                    </a:lnTo>
                    <a:lnTo>
                      <a:pt x="1716" y="1544"/>
                    </a:lnTo>
                    <a:lnTo>
                      <a:pt x="1779" y="1524"/>
                    </a:lnTo>
                    <a:lnTo>
                      <a:pt x="1829" y="1504"/>
                    </a:lnTo>
                    <a:lnTo>
                      <a:pt x="1879" y="1484"/>
                    </a:lnTo>
                    <a:lnTo>
                      <a:pt x="1929" y="1464"/>
                    </a:lnTo>
                    <a:lnTo>
                      <a:pt x="1979" y="1455"/>
                    </a:lnTo>
                    <a:lnTo>
                      <a:pt x="2029" y="1435"/>
                    </a:lnTo>
                    <a:lnTo>
                      <a:pt x="2067" y="1415"/>
                    </a:lnTo>
                    <a:lnTo>
                      <a:pt x="2092" y="1415"/>
                    </a:lnTo>
                    <a:lnTo>
                      <a:pt x="2130" y="1405"/>
                    </a:lnTo>
                    <a:lnTo>
                      <a:pt x="2167" y="1395"/>
                    </a:lnTo>
                    <a:lnTo>
                      <a:pt x="2192" y="1395"/>
                    </a:lnTo>
                    <a:lnTo>
                      <a:pt x="3758" y="1474"/>
                    </a:lnTo>
                    <a:lnTo>
                      <a:pt x="4609" y="468"/>
                    </a:lnTo>
                    <a:lnTo>
                      <a:pt x="4609" y="468"/>
                    </a:lnTo>
                    <a:lnTo>
                      <a:pt x="4634" y="458"/>
                    </a:lnTo>
                    <a:lnTo>
                      <a:pt x="4672" y="448"/>
                    </a:lnTo>
                    <a:lnTo>
                      <a:pt x="4710" y="448"/>
                    </a:lnTo>
                    <a:lnTo>
                      <a:pt x="4747" y="438"/>
                    </a:lnTo>
                    <a:lnTo>
                      <a:pt x="4822" y="418"/>
                    </a:lnTo>
                    <a:lnTo>
                      <a:pt x="4847" y="408"/>
                    </a:lnTo>
                    <a:lnTo>
                      <a:pt x="4885" y="408"/>
                    </a:lnTo>
                    <a:lnTo>
                      <a:pt x="4922" y="398"/>
                    </a:lnTo>
                    <a:lnTo>
                      <a:pt x="4973" y="388"/>
                    </a:lnTo>
                    <a:lnTo>
                      <a:pt x="4998" y="378"/>
                    </a:lnTo>
                    <a:lnTo>
                      <a:pt x="5048" y="368"/>
                    </a:lnTo>
                    <a:lnTo>
                      <a:pt x="5085" y="358"/>
                    </a:lnTo>
                    <a:lnTo>
                      <a:pt x="5135" y="348"/>
                    </a:lnTo>
                    <a:lnTo>
                      <a:pt x="5185" y="338"/>
                    </a:lnTo>
                    <a:lnTo>
                      <a:pt x="5223" y="328"/>
                    </a:lnTo>
                    <a:lnTo>
                      <a:pt x="5286" y="319"/>
                    </a:lnTo>
                    <a:lnTo>
                      <a:pt x="5336" y="319"/>
                    </a:lnTo>
                    <a:lnTo>
                      <a:pt x="5386" y="299"/>
                    </a:lnTo>
                    <a:lnTo>
                      <a:pt x="5436" y="289"/>
                    </a:lnTo>
                    <a:lnTo>
                      <a:pt x="5486" y="279"/>
                    </a:lnTo>
                    <a:lnTo>
                      <a:pt x="5549" y="269"/>
                    </a:lnTo>
                    <a:lnTo>
                      <a:pt x="5599" y="259"/>
                    </a:lnTo>
                    <a:lnTo>
                      <a:pt x="5661" y="249"/>
                    </a:lnTo>
                    <a:lnTo>
                      <a:pt x="5711" y="239"/>
                    </a:lnTo>
                    <a:lnTo>
                      <a:pt x="5774" y="229"/>
                    </a:lnTo>
                    <a:lnTo>
                      <a:pt x="5824" y="219"/>
                    </a:lnTo>
                    <a:lnTo>
                      <a:pt x="5874" y="199"/>
                    </a:lnTo>
                    <a:lnTo>
                      <a:pt x="5937" y="189"/>
                    </a:lnTo>
                    <a:lnTo>
                      <a:pt x="6000" y="189"/>
                    </a:lnTo>
                    <a:lnTo>
                      <a:pt x="6050" y="169"/>
                    </a:lnTo>
                    <a:lnTo>
                      <a:pt x="6100" y="159"/>
                    </a:lnTo>
                    <a:lnTo>
                      <a:pt x="6162" y="149"/>
                    </a:lnTo>
                    <a:lnTo>
                      <a:pt x="6225" y="139"/>
                    </a:lnTo>
                    <a:lnTo>
                      <a:pt x="6275" y="129"/>
                    </a:lnTo>
                    <a:lnTo>
                      <a:pt x="6325" y="119"/>
                    </a:lnTo>
                    <a:lnTo>
                      <a:pt x="6375" y="109"/>
                    </a:lnTo>
                    <a:lnTo>
                      <a:pt x="6438" y="99"/>
                    </a:lnTo>
                    <a:lnTo>
                      <a:pt x="6488" y="89"/>
                    </a:lnTo>
                    <a:lnTo>
                      <a:pt x="6538" y="79"/>
                    </a:lnTo>
                    <a:lnTo>
                      <a:pt x="6588" y="69"/>
                    </a:lnTo>
                    <a:lnTo>
                      <a:pt x="6638" y="69"/>
                    </a:lnTo>
                    <a:lnTo>
                      <a:pt x="6676" y="59"/>
                    </a:lnTo>
                    <a:lnTo>
                      <a:pt x="6726" y="49"/>
                    </a:lnTo>
                    <a:lnTo>
                      <a:pt x="6764" y="40"/>
                    </a:lnTo>
                    <a:lnTo>
                      <a:pt x="6814" y="40"/>
                    </a:lnTo>
                    <a:lnTo>
                      <a:pt x="6851" y="30"/>
                    </a:lnTo>
                    <a:lnTo>
                      <a:pt x="6889" y="20"/>
                    </a:lnTo>
                    <a:lnTo>
                      <a:pt x="6926" y="10"/>
                    </a:lnTo>
                    <a:lnTo>
                      <a:pt x="6964" y="10"/>
                    </a:lnTo>
                    <a:lnTo>
                      <a:pt x="7001" y="10"/>
                    </a:lnTo>
                    <a:lnTo>
                      <a:pt x="7039" y="0"/>
                    </a:lnTo>
                    <a:lnTo>
                      <a:pt x="7064" y="0"/>
                    </a:lnTo>
                    <a:lnTo>
                      <a:pt x="7089" y="0"/>
                    </a:lnTo>
                    <a:lnTo>
                      <a:pt x="7139" y="0"/>
                    </a:lnTo>
                    <a:lnTo>
                      <a:pt x="7177" y="0"/>
                    </a:lnTo>
                    <a:lnTo>
                      <a:pt x="7214" y="0"/>
                    </a:lnTo>
                    <a:lnTo>
                      <a:pt x="7264" y="10"/>
                    </a:lnTo>
                    <a:lnTo>
                      <a:pt x="7290" y="10"/>
                    </a:lnTo>
                    <a:lnTo>
                      <a:pt x="7315" y="20"/>
                    </a:lnTo>
                    <a:lnTo>
                      <a:pt x="7352" y="20"/>
                    </a:lnTo>
                    <a:lnTo>
                      <a:pt x="7377" y="30"/>
                    </a:lnTo>
                    <a:lnTo>
                      <a:pt x="7415" y="40"/>
                    </a:lnTo>
                    <a:lnTo>
                      <a:pt x="7452" y="49"/>
                    </a:lnTo>
                    <a:lnTo>
                      <a:pt x="7490" y="49"/>
                    </a:lnTo>
                    <a:lnTo>
                      <a:pt x="7527" y="59"/>
                    </a:lnTo>
                    <a:lnTo>
                      <a:pt x="7578" y="69"/>
                    </a:lnTo>
                    <a:lnTo>
                      <a:pt x="7615" y="79"/>
                    </a:lnTo>
                    <a:lnTo>
                      <a:pt x="7665" y="89"/>
                    </a:lnTo>
                    <a:lnTo>
                      <a:pt x="7715" y="99"/>
                    </a:lnTo>
                    <a:lnTo>
                      <a:pt x="7765" y="109"/>
                    </a:lnTo>
                    <a:lnTo>
                      <a:pt x="7816" y="119"/>
                    </a:lnTo>
                    <a:lnTo>
                      <a:pt x="7866" y="129"/>
                    </a:lnTo>
                    <a:lnTo>
                      <a:pt x="7916" y="139"/>
                    </a:lnTo>
                    <a:lnTo>
                      <a:pt x="7966" y="149"/>
                    </a:lnTo>
                    <a:lnTo>
                      <a:pt x="8016" y="159"/>
                    </a:lnTo>
                    <a:lnTo>
                      <a:pt x="8079" y="179"/>
                    </a:lnTo>
                    <a:lnTo>
                      <a:pt x="8129" y="189"/>
                    </a:lnTo>
                    <a:lnTo>
                      <a:pt x="8179" y="199"/>
                    </a:lnTo>
                    <a:lnTo>
                      <a:pt x="8241" y="209"/>
                    </a:lnTo>
                    <a:lnTo>
                      <a:pt x="8291" y="229"/>
                    </a:lnTo>
                    <a:lnTo>
                      <a:pt x="8354" y="239"/>
                    </a:lnTo>
                    <a:lnTo>
                      <a:pt x="8404" y="259"/>
                    </a:lnTo>
                    <a:lnTo>
                      <a:pt x="8467" y="269"/>
                    </a:lnTo>
                    <a:lnTo>
                      <a:pt x="8517" y="279"/>
                    </a:lnTo>
                    <a:lnTo>
                      <a:pt x="8580" y="299"/>
                    </a:lnTo>
                    <a:lnTo>
                      <a:pt x="8630" y="309"/>
                    </a:lnTo>
                    <a:lnTo>
                      <a:pt x="8680" y="319"/>
                    </a:lnTo>
                    <a:lnTo>
                      <a:pt x="8730" y="328"/>
                    </a:lnTo>
                    <a:lnTo>
                      <a:pt x="8792" y="348"/>
                    </a:lnTo>
                    <a:lnTo>
                      <a:pt x="8843" y="358"/>
                    </a:lnTo>
                    <a:lnTo>
                      <a:pt x="8893" y="368"/>
                    </a:lnTo>
                    <a:lnTo>
                      <a:pt x="8955" y="388"/>
                    </a:lnTo>
                    <a:lnTo>
                      <a:pt x="9005" y="398"/>
                    </a:lnTo>
                    <a:lnTo>
                      <a:pt x="9055" y="408"/>
                    </a:lnTo>
                    <a:lnTo>
                      <a:pt x="9106" y="418"/>
                    </a:lnTo>
                    <a:lnTo>
                      <a:pt x="9143" y="428"/>
                    </a:lnTo>
                    <a:lnTo>
                      <a:pt x="9193" y="448"/>
                    </a:lnTo>
                    <a:lnTo>
                      <a:pt x="9243" y="448"/>
                    </a:lnTo>
                    <a:lnTo>
                      <a:pt x="9281" y="468"/>
                    </a:lnTo>
                    <a:lnTo>
                      <a:pt x="9331" y="478"/>
                    </a:lnTo>
                    <a:lnTo>
                      <a:pt x="9369" y="488"/>
                    </a:lnTo>
                    <a:lnTo>
                      <a:pt x="9406" y="498"/>
                    </a:lnTo>
                    <a:lnTo>
                      <a:pt x="9444" y="508"/>
                    </a:lnTo>
                    <a:lnTo>
                      <a:pt x="9481" y="508"/>
                    </a:lnTo>
                    <a:lnTo>
                      <a:pt x="9506" y="518"/>
                    </a:lnTo>
                    <a:lnTo>
                      <a:pt x="9544" y="528"/>
                    </a:lnTo>
                    <a:lnTo>
                      <a:pt x="9569" y="538"/>
                    </a:lnTo>
                    <a:lnTo>
                      <a:pt x="9594" y="538"/>
                    </a:lnTo>
                    <a:lnTo>
                      <a:pt x="9632" y="548"/>
                    </a:lnTo>
                    <a:lnTo>
                      <a:pt x="9669" y="558"/>
                    </a:lnTo>
                    <a:lnTo>
                      <a:pt x="9694" y="568"/>
                    </a:lnTo>
                    <a:lnTo>
                      <a:pt x="9719" y="578"/>
                    </a:lnTo>
                    <a:lnTo>
                      <a:pt x="9732" y="578"/>
                    </a:lnTo>
                    <a:lnTo>
                      <a:pt x="10421" y="1325"/>
                    </a:lnTo>
                    <a:lnTo>
                      <a:pt x="10433" y="1315"/>
                    </a:lnTo>
                    <a:lnTo>
                      <a:pt x="10483" y="1305"/>
                    </a:lnTo>
                    <a:lnTo>
                      <a:pt x="10508" y="1295"/>
                    </a:lnTo>
                    <a:lnTo>
                      <a:pt x="10558" y="1285"/>
                    </a:lnTo>
                    <a:lnTo>
                      <a:pt x="10608" y="1275"/>
                    </a:lnTo>
                    <a:lnTo>
                      <a:pt x="10671" y="1265"/>
                    </a:lnTo>
                    <a:lnTo>
                      <a:pt x="10696" y="1255"/>
                    </a:lnTo>
                    <a:lnTo>
                      <a:pt x="10721" y="1245"/>
                    </a:lnTo>
                    <a:lnTo>
                      <a:pt x="10759" y="1235"/>
                    </a:lnTo>
                    <a:lnTo>
                      <a:pt x="10784" y="1225"/>
                    </a:lnTo>
                    <a:lnTo>
                      <a:pt x="10821" y="1225"/>
                    </a:lnTo>
                    <a:lnTo>
                      <a:pt x="10859" y="1215"/>
                    </a:lnTo>
                    <a:lnTo>
                      <a:pt x="10896" y="1205"/>
                    </a:lnTo>
                    <a:lnTo>
                      <a:pt x="10947" y="1195"/>
                    </a:lnTo>
                    <a:lnTo>
                      <a:pt x="10984" y="1185"/>
                    </a:lnTo>
                    <a:lnTo>
                      <a:pt x="11022" y="1176"/>
                    </a:lnTo>
                    <a:lnTo>
                      <a:pt x="11059" y="1166"/>
                    </a:lnTo>
                    <a:lnTo>
                      <a:pt x="11109" y="1156"/>
                    </a:lnTo>
                    <a:lnTo>
                      <a:pt x="11147" y="1156"/>
                    </a:lnTo>
                    <a:lnTo>
                      <a:pt x="11197" y="1146"/>
                    </a:lnTo>
                    <a:lnTo>
                      <a:pt x="11247" y="1136"/>
                    </a:lnTo>
                    <a:lnTo>
                      <a:pt x="11297" y="1126"/>
                    </a:lnTo>
                    <a:lnTo>
                      <a:pt x="11335" y="1116"/>
                    </a:lnTo>
                    <a:lnTo>
                      <a:pt x="11385" y="1106"/>
                    </a:lnTo>
                    <a:lnTo>
                      <a:pt x="11422" y="1096"/>
                    </a:lnTo>
                    <a:lnTo>
                      <a:pt x="11485" y="1096"/>
                    </a:lnTo>
                    <a:lnTo>
                      <a:pt x="11523" y="1086"/>
                    </a:lnTo>
                    <a:lnTo>
                      <a:pt x="11573" y="1076"/>
                    </a:lnTo>
                    <a:lnTo>
                      <a:pt x="11623" y="1066"/>
                    </a:lnTo>
                    <a:lnTo>
                      <a:pt x="11673" y="1056"/>
                    </a:lnTo>
                    <a:lnTo>
                      <a:pt x="11723" y="1046"/>
                    </a:lnTo>
                    <a:lnTo>
                      <a:pt x="11773" y="1036"/>
                    </a:lnTo>
                    <a:lnTo>
                      <a:pt x="11823" y="1036"/>
                    </a:lnTo>
                    <a:lnTo>
                      <a:pt x="11873" y="1026"/>
                    </a:lnTo>
                    <a:lnTo>
                      <a:pt x="11923" y="1016"/>
                    </a:lnTo>
                    <a:lnTo>
                      <a:pt x="11974" y="1016"/>
                    </a:lnTo>
                    <a:lnTo>
                      <a:pt x="12024" y="1006"/>
                    </a:lnTo>
                    <a:lnTo>
                      <a:pt x="12074" y="996"/>
                    </a:lnTo>
                    <a:lnTo>
                      <a:pt x="12124" y="986"/>
                    </a:lnTo>
                    <a:lnTo>
                      <a:pt x="12174" y="986"/>
                    </a:lnTo>
                    <a:lnTo>
                      <a:pt x="12211" y="976"/>
                    </a:lnTo>
                    <a:lnTo>
                      <a:pt x="12274" y="966"/>
                    </a:lnTo>
                    <a:lnTo>
                      <a:pt x="12312" y="966"/>
                    </a:lnTo>
                    <a:lnTo>
                      <a:pt x="12362" y="966"/>
                    </a:lnTo>
                    <a:lnTo>
                      <a:pt x="12412" y="966"/>
                    </a:lnTo>
                    <a:lnTo>
                      <a:pt x="12462" y="966"/>
                    </a:lnTo>
                    <a:lnTo>
                      <a:pt x="12500" y="956"/>
                    </a:lnTo>
                    <a:lnTo>
                      <a:pt x="12550" y="956"/>
                    </a:lnTo>
                    <a:lnTo>
                      <a:pt x="12600" y="956"/>
                    </a:lnTo>
                    <a:lnTo>
                      <a:pt x="12637" y="956"/>
                    </a:lnTo>
                    <a:lnTo>
                      <a:pt x="12687" y="956"/>
                    </a:lnTo>
                    <a:lnTo>
                      <a:pt x="12725" y="956"/>
                    </a:lnTo>
                    <a:lnTo>
                      <a:pt x="12763" y="956"/>
                    </a:lnTo>
                    <a:lnTo>
                      <a:pt x="12813" y="956"/>
                    </a:lnTo>
                    <a:lnTo>
                      <a:pt x="12850" y="956"/>
                    </a:lnTo>
                    <a:lnTo>
                      <a:pt x="12888" y="956"/>
                    </a:lnTo>
                    <a:lnTo>
                      <a:pt x="12925" y="956"/>
                    </a:lnTo>
                    <a:lnTo>
                      <a:pt x="12975" y="966"/>
                    </a:lnTo>
                    <a:lnTo>
                      <a:pt x="13013" y="966"/>
                    </a:lnTo>
                    <a:lnTo>
                      <a:pt x="13063" y="966"/>
                    </a:lnTo>
                    <a:lnTo>
                      <a:pt x="13101" y="966"/>
                    </a:lnTo>
                    <a:lnTo>
                      <a:pt x="13151" y="976"/>
                    </a:lnTo>
                    <a:lnTo>
                      <a:pt x="13176" y="976"/>
                    </a:lnTo>
                    <a:lnTo>
                      <a:pt x="13226" y="986"/>
                    </a:lnTo>
                    <a:lnTo>
                      <a:pt x="13264" y="996"/>
                    </a:lnTo>
                    <a:lnTo>
                      <a:pt x="13314" y="1006"/>
                    </a:lnTo>
                    <a:lnTo>
                      <a:pt x="13351" y="1006"/>
                    </a:lnTo>
                    <a:lnTo>
                      <a:pt x="13401" y="1026"/>
                    </a:lnTo>
                    <a:lnTo>
                      <a:pt x="13439" y="1026"/>
                    </a:lnTo>
                    <a:lnTo>
                      <a:pt x="13489" y="1036"/>
                    </a:lnTo>
                    <a:lnTo>
                      <a:pt x="13527" y="1046"/>
                    </a:lnTo>
                    <a:lnTo>
                      <a:pt x="13564" y="1056"/>
                    </a:lnTo>
                    <a:lnTo>
                      <a:pt x="13602" y="1066"/>
                    </a:lnTo>
                    <a:lnTo>
                      <a:pt x="13652" y="1076"/>
                    </a:lnTo>
                    <a:lnTo>
                      <a:pt x="13689" y="1086"/>
                    </a:lnTo>
                    <a:lnTo>
                      <a:pt x="13727" y="1096"/>
                    </a:lnTo>
                    <a:lnTo>
                      <a:pt x="13777" y="1106"/>
                    </a:lnTo>
                    <a:lnTo>
                      <a:pt x="13815" y="1116"/>
                    </a:lnTo>
                    <a:lnTo>
                      <a:pt x="13852" y="1126"/>
                    </a:lnTo>
                    <a:lnTo>
                      <a:pt x="13890" y="1146"/>
                    </a:lnTo>
                    <a:lnTo>
                      <a:pt x="13940" y="1156"/>
                    </a:lnTo>
                    <a:lnTo>
                      <a:pt x="13977" y="1166"/>
                    </a:lnTo>
                    <a:lnTo>
                      <a:pt x="14015" y="1176"/>
                    </a:lnTo>
                    <a:lnTo>
                      <a:pt x="14053" y="1185"/>
                    </a:lnTo>
                    <a:lnTo>
                      <a:pt x="14090" y="1205"/>
                    </a:lnTo>
                    <a:lnTo>
                      <a:pt x="14128" y="1215"/>
                    </a:lnTo>
                    <a:lnTo>
                      <a:pt x="14165" y="1225"/>
                    </a:lnTo>
                    <a:lnTo>
                      <a:pt x="14203" y="1235"/>
                    </a:lnTo>
                    <a:lnTo>
                      <a:pt x="14240" y="1245"/>
                    </a:lnTo>
                    <a:lnTo>
                      <a:pt x="14278" y="1255"/>
                    </a:lnTo>
                    <a:lnTo>
                      <a:pt x="14303" y="1265"/>
                    </a:lnTo>
                    <a:lnTo>
                      <a:pt x="14341" y="1285"/>
                    </a:lnTo>
                    <a:lnTo>
                      <a:pt x="14366" y="1285"/>
                    </a:lnTo>
                    <a:lnTo>
                      <a:pt x="14403" y="1305"/>
                    </a:lnTo>
                    <a:lnTo>
                      <a:pt x="14453" y="1325"/>
                    </a:lnTo>
                    <a:lnTo>
                      <a:pt x="14516" y="1345"/>
                    </a:lnTo>
                    <a:lnTo>
                      <a:pt x="14566" y="1355"/>
                    </a:lnTo>
                    <a:lnTo>
                      <a:pt x="14616" y="1385"/>
                    </a:lnTo>
                    <a:lnTo>
                      <a:pt x="14654" y="1395"/>
                    </a:lnTo>
                    <a:lnTo>
                      <a:pt x="14691" y="1415"/>
                    </a:lnTo>
                    <a:lnTo>
                      <a:pt x="14729" y="1425"/>
                    </a:lnTo>
                    <a:lnTo>
                      <a:pt x="14766" y="1435"/>
                    </a:lnTo>
                    <a:lnTo>
                      <a:pt x="14791" y="1455"/>
                    </a:lnTo>
                    <a:lnTo>
                      <a:pt x="14817" y="1464"/>
                    </a:lnTo>
                    <a:lnTo>
                      <a:pt x="15468" y="2561"/>
                    </a:lnTo>
                    <a:lnTo>
                      <a:pt x="16607" y="3338"/>
                    </a:lnTo>
                    <a:lnTo>
                      <a:pt x="16382" y="4583"/>
                    </a:lnTo>
                    <a:lnTo>
                      <a:pt x="15280" y="5540"/>
                    </a:lnTo>
                    <a:lnTo>
                      <a:pt x="14641" y="5540"/>
                    </a:lnTo>
                    <a:lnTo>
                      <a:pt x="14140" y="6457"/>
                    </a:lnTo>
                    <a:lnTo>
                      <a:pt x="12575" y="6955"/>
                    </a:lnTo>
                    <a:lnTo>
                      <a:pt x="10358" y="7025"/>
                    </a:lnTo>
                    <a:lnTo>
                      <a:pt x="8830" y="6547"/>
                    </a:lnTo>
                    <a:lnTo>
                      <a:pt x="8379" y="6218"/>
                    </a:lnTo>
                    <a:lnTo>
                      <a:pt x="6162" y="6616"/>
                    </a:lnTo>
                    <a:lnTo>
                      <a:pt x="4760" y="6457"/>
                    </a:lnTo>
                    <a:lnTo>
                      <a:pt x="4760" y="6457"/>
                    </a:lnTo>
                    <a:close/>
                  </a:path>
                </a:pathLst>
              </a:custGeom>
              <a:solidFill>
                <a:srgbClr val="c4d4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924840" y="2248560"/>
                <a:ext cx="1871640" cy="1216800"/>
              </a:xfrm>
              <a:custGeom>
                <a:avLst/>
                <a:gdLst/>
                <a:ahLst/>
                <a:rect l="l" t="t" r="r" b="b"/>
                <a:pathLst>
                  <a:path w="3758" h="2630">
                    <a:moveTo>
                      <a:pt x="1804" y="2232"/>
                    </a:moveTo>
                    <a:lnTo>
                      <a:pt x="1791" y="2232"/>
                    </a:lnTo>
                    <a:lnTo>
                      <a:pt x="1754" y="2222"/>
                    </a:lnTo>
                    <a:lnTo>
                      <a:pt x="1716" y="2222"/>
                    </a:lnTo>
                    <a:lnTo>
                      <a:pt x="1691" y="2212"/>
                    </a:lnTo>
                    <a:lnTo>
                      <a:pt x="1641" y="2202"/>
                    </a:lnTo>
                    <a:lnTo>
                      <a:pt x="1604" y="2202"/>
                    </a:lnTo>
                    <a:lnTo>
                      <a:pt x="1553" y="2182"/>
                    </a:lnTo>
                    <a:lnTo>
                      <a:pt x="1503" y="2172"/>
                    </a:lnTo>
                    <a:lnTo>
                      <a:pt x="1453" y="2162"/>
                    </a:lnTo>
                    <a:lnTo>
                      <a:pt x="1403" y="2142"/>
                    </a:lnTo>
                    <a:lnTo>
                      <a:pt x="1341" y="2122"/>
                    </a:lnTo>
                    <a:lnTo>
                      <a:pt x="1290" y="2102"/>
                    </a:lnTo>
                    <a:lnTo>
                      <a:pt x="1228" y="2082"/>
                    </a:lnTo>
                    <a:lnTo>
                      <a:pt x="1178" y="2062"/>
                    </a:lnTo>
                    <a:lnTo>
                      <a:pt x="1115" y="2032"/>
                    </a:lnTo>
                    <a:lnTo>
                      <a:pt x="1052" y="2003"/>
                    </a:lnTo>
                    <a:lnTo>
                      <a:pt x="990" y="1963"/>
                    </a:lnTo>
                    <a:lnTo>
                      <a:pt x="940" y="1933"/>
                    </a:lnTo>
                    <a:lnTo>
                      <a:pt x="890" y="1893"/>
                    </a:lnTo>
                    <a:lnTo>
                      <a:pt x="827" y="1853"/>
                    </a:lnTo>
                    <a:lnTo>
                      <a:pt x="789" y="1803"/>
                    </a:lnTo>
                    <a:lnTo>
                      <a:pt x="752" y="1763"/>
                    </a:lnTo>
                    <a:lnTo>
                      <a:pt x="727" y="1734"/>
                    </a:lnTo>
                    <a:lnTo>
                      <a:pt x="702" y="1704"/>
                    </a:lnTo>
                    <a:lnTo>
                      <a:pt x="677" y="1684"/>
                    </a:lnTo>
                    <a:lnTo>
                      <a:pt x="664" y="1654"/>
                    </a:lnTo>
                    <a:lnTo>
                      <a:pt x="652" y="1624"/>
                    </a:lnTo>
                    <a:lnTo>
                      <a:pt x="627" y="1594"/>
                    </a:lnTo>
                    <a:lnTo>
                      <a:pt x="614" y="1574"/>
                    </a:lnTo>
                    <a:lnTo>
                      <a:pt x="614" y="1544"/>
                    </a:lnTo>
                    <a:lnTo>
                      <a:pt x="589" y="1504"/>
                    </a:lnTo>
                    <a:lnTo>
                      <a:pt x="589" y="1474"/>
                    </a:lnTo>
                    <a:lnTo>
                      <a:pt x="577" y="1445"/>
                    </a:lnTo>
                    <a:lnTo>
                      <a:pt x="577" y="1405"/>
                    </a:lnTo>
                    <a:lnTo>
                      <a:pt x="577" y="1375"/>
                    </a:lnTo>
                    <a:lnTo>
                      <a:pt x="577" y="1335"/>
                    </a:lnTo>
                    <a:lnTo>
                      <a:pt x="577" y="1295"/>
                    </a:lnTo>
                    <a:lnTo>
                      <a:pt x="577" y="1265"/>
                    </a:lnTo>
                    <a:lnTo>
                      <a:pt x="577" y="1225"/>
                    </a:lnTo>
                    <a:lnTo>
                      <a:pt x="577" y="1185"/>
                    </a:lnTo>
                    <a:lnTo>
                      <a:pt x="577" y="1146"/>
                    </a:lnTo>
                    <a:lnTo>
                      <a:pt x="602" y="1116"/>
                    </a:lnTo>
                    <a:lnTo>
                      <a:pt x="614" y="1076"/>
                    </a:lnTo>
                    <a:lnTo>
                      <a:pt x="627" y="1046"/>
                    </a:lnTo>
                    <a:lnTo>
                      <a:pt x="652" y="1006"/>
                    </a:lnTo>
                    <a:lnTo>
                      <a:pt x="664" y="976"/>
                    </a:lnTo>
                    <a:lnTo>
                      <a:pt x="689" y="946"/>
                    </a:lnTo>
                    <a:lnTo>
                      <a:pt x="714" y="916"/>
                    </a:lnTo>
                    <a:lnTo>
                      <a:pt x="739" y="887"/>
                    </a:lnTo>
                    <a:lnTo>
                      <a:pt x="777" y="857"/>
                    </a:lnTo>
                    <a:lnTo>
                      <a:pt x="802" y="827"/>
                    </a:lnTo>
                    <a:lnTo>
                      <a:pt x="840" y="797"/>
                    </a:lnTo>
                    <a:lnTo>
                      <a:pt x="877" y="777"/>
                    </a:lnTo>
                    <a:lnTo>
                      <a:pt x="915" y="747"/>
                    </a:lnTo>
                    <a:lnTo>
                      <a:pt x="952" y="727"/>
                    </a:lnTo>
                    <a:lnTo>
                      <a:pt x="990" y="697"/>
                    </a:lnTo>
                    <a:lnTo>
                      <a:pt x="1027" y="677"/>
                    </a:lnTo>
                    <a:lnTo>
                      <a:pt x="1078" y="657"/>
                    </a:lnTo>
                    <a:lnTo>
                      <a:pt x="1115" y="627"/>
                    </a:lnTo>
                    <a:lnTo>
                      <a:pt x="1165" y="608"/>
                    </a:lnTo>
                    <a:lnTo>
                      <a:pt x="1215" y="588"/>
                    </a:lnTo>
                    <a:lnTo>
                      <a:pt x="1265" y="578"/>
                    </a:lnTo>
                    <a:lnTo>
                      <a:pt x="1315" y="558"/>
                    </a:lnTo>
                    <a:lnTo>
                      <a:pt x="1366" y="538"/>
                    </a:lnTo>
                    <a:lnTo>
                      <a:pt x="1416" y="528"/>
                    </a:lnTo>
                    <a:lnTo>
                      <a:pt x="1466" y="518"/>
                    </a:lnTo>
                    <a:lnTo>
                      <a:pt x="1528" y="498"/>
                    </a:lnTo>
                    <a:lnTo>
                      <a:pt x="1578" y="488"/>
                    </a:lnTo>
                    <a:lnTo>
                      <a:pt x="1629" y="478"/>
                    </a:lnTo>
                    <a:lnTo>
                      <a:pt x="1691" y="478"/>
                    </a:lnTo>
                    <a:lnTo>
                      <a:pt x="1741" y="458"/>
                    </a:lnTo>
                    <a:lnTo>
                      <a:pt x="1791" y="448"/>
                    </a:lnTo>
                    <a:lnTo>
                      <a:pt x="1854" y="438"/>
                    </a:lnTo>
                    <a:lnTo>
                      <a:pt x="1917" y="438"/>
                    </a:lnTo>
                    <a:lnTo>
                      <a:pt x="1967" y="428"/>
                    </a:lnTo>
                    <a:lnTo>
                      <a:pt x="2029" y="428"/>
                    </a:lnTo>
                    <a:lnTo>
                      <a:pt x="2079" y="428"/>
                    </a:lnTo>
                    <a:lnTo>
                      <a:pt x="2142" y="428"/>
                    </a:lnTo>
                    <a:lnTo>
                      <a:pt x="2192" y="428"/>
                    </a:lnTo>
                    <a:lnTo>
                      <a:pt x="2255" y="428"/>
                    </a:lnTo>
                    <a:lnTo>
                      <a:pt x="2317" y="428"/>
                    </a:lnTo>
                    <a:lnTo>
                      <a:pt x="2368" y="438"/>
                    </a:lnTo>
                    <a:lnTo>
                      <a:pt x="2418" y="438"/>
                    </a:lnTo>
                    <a:lnTo>
                      <a:pt x="2480" y="448"/>
                    </a:lnTo>
                    <a:lnTo>
                      <a:pt x="2543" y="448"/>
                    </a:lnTo>
                    <a:lnTo>
                      <a:pt x="2593" y="468"/>
                    </a:lnTo>
                    <a:lnTo>
                      <a:pt x="2656" y="468"/>
                    </a:lnTo>
                    <a:lnTo>
                      <a:pt x="2706" y="478"/>
                    </a:lnTo>
                    <a:lnTo>
                      <a:pt x="2756" y="488"/>
                    </a:lnTo>
                    <a:lnTo>
                      <a:pt x="2806" y="508"/>
                    </a:lnTo>
                    <a:lnTo>
                      <a:pt x="2856" y="518"/>
                    </a:lnTo>
                    <a:lnTo>
                      <a:pt x="2906" y="538"/>
                    </a:lnTo>
                    <a:lnTo>
                      <a:pt x="2956" y="558"/>
                    </a:lnTo>
                    <a:lnTo>
                      <a:pt x="3006" y="578"/>
                    </a:lnTo>
                    <a:lnTo>
                      <a:pt x="3056" y="598"/>
                    </a:lnTo>
                    <a:lnTo>
                      <a:pt x="3106" y="617"/>
                    </a:lnTo>
                    <a:lnTo>
                      <a:pt x="3144" y="637"/>
                    </a:lnTo>
                    <a:lnTo>
                      <a:pt x="3194" y="667"/>
                    </a:lnTo>
                    <a:lnTo>
                      <a:pt x="3232" y="687"/>
                    </a:lnTo>
                    <a:lnTo>
                      <a:pt x="3282" y="717"/>
                    </a:lnTo>
                    <a:lnTo>
                      <a:pt x="3319" y="747"/>
                    </a:lnTo>
                    <a:lnTo>
                      <a:pt x="3357" y="777"/>
                    </a:lnTo>
                    <a:lnTo>
                      <a:pt x="3758" y="508"/>
                    </a:lnTo>
                    <a:lnTo>
                      <a:pt x="3745" y="498"/>
                    </a:lnTo>
                    <a:lnTo>
                      <a:pt x="3720" y="478"/>
                    </a:lnTo>
                    <a:lnTo>
                      <a:pt x="3683" y="458"/>
                    </a:lnTo>
                    <a:lnTo>
                      <a:pt x="3645" y="418"/>
                    </a:lnTo>
                    <a:lnTo>
                      <a:pt x="3607" y="398"/>
                    </a:lnTo>
                    <a:lnTo>
                      <a:pt x="3570" y="368"/>
                    </a:lnTo>
                    <a:lnTo>
                      <a:pt x="3532" y="348"/>
                    </a:lnTo>
                    <a:lnTo>
                      <a:pt x="3507" y="329"/>
                    </a:lnTo>
                    <a:lnTo>
                      <a:pt x="3457" y="299"/>
                    </a:lnTo>
                    <a:lnTo>
                      <a:pt x="3407" y="279"/>
                    </a:lnTo>
                    <a:lnTo>
                      <a:pt x="3357" y="249"/>
                    </a:lnTo>
                    <a:lnTo>
                      <a:pt x="3307" y="229"/>
                    </a:lnTo>
                    <a:lnTo>
                      <a:pt x="3244" y="199"/>
                    </a:lnTo>
                    <a:lnTo>
                      <a:pt x="3194" y="169"/>
                    </a:lnTo>
                    <a:lnTo>
                      <a:pt x="3131" y="149"/>
                    </a:lnTo>
                    <a:lnTo>
                      <a:pt x="3069" y="129"/>
                    </a:lnTo>
                    <a:lnTo>
                      <a:pt x="3031" y="109"/>
                    </a:lnTo>
                    <a:lnTo>
                      <a:pt x="2994" y="99"/>
                    </a:lnTo>
                    <a:lnTo>
                      <a:pt x="2956" y="99"/>
                    </a:lnTo>
                    <a:lnTo>
                      <a:pt x="2919" y="89"/>
                    </a:lnTo>
                    <a:lnTo>
                      <a:pt x="2881" y="69"/>
                    </a:lnTo>
                    <a:lnTo>
                      <a:pt x="2843" y="69"/>
                    </a:lnTo>
                    <a:lnTo>
                      <a:pt x="2818" y="59"/>
                    </a:lnTo>
                    <a:lnTo>
                      <a:pt x="2781" y="50"/>
                    </a:lnTo>
                    <a:lnTo>
                      <a:pt x="2731" y="40"/>
                    </a:lnTo>
                    <a:lnTo>
                      <a:pt x="2693" y="30"/>
                    </a:lnTo>
                    <a:lnTo>
                      <a:pt x="2656" y="30"/>
                    </a:lnTo>
                    <a:lnTo>
                      <a:pt x="2605" y="20"/>
                    </a:lnTo>
                    <a:lnTo>
                      <a:pt x="2568" y="10"/>
                    </a:lnTo>
                    <a:lnTo>
                      <a:pt x="2518" y="10"/>
                    </a:lnTo>
                    <a:lnTo>
                      <a:pt x="2480" y="0"/>
                    </a:lnTo>
                    <a:lnTo>
                      <a:pt x="2430" y="0"/>
                    </a:lnTo>
                    <a:lnTo>
                      <a:pt x="2380" y="0"/>
                    </a:lnTo>
                    <a:lnTo>
                      <a:pt x="2342" y="0"/>
                    </a:lnTo>
                    <a:lnTo>
                      <a:pt x="2292" y="0"/>
                    </a:lnTo>
                    <a:lnTo>
                      <a:pt x="2242" y="0"/>
                    </a:lnTo>
                    <a:lnTo>
                      <a:pt x="2192" y="0"/>
                    </a:lnTo>
                    <a:lnTo>
                      <a:pt x="2142" y="0"/>
                    </a:lnTo>
                    <a:lnTo>
                      <a:pt x="2092" y="0"/>
                    </a:lnTo>
                    <a:lnTo>
                      <a:pt x="2054" y="10"/>
                    </a:lnTo>
                    <a:lnTo>
                      <a:pt x="2004" y="10"/>
                    </a:lnTo>
                    <a:lnTo>
                      <a:pt x="1942" y="10"/>
                    </a:lnTo>
                    <a:lnTo>
                      <a:pt x="1892" y="10"/>
                    </a:lnTo>
                    <a:lnTo>
                      <a:pt x="1841" y="20"/>
                    </a:lnTo>
                    <a:lnTo>
                      <a:pt x="1791" y="20"/>
                    </a:lnTo>
                    <a:lnTo>
                      <a:pt x="1741" y="20"/>
                    </a:lnTo>
                    <a:lnTo>
                      <a:pt x="1691" y="30"/>
                    </a:lnTo>
                    <a:lnTo>
                      <a:pt x="1654" y="30"/>
                    </a:lnTo>
                    <a:lnTo>
                      <a:pt x="1604" y="40"/>
                    </a:lnTo>
                    <a:lnTo>
                      <a:pt x="1553" y="50"/>
                    </a:lnTo>
                    <a:lnTo>
                      <a:pt x="1503" y="50"/>
                    </a:lnTo>
                    <a:lnTo>
                      <a:pt x="1466" y="59"/>
                    </a:lnTo>
                    <a:lnTo>
                      <a:pt x="1416" y="69"/>
                    </a:lnTo>
                    <a:lnTo>
                      <a:pt x="1378" y="79"/>
                    </a:lnTo>
                    <a:lnTo>
                      <a:pt x="1328" y="79"/>
                    </a:lnTo>
                    <a:lnTo>
                      <a:pt x="1290" y="99"/>
                    </a:lnTo>
                    <a:lnTo>
                      <a:pt x="1240" y="99"/>
                    </a:lnTo>
                    <a:lnTo>
                      <a:pt x="1203" y="109"/>
                    </a:lnTo>
                    <a:lnTo>
                      <a:pt x="1153" y="119"/>
                    </a:lnTo>
                    <a:lnTo>
                      <a:pt x="1115" y="129"/>
                    </a:lnTo>
                    <a:lnTo>
                      <a:pt x="1078" y="139"/>
                    </a:lnTo>
                    <a:lnTo>
                      <a:pt x="1040" y="159"/>
                    </a:lnTo>
                    <a:lnTo>
                      <a:pt x="990" y="169"/>
                    </a:lnTo>
                    <a:lnTo>
                      <a:pt x="965" y="179"/>
                    </a:lnTo>
                    <a:lnTo>
                      <a:pt x="915" y="199"/>
                    </a:lnTo>
                    <a:lnTo>
                      <a:pt x="877" y="209"/>
                    </a:lnTo>
                    <a:lnTo>
                      <a:pt x="840" y="229"/>
                    </a:lnTo>
                    <a:lnTo>
                      <a:pt x="815" y="239"/>
                    </a:lnTo>
                    <a:lnTo>
                      <a:pt x="777" y="249"/>
                    </a:lnTo>
                    <a:lnTo>
                      <a:pt x="739" y="269"/>
                    </a:lnTo>
                    <a:lnTo>
                      <a:pt x="702" y="289"/>
                    </a:lnTo>
                    <a:lnTo>
                      <a:pt x="677" y="309"/>
                    </a:lnTo>
                    <a:lnTo>
                      <a:pt x="639" y="319"/>
                    </a:lnTo>
                    <a:lnTo>
                      <a:pt x="602" y="338"/>
                    </a:lnTo>
                    <a:lnTo>
                      <a:pt x="577" y="348"/>
                    </a:lnTo>
                    <a:lnTo>
                      <a:pt x="539" y="368"/>
                    </a:lnTo>
                    <a:lnTo>
                      <a:pt x="476" y="418"/>
                    </a:lnTo>
                    <a:lnTo>
                      <a:pt x="426" y="458"/>
                    </a:lnTo>
                    <a:lnTo>
                      <a:pt x="376" y="498"/>
                    </a:lnTo>
                    <a:lnTo>
                      <a:pt x="326" y="548"/>
                    </a:lnTo>
                    <a:lnTo>
                      <a:pt x="301" y="568"/>
                    </a:lnTo>
                    <a:lnTo>
                      <a:pt x="276" y="598"/>
                    </a:lnTo>
                    <a:lnTo>
                      <a:pt x="251" y="617"/>
                    </a:lnTo>
                    <a:lnTo>
                      <a:pt x="238" y="647"/>
                    </a:lnTo>
                    <a:lnTo>
                      <a:pt x="213" y="677"/>
                    </a:lnTo>
                    <a:lnTo>
                      <a:pt x="188" y="697"/>
                    </a:lnTo>
                    <a:lnTo>
                      <a:pt x="176" y="727"/>
                    </a:lnTo>
                    <a:lnTo>
                      <a:pt x="151" y="757"/>
                    </a:lnTo>
                    <a:lnTo>
                      <a:pt x="138" y="787"/>
                    </a:lnTo>
                    <a:lnTo>
                      <a:pt x="113" y="817"/>
                    </a:lnTo>
                    <a:lnTo>
                      <a:pt x="113" y="847"/>
                    </a:lnTo>
                    <a:lnTo>
                      <a:pt x="101" y="877"/>
                    </a:lnTo>
                    <a:lnTo>
                      <a:pt x="76" y="906"/>
                    </a:lnTo>
                    <a:lnTo>
                      <a:pt x="63" y="936"/>
                    </a:lnTo>
                    <a:lnTo>
                      <a:pt x="51" y="976"/>
                    </a:lnTo>
                    <a:lnTo>
                      <a:pt x="51" y="1006"/>
                    </a:lnTo>
                    <a:lnTo>
                      <a:pt x="25" y="1046"/>
                    </a:lnTo>
                    <a:lnTo>
                      <a:pt x="25" y="1076"/>
                    </a:lnTo>
                    <a:lnTo>
                      <a:pt x="25" y="1116"/>
                    </a:lnTo>
                    <a:lnTo>
                      <a:pt x="25" y="1156"/>
                    </a:lnTo>
                    <a:lnTo>
                      <a:pt x="13" y="1195"/>
                    </a:lnTo>
                    <a:lnTo>
                      <a:pt x="0" y="1235"/>
                    </a:lnTo>
                    <a:lnTo>
                      <a:pt x="0" y="1265"/>
                    </a:lnTo>
                    <a:lnTo>
                      <a:pt x="0" y="1315"/>
                    </a:lnTo>
                    <a:lnTo>
                      <a:pt x="0" y="1345"/>
                    </a:lnTo>
                    <a:lnTo>
                      <a:pt x="0" y="1385"/>
                    </a:lnTo>
                    <a:lnTo>
                      <a:pt x="0" y="1425"/>
                    </a:lnTo>
                    <a:lnTo>
                      <a:pt x="13" y="1465"/>
                    </a:lnTo>
                    <a:lnTo>
                      <a:pt x="13" y="1494"/>
                    </a:lnTo>
                    <a:lnTo>
                      <a:pt x="13" y="1534"/>
                    </a:lnTo>
                    <a:lnTo>
                      <a:pt x="25" y="1564"/>
                    </a:lnTo>
                    <a:lnTo>
                      <a:pt x="25" y="1604"/>
                    </a:lnTo>
                    <a:lnTo>
                      <a:pt x="38" y="1634"/>
                    </a:lnTo>
                    <a:lnTo>
                      <a:pt x="51" y="1674"/>
                    </a:lnTo>
                    <a:lnTo>
                      <a:pt x="63" y="1704"/>
                    </a:lnTo>
                    <a:lnTo>
                      <a:pt x="88" y="1744"/>
                    </a:lnTo>
                    <a:lnTo>
                      <a:pt x="101" y="1763"/>
                    </a:lnTo>
                    <a:lnTo>
                      <a:pt x="113" y="1803"/>
                    </a:lnTo>
                    <a:lnTo>
                      <a:pt x="126" y="1833"/>
                    </a:lnTo>
                    <a:lnTo>
                      <a:pt x="151" y="1863"/>
                    </a:lnTo>
                    <a:lnTo>
                      <a:pt x="163" y="1893"/>
                    </a:lnTo>
                    <a:lnTo>
                      <a:pt x="188" y="1923"/>
                    </a:lnTo>
                    <a:lnTo>
                      <a:pt x="201" y="1953"/>
                    </a:lnTo>
                    <a:lnTo>
                      <a:pt x="226" y="1983"/>
                    </a:lnTo>
                    <a:lnTo>
                      <a:pt x="251" y="2013"/>
                    </a:lnTo>
                    <a:lnTo>
                      <a:pt x="263" y="2032"/>
                    </a:lnTo>
                    <a:lnTo>
                      <a:pt x="289" y="2062"/>
                    </a:lnTo>
                    <a:lnTo>
                      <a:pt x="326" y="2092"/>
                    </a:lnTo>
                    <a:lnTo>
                      <a:pt x="339" y="2112"/>
                    </a:lnTo>
                    <a:lnTo>
                      <a:pt x="376" y="2142"/>
                    </a:lnTo>
                    <a:lnTo>
                      <a:pt x="401" y="2172"/>
                    </a:lnTo>
                    <a:lnTo>
                      <a:pt x="439" y="2202"/>
                    </a:lnTo>
                    <a:lnTo>
                      <a:pt x="489" y="2242"/>
                    </a:lnTo>
                    <a:lnTo>
                      <a:pt x="552" y="2282"/>
                    </a:lnTo>
                    <a:lnTo>
                      <a:pt x="589" y="2302"/>
                    </a:lnTo>
                    <a:lnTo>
                      <a:pt x="627" y="2331"/>
                    </a:lnTo>
                    <a:lnTo>
                      <a:pt x="664" y="2351"/>
                    </a:lnTo>
                    <a:lnTo>
                      <a:pt x="689" y="2371"/>
                    </a:lnTo>
                    <a:lnTo>
                      <a:pt x="727" y="2381"/>
                    </a:lnTo>
                    <a:lnTo>
                      <a:pt x="752" y="2401"/>
                    </a:lnTo>
                    <a:lnTo>
                      <a:pt x="789" y="2421"/>
                    </a:lnTo>
                    <a:lnTo>
                      <a:pt x="827" y="2441"/>
                    </a:lnTo>
                    <a:lnTo>
                      <a:pt x="865" y="2451"/>
                    </a:lnTo>
                    <a:lnTo>
                      <a:pt x="902" y="2471"/>
                    </a:lnTo>
                    <a:lnTo>
                      <a:pt x="940" y="2481"/>
                    </a:lnTo>
                    <a:lnTo>
                      <a:pt x="990" y="2501"/>
                    </a:lnTo>
                    <a:lnTo>
                      <a:pt x="1015" y="2511"/>
                    </a:lnTo>
                    <a:lnTo>
                      <a:pt x="1052" y="2531"/>
                    </a:lnTo>
                    <a:lnTo>
                      <a:pt x="1090" y="2541"/>
                    </a:lnTo>
                    <a:lnTo>
                      <a:pt x="1140" y="2551"/>
                    </a:lnTo>
                    <a:lnTo>
                      <a:pt x="1178" y="2561"/>
                    </a:lnTo>
                    <a:lnTo>
                      <a:pt x="1215" y="2571"/>
                    </a:lnTo>
                    <a:lnTo>
                      <a:pt x="1253" y="2581"/>
                    </a:lnTo>
                    <a:lnTo>
                      <a:pt x="1303" y="2591"/>
                    </a:lnTo>
                    <a:lnTo>
                      <a:pt x="1341" y="2591"/>
                    </a:lnTo>
                    <a:lnTo>
                      <a:pt x="1378" y="2600"/>
                    </a:lnTo>
                    <a:lnTo>
                      <a:pt x="1416" y="2600"/>
                    </a:lnTo>
                    <a:lnTo>
                      <a:pt x="1466" y="2610"/>
                    </a:lnTo>
                    <a:lnTo>
                      <a:pt x="1503" y="2610"/>
                    </a:lnTo>
                    <a:lnTo>
                      <a:pt x="1553" y="2620"/>
                    </a:lnTo>
                    <a:lnTo>
                      <a:pt x="1591" y="2620"/>
                    </a:lnTo>
                    <a:lnTo>
                      <a:pt x="1641" y="2630"/>
                    </a:lnTo>
                    <a:lnTo>
                      <a:pt x="1804" y="2232"/>
                    </a:lnTo>
                    <a:lnTo>
                      <a:pt x="1804" y="2232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50800" y="3216600"/>
                <a:ext cx="2626560" cy="1803240"/>
              </a:xfrm>
              <a:custGeom>
                <a:avLst/>
                <a:gdLst/>
                <a:ahLst/>
                <a:rect l="l" t="t" r="r" b="b"/>
                <a:pathLst>
                  <a:path w="5273" h="3897">
                    <a:moveTo>
                      <a:pt x="1979" y="329"/>
                    </a:moveTo>
                    <a:lnTo>
                      <a:pt x="1954" y="329"/>
                    </a:lnTo>
                    <a:lnTo>
                      <a:pt x="1904" y="339"/>
                    </a:lnTo>
                    <a:lnTo>
                      <a:pt x="1866" y="349"/>
                    </a:lnTo>
                    <a:lnTo>
                      <a:pt x="1816" y="369"/>
                    </a:lnTo>
                    <a:lnTo>
                      <a:pt x="1778" y="379"/>
                    </a:lnTo>
                    <a:lnTo>
                      <a:pt x="1728" y="399"/>
                    </a:lnTo>
                    <a:lnTo>
                      <a:pt x="1666" y="419"/>
                    </a:lnTo>
                    <a:lnTo>
                      <a:pt x="1603" y="449"/>
                    </a:lnTo>
                    <a:lnTo>
                      <a:pt x="1540" y="469"/>
                    </a:lnTo>
                    <a:lnTo>
                      <a:pt x="1490" y="508"/>
                    </a:lnTo>
                    <a:lnTo>
                      <a:pt x="1453" y="518"/>
                    </a:lnTo>
                    <a:lnTo>
                      <a:pt x="1415" y="538"/>
                    </a:lnTo>
                    <a:lnTo>
                      <a:pt x="1378" y="558"/>
                    </a:lnTo>
                    <a:lnTo>
                      <a:pt x="1340" y="578"/>
                    </a:lnTo>
                    <a:lnTo>
                      <a:pt x="1315" y="588"/>
                    </a:lnTo>
                    <a:lnTo>
                      <a:pt x="1277" y="618"/>
                    </a:lnTo>
                    <a:lnTo>
                      <a:pt x="1240" y="638"/>
                    </a:lnTo>
                    <a:lnTo>
                      <a:pt x="1215" y="658"/>
                    </a:lnTo>
                    <a:lnTo>
                      <a:pt x="1177" y="678"/>
                    </a:lnTo>
                    <a:lnTo>
                      <a:pt x="1140" y="698"/>
                    </a:lnTo>
                    <a:lnTo>
                      <a:pt x="1102" y="718"/>
                    </a:lnTo>
                    <a:lnTo>
                      <a:pt x="1077" y="748"/>
                    </a:lnTo>
                    <a:lnTo>
                      <a:pt x="1040" y="768"/>
                    </a:lnTo>
                    <a:lnTo>
                      <a:pt x="1002" y="797"/>
                    </a:lnTo>
                    <a:lnTo>
                      <a:pt x="964" y="827"/>
                    </a:lnTo>
                    <a:lnTo>
                      <a:pt x="939" y="857"/>
                    </a:lnTo>
                    <a:lnTo>
                      <a:pt x="902" y="887"/>
                    </a:lnTo>
                    <a:lnTo>
                      <a:pt x="877" y="917"/>
                    </a:lnTo>
                    <a:lnTo>
                      <a:pt x="852" y="947"/>
                    </a:lnTo>
                    <a:lnTo>
                      <a:pt x="814" y="977"/>
                    </a:lnTo>
                    <a:lnTo>
                      <a:pt x="789" y="1007"/>
                    </a:lnTo>
                    <a:lnTo>
                      <a:pt x="764" y="1037"/>
                    </a:lnTo>
                    <a:lnTo>
                      <a:pt x="739" y="1076"/>
                    </a:lnTo>
                    <a:lnTo>
                      <a:pt x="714" y="1116"/>
                    </a:lnTo>
                    <a:lnTo>
                      <a:pt x="689" y="1146"/>
                    </a:lnTo>
                    <a:lnTo>
                      <a:pt x="664" y="1186"/>
                    </a:lnTo>
                    <a:lnTo>
                      <a:pt x="651" y="1226"/>
                    </a:lnTo>
                    <a:lnTo>
                      <a:pt x="626" y="1266"/>
                    </a:lnTo>
                    <a:lnTo>
                      <a:pt x="614" y="1296"/>
                    </a:lnTo>
                    <a:lnTo>
                      <a:pt x="601" y="1346"/>
                    </a:lnTo>
                    <a:lnTo>
                      <a:pt x="589" y="1385"/>
                    </a:lnTo>
                    <a:lnTo>
                      <a:pt x="576" y="1425"/>
                    </a:lnTo>
                    <a:lnTo>
                      <a:pt x="564" y="1465"/>
                    </a:lnTo>
                    <a:lnTo>
                      <a:pt x="551" y="1505"/>
                    </a:lnTo>
                    <a:lnTo>
                      <a:pt x="551" y="1555"/>
                    </a:lnTo>
                    <a:lnTo>
                      <a:pt x="551" y="1605"/>
                    </a:lnTo>
                    <a:lnTo>
                      <a:pt x="551" y="1644"/>
                    </a:lnTo>
                    <a:lnTo>
                      <a:pt x="551" y="1694"/>
                    </a:lnTo>
                    <a:lnTo>
                      <a:pt x="551" y="1744"/>
                    </a:lnTo>
                    <a:lnTo>
                      <a:pt x="564" y="1804"/>
                    </a:lnTo>
                    <a:lnTo>
                      <a:pt x="564" y="1854"/>
                    </a:lnTo>
                    <a:lnTo>
                      <a:pt x="576" y="1894"/>
                    </a:lnTo>
                    <a:lnTo>
                      <a:pt x="576" y="1943"/>
                    </a:lnTo>
                    <a:lnTo>
                      <a:pt x="589" y="1993"/>
                    </a:lnTo>
                    <a:lnTo>
                      <a:pt x="601" y="2033"/>
                    </a:lnTo>
                    <a:lnTo>
                      <a:pt x="614" y="2083"/>
                    </a:lnTo>
                    <a:lnTo>
                      <a:pt x="626" y="2123"/>
                    </a:lnTo>
                    <a:lnTo>
                      <a:pt x="639" y="2173"/>
                    </a:lnTo>
                    <a:lnTo>
                      <a:pt x="651" y="2212"/>
                    </a:lnTo>
                    <a:lnTo>
                      <a:pt x="676" y="2252"/>
                    </a:lnTo>
                    <a:lnTo>
                      <a:pt x="689" y="2302"/>
                    </a:lnTo>
                    <a:lnTo>
                      <a:pt x="701" y="2342"/>
                    </a:lnTo>
                    <a:lnTo>
                      <a:pt x="726" y="2382"/>
                    </a:lnTo>
                    <a:lnTo>
                      <a:pt x="751" y="2412"/>
                    </a:lnTo>
                    <a:lnTo>
                      <a:pt x="776" y="2452"/>
                    </a:lnTo>
                    <a:lnTo>
                      <a:pt x="789" y="2491"/>
                    </a:lnTo>
                    <a:lnTo>
                      <a:pt x="814" y="2521"/>
                    </a:lnTo>
                    <a:lnTo>
                      <a:pt x="839" y="2561"/>
                    </a:lnTo>
                    <a:lnTo>
                      <a:pt x="864" y="2591"/>
                    </a:lnTo>
                    <a:lnTo>
                      <a:pt x="877" y="2631"/>
                    </a:lnTo>
                    <a:lnTo>
                      <a:pt x="902" y="2651"/>
                    </a:lnTo>
                    <a:lnTo>
                      <a:pt x="939" y="2691"/>
                    </a:lnTo>
                    <a:lnTo>
                      <a:pt x="952" y="2711"/>
                    </a:lnTo>
                    <a:lnTo>
                      <a:pt x="989" y="2751"/>
                    </a:lnTo>
                    <a:lnTo>
                      <a:pt x="1014" y="2770"/>
                    </a:lnTo>
                    <a:lnTo>
                      <a:pt x="1040" y="2800"/>
                    </a:lnTo>
                    <a:lnTo>
                      <a:pt x="1077" y="2830"/>
                    </a:lnTo>
                    <a:lnTo>
                      <a:pt x="1102" y="2860"/>
                    </a:lnTo>
                    <a:lnTo>
                      <a:pt x="1140" y="2880"/>
                    </a:lnTo>
                    <a:lnTo>
                      <a:pt x="1165" y="2910"/>
                    </a:lnTo>
                    <a:lnTo>
                      <a:pt x="1202" y="2930"/>
                    </a:lnTo>
                    <a:lnTo>
                      <a:pt x="1240" y="2960"/>
                    </a:lnTo>
                    <a:lnTo>
                      <a:pt x="1265" y="2980"/>
                    </a:lnTo>
                    <a:lnTo>
                      <a:pt x="1303" y="3000"/>
                    </a:lnTo>
                    <a:lnTo>
                      <a:pt x="1328" y="3020"/>
                    </a:lnTo>
                    <a:lnTo>
                      <a:pt x="1365" y="3040"/>
                    </a:lnTo>
                    <a:lnTo>
                      <a:pt x="1403" y="3059"/>
                    </a:lnTo>
                    <a:lnTo>
                      <a:pt x="1440" y="3079"/>
                    </a:lnTo>
                    <a:lnTo>
                      <a:pt x="1478" y="3099"/>
                    </a:lnTo>
                    <a:lnTo>
                      <a:pt x="1503" y="3119"/>
                    </a:lnTo>
                    <a:lnTo>
                      <a:pt x="1540" y="3139"/>
                    </a:lnTo>
                    <a:lnTo>
                      <a:pt x="1578" y="3149"/>
                    </a:lnTo>
                    <a:lnTo>
                      <a:pt x="1616" y="3169"/>
                    </a:lnTo>
                    <a:lnTo>
                      <a:pt x="1666" y="3189"/>
                    </a:lnTo>
                    <a:lnTo>
                      <a:pt x="1691" y="3199"/>
                    </a:lnTo>
                    <a:lnTo>
                      <a:pt x="1741" y="3209"/>
                    </a:lnTo>
                    <a:lnTo>
                      <a:pt x="1778" y="3229"/>
                    </a:lnTo>
                    <a:lnTo>
                      <a:pt x="1816" y="3249"/>
                    </a:lnTo>
                    <a:lnTo>
                      <a:pt x="1854" y="3259"/>
                    </a:lnTo>
                    <a:lnTo>
                      <a:pt x="1891" y="3269"/>
                    </a:lnTo>
                    <a:lnTo>
                      <a:pt x="1929" y="3269"/>
                    </a:lnTo>
                    <a:lnTo>
                      <a:pt x="1979" y="3289"/>
                    </a:lnTo>
                    <a:lnTo>
                      <a:pt x="2004" y="3299"/>
                    </a:lnTo>
                    <a:lnTo>
                      <a:pt x="2054" y="3309"/>
                    </a:lnTo>
                    <a:lnTo>
                      <a:pt x="2092" y="3319"/>
                    </a:lnTo>
                    <a:lnTo>
                      <a:pt x="2129" y="3338"/>
                    </a:lnTo>
                    <a:lnTo>
                      <a:pt x="2167" y="3338"/>
                    </a:lnTo>
                    <a:lnTo>
                      <a:pt x="2217" y="3348"/>
                    </a:lnTo>
                    <a:lnTo>
                      <a:pt x="2254" y="3348"/>
                    </a:lnTo>
                    <a:lnTo>
                      <a:pt x="2292" y="3358"/>
                    </a:lnTo>
                    <a:lnTo>
                      <a:pt x="2342" y="3368"/>
                    </a:lnTo>
                    <a:lnTo>
                      <a:pt x="2380" y="3378"/>
                    </a:lnTo>
                    <a:lnTo>
                      <a:pt x="2430" y="3388"/>
                    </a:lnTo>
                    <a:lnTo>
                      <a:pt x="2467" y="3398"/>
                    </a:lnTo>
                    <a:lnTo>
                      <a:pt x="2505" y="3398"/>
                    </a:lnTo>
                    <a:lnTo>
                      <a:pt x="2555" y="3398"/>
                    </a:lnTo>
                    <a:lnTo>
                      <a:pt x="2592" y="3398"/>
                    </a:lnTo>
                    <a:lnTo>
                      <a:pt x="2630" y="3408"/>
                    </a:lnTo>
                    <a:lnTo>
                      <a:pt x="2668" y="3408"/>
                    </a:lnTo>
                    <a:lnTo>
                      <a:pt x="2718" y="3408"/>
                    </a:lnTo>
                    <a:lnTo>
                      <a:pt x="2755" y="3408"/>
                    </a:lnTo>
                    <a:lnTo>
                      <a:pt x="2793" y="3408"/>
                    </a:lnTo>
                    <a:lnTo>
                      <a:pt x="2830" y="3408"/>
                    </a:lnTo>
                    <a:lnTo>
                      <a:pt x="2881" y="3408"/>
                    </a:lnTo>
                    <a:lnTo>
                      <a:pt x="2918" y="3408"/>
                    </a:lnTo>
                    <a:lnTo>
                      <a:pt x="2956" y="3408"/>
                    </a:lnTo>
                    <a:lnTo>
                      <a:pt x="2993" y="3398"/>
                    </a:lnTo>
                    <a:lnTo>
                      <a:pt x="3043" y="3398"/>
                    </a:lnTo>
                    <a:lnTo>
                      <a:pt x="3081" y="3398"/>
                    </a:lnTo>
                    <a:lnTo>
                      <a:pt x="3119" y="3398"/>
                    </a:lnTo>
                    <a:lnTo>
                      <a:pt x="3156" y="3388"/>
                    </a:lnTo>
                    <a:lnTo>
                      <a:pt x="3194" y="3378"/>
                    </a:lnTo>
                    <a:lnTo>
                      <a:pt x="3231" y="3378"/>
                    </a:lnTo>
                    <a:lnTo>
                      <a:pt x="3269" y="3368"/>
                    </a:lnTo>
                    <a:lnTo>
                      <a:pt x="3306" y="3358"/>
                    </a:lnTo>
                    <a:lnTo>
                      <a:pt x="3344" y="3358"/>
                    </a:lnTo>
                    <a:lnTo>
                      <a:pt x="3382" y="3348"/>
                    </a:lnTo>
                    <a:lnTo>
                      <a:pt x="3419" y="3348"/>
                    </a:lnTo>
                    <a:lnTo>
                      <a:pt x="3457" y="3338"/>
                    </a:lnTo>
                    <a:lnTo>
                      <a:pt x="3494" y="3329"/>
                    </a:lnTo>
                    <a:lnTo>
                      <a:pt x="3532" y="3319"/>
                    </a:lnTo>
                    <a:lnTo>
                      <a:pt x="3569" y="3309"/>
                    </a:lnTo>
                    <a:lnTo>
                      <a:pt x="3594" y="3299"/>
                    </a:lnTo>
                    <a:lnTo>
                      <a:pt x="3632" y="3299"/>
                    </a:lnTo>
                    <a:lnTo>
                      <a:pt x="3670" y="3289"/>
                    </a:lnTo>
                    <a:lnTo>
                      <a:pt x="3707" y="3279"/>
                    </a:lnTo>
                    <a:lnTo>
                      <a:pt x="3770" y="3259"/>
                    </a:lnTo>
                    <a:lnTo>
                      <a:pt x="3832" y="3239"/>
                    </a:lnTo>
                    <a:lnTo>
                      <a:pt x="3882" y="3219"/>
                    </a:lnTo>
                    <a:lnTo>
                      <a:pt x="3958" y="3199"/>
                    </a:lnTo>
                    <a:lnTo>
                      <a:pt x="4008" y="3179"/>
                    </a:lnTo>
                    <a:lnTo>
                      <a:pt x="4058" y="3159"/>
                    </a:lnTo>
                    <a:lnTo>
                      <a:pt x="4108" y="3139"/>
                    </a:lnTo>
                    <a:lnTo>
                      <a:pt x="4171" y="3119"/>
                    </a:lnTo>
                    <a:lnTo>
                      <a:pt x="4208" y="3089"/>
                    </a:lnTo>
                    <a:lnTo>
                      <a:pt x="4258" y="3079"/>
                    </a:lnTo>
                    <a:lnTo>
                      <a:pt x="4296" y="3059"/>
                    </a:lnTo>
                    <a:lnTo>
                      <a:pt x="4333" y="3040"/>
                    </a:lnTo>
                    <a:lnTo>
                      <a:pt x="4358" y="3020"/>
                    </a:lnTo>
                    <a:lnTo>
                      <a:pt x="4396" y="3010"/>
                    </a:lnTo>
                    <a:lnTo>
                      <a:pt x="4434" y="2990"/>
                    </a:lnTo>
                    <a:lnTo>
                      <a:pt x="4459" y="2980"/>
                    </a:lnTo>
                    <a:lnTo>
                      <a:pt x="5273" y="3069"/>
                    </a:lnTo>
                    <a:lnTo>
                      <a:pt x="5260" y="3079"/>
                    </a:lnTo>
                    <a:lnTo>
                      <a:pt x="5223" y="3109"/>
                    </a:lnTo>
                    <a:lnTo>
                      <a:pt x="5185" y="3129"/>
                    </a:lnTo>
                    <a:lnTo>
                      <a:pt x="5147" y="3149"/>
                    </a:lnTo>
                    <a:lnTo>
                      <a:pt x="5110" y="3179"/>
                    </a:lnTo>
                    <a:lnTo>
                      <a:pt x="5072" y="3219"/>
                    </a:lnTo>
                    <a:lnTo>
                      <a:pt x="5010" y="3249"/>
                    </a:lnTo>
                    <a:lnTo>
                      <a:pt x="4947" y="3279"/>
                    </a:lnTo>
                    <a:lnTo>
                      <a:pt x="4922" y="3299"/>
                    </a:lnTo>
                    <a:lnTo>
                      <a:pt x="4884" y="3329"/>
                    </a:lnTo>
                    <a:lnTo>
                      <a:pt x="4847" y="3348"/>
                    </a:lnTo>
                    <a:lnTo>
                      <a:pt x="4822" y="3368"/>
                    </a:lnTo>
                    <a:lnTo>
                      <a:pt x="4784" y="3388"/>
                    </a:lnTo>
                    <a:lnTo>
                      <a:pt x="4747" y="3408"/>
                    </a:lnTo>
                    <a:lnTo>
                      <a:pt x="4697" y="3428"/>
                    </a:lnTo>
                    <a:lnTo>
                      <a:pt x="4671" y="3448"/>
                    </a:lnTo>
                    <a:lnTo>
                      <a:pt x="4621" y="3468"/>
                    </a:lnTo>
                    <a:lnTo>
                      <a:pt x="4584" y="3498"/>
                    </a:lnTo>
                    <a:lnTo>
                      <a:pt x="4534" y="3518"/>
                    </a:lnTo>
                    <a:lnTo>
                      <a:pt x="4496" y="3538"/>
                    </a:lnTo>
                    <a:lnTo>
                      <a:pt x="4434" y="3558"/>
                    </a:lnTo>
                    <a:lnTo>
                      <a:pt x="4383" y="3578"/>
                    </a:lnTo>
                    <a:lnTo>
                      <a:pt x="4333" y="3598"/>
                    </a:lnTo>
                    <a:lnTo>
                      <a:pt x="4283" y="3618"/>
                    </a:lnTo>
                    <a:lnTo>
                      <a:pt x="4233" y="3637"/>
                    </a:lnTo>
                    <a:lnTo>
                      <a:pt x="4183" y="3667"/>
                    </a:lnTo>
                    <a:lnTo>
                      <a:pt x="4120" y="3677"/>
                    </a:lnTo>
                    <a:lnTo>
                      <a:pt x="4070" y="3707"/>
                    </a:lnTo>
                    <a:lnTo>
                      <a:pt x="4008" y="3717"/>
                    </a:lnTo>
                    <a:lnTo>
                      <a:pt x="3958" y="3737"/>
                    </a:lnTo>
                    <a:lnTo>
                      <a:pt x="3895" y="3757"/>
                    </a:lnTo>
                    <a:lnTo>
                      <a:pt x="3832" y="3777"/>
                    </a:lnTo>
                    <a:lnTo>
                      <a:pt x="3770" y="3787"/>
                    </a:lnTo>
                    <a:lnTo>
                      <a:pt x="3707" y="3797"/>
                    </a:lnTo>
                    <a:lnTo>
                      <a:pt x="3645" y="3817"/>
                    </a:lnTo>
                    <a:lnTo>
                      <a:pt x="3582" y="3837"/>
                    </a:lnTo>
                    <a:lnTo>
                      <a:pt x="3507" y="3847"/>
                    </a:lnTo>
                    <a:lnTo>
                      <a:pt x="3444" y="3857"/>
                    </a:lnTo>
                    <a:lnTo>
                      <a:pt x="3369" y="3857"/>
                    </a:lnTo>
                    <a:lnTo>
                      <a:pt x="3306" y="3867"/>
                    </a:lnTo>
                    <a:lnTo>
                      <a:pt x="3231" y="3877"/>
                    </a:lnTo>
                    <a:lnTo>
                      <a:pt x="3169" y="3887"/>
                    </a:lnTo>
                    <a:lnTo>
                      <a:pt x="3093" y="3887"/>
                    </a:lnTo>
                    <a:lnTo>
                      <a:pt x="3018" y="3897"/>
                    </a:lnTo>
                    <a:lnTo>
                      <a:pt x="2931" y="3897"/>
                    </a:lnTo>
                    <a:lnTo>
                      <a:pt x="2855" y="3897"/>
                    </a:lnTo>
                    <a:lnTo>
                      <a:pt x="2780" y="3897"/>
                    </a:lnTo>
                    <a:lnTo>
                      <a:pt x="2705" y="3897"/>
                    </a:lnTo>
                    <a:lnTo>
                      <a:pt x="2630" y="3897"/>
                    </a:lnTo>
                    <a:lnTo>
                      <a:pt x="2542" y="3887"/>
                    </a:lnTo>
                    <a:lnTo>
                      <a:pt x="2467" y="3887"/>
                    </a:lnTo>
                    <a:lnTo>
                      <a:pt x="2392" y="3877"/>
                    </a:lnTo>
                    <a:lnTo>
                      <a:pt x="2304" y="3867"/>
                    </a:lnTo>
                    <a:lnTo>
                      <a:pt x="2217" y="3857"/>
                    </a:lnTo>
                    <a:lnTo>
                      <a:pt x="2142" y="3837"/>
                    </a:lnTo>
                    <a:lnTo>
                      <a:pt x="2066" y="3827"/>
                    </a:lnTo>
                    <a:lnTo>
                      <a:pt x="1991" y="3807"/>
                    </a:lnTo>
                    <a:lnTo>
                      <a:pt x="1916" y="3797"/>
                    </a:lnTo>
                    <a:lnTo>
                      <a:pt x="1841" y="3777"/>
                    </a:lnTo>
                    <a:lnTo>
                      <a:pt x="1778" y="3767"/>
                    </a:lnTo>
                    <a:lnTo>
                      <a:pt x="1703" y="3737"/>
                    </a:lnTo>
                    <a:lnTo>
                      <a:pt x="1628" y="3727"/>
                    </a:lnTo>
                    <a:lnTo>
                      <a:pt x="1566" y="3697"/>
                    </a:lnTo>
                    <a:lnTo>
                      <a:pt x="1503" y="3677"/>
                    </a:lnTo>
                    <a:lnTo>
                      <a:pt x="1428" y="3657"/>
                    </a:lnTo>
                    <a:lnTo>
                      <a:pt x="1378" y="3627"/>
                    </a:lnTo>
                    <a:lnTo>
                      <a:pt x="1315" y="3608"/>
                    </a:lnTo>
                    <a:lnTo>
                      <a:pt x="1252" y="3588"/>
                    </a:lnTo>
                    <a:lnTo>
                      <a:pt x="1190" y="3548"/>
                    </a:lnTo>
                    <a:lnTo>
                      <a:pt x="1140" y="3528"/>
                    </a:lnTo>
                    <a:lnTo>
                      <a:pt x="1077" y="3498"/>
                    </a:lnTo>
                    <a:lnTo>
                      <a:pt x="1027" y="3468"/>
                    </a:lnTo>
                    <a:lnTo>
                      <a:pt x="977" y="3438"/>
                    </a:lnTo>
                    <a:lnTo>
                      <a:pt x="927" y="3408"/>
                    </a:lnTo>
                    <a:lnTo>
                      <a:pt x="877" y="3368"/>
                    </a:lnTo>
                    <a:lnTo>
                      <a:pt x="827" y="3348"/>
                    </a:lnTo>
                    <a:lnTo>
                      <a:pt x="776" y="3309"/>
                    </a:lnTo>
                    <a:lnTo>
                      <a:pt x="726" y="3269"/>
                    </a:lnTo>
                    <a:lnTo>
                      <a:pt x="689" y="3239"/>
                    </a:lnTo>
                    <a:lnTo>
                      <a:pt x="651" y="3209"/>
                    </a:lnTo>
                    <a:lnTo>
                      <a:pt x="601" y="3169"/>
                    </a:lnTo>
                    <a:lnTo>
                      <a:pt x="564" y="3129"/>
                    </a:lnTo>
                    <a:lnTo>
                      <a:pt x="526" y="3089"/>
                    </a:lnTo>
                    <a:lnTo>
                      <a:pt x="488" y="3059"/>
                    </a:lnTo>
                    <a:lnTo>
                      <a:pt x="451" y="3020"/>
                    </a:lnTo>
                    <a:lnTo>
                      <a:pt x="413" y="2980"/>
                    </a:lnTo>
                    <a:lnTo>
                      <a:pt x="388" y="2940"/>
                    </a:lnTo>
                    <a:lnTo>
                      <a:pt x="351" y="2890"/>
                    </a:lnTo>
                    <a:lnTo>
                      <a:pt x="313" y="2850"/>
                    </a:lnTo>
                    <a:lnTo>
                      <a:pt x="288" y="2810"/>
                    </a:lnTo>
                    <a:lnTo>
                      <a:pt x="263" y="2770"/>
                    </a:lnTo>
                    <a:lnTo>
                      <a:pt x="238" y="2731"/>
                    </a:lnTo>
                    <a:lnTo>
                      <a:pt x="213" y="2681"/>
                    </a:lnTo>
                    <a:lnTo>
                      <a:pt x="188" y="2641"/>
                    </a:lnTo>
                    <a:lnTo>
                      <a:pt x="150" y="2591"/>
                    </a:lnTo>
                    <a:lnTo>
                      <a:pt x="138" y="2551"/>
                    </a:lnTo>
                    <a:lnTo>
                      <a:pt x="113" y="2511"/>
                    </a:lnTo>
                    <a:lnTo>
                      <a:pt x="100" y="2462"/>
                    </a:lnTo>
                    <a:lnTo>
                      <a:pt x="75" y="2412"/>
                    </a:lnTo>
                    <a:lnTo>
                      <a:pt x="75" y="2372"/>
                    </a:lnTo>
                    <a:lnTo>
                      <a:pt x="50" y="2322"/>
                    </a:lnTo>
                    <a:lnTo>
                      <a:pt x="38" y="2272"/>
                    </a:lnTo>
                    <a:lnTo>
                      <a:pt x="13" y="2222"/>
                    </a:lnTo>
                    <a:lnTo>
                      <a:pt x="13" y="2183"/>
                    </a:lnTo>
                    <a:lnTo>
                      <a:pt x="0" y="2123"/>
                    </a:lnTo>
                    <a:lnTo>
                      <a:pt x="0" y="2083"/>
                    </a:lnTo>
                    <a:lnTo>
                      <a:pt x="0" y="2033"/>
                    </a:lnTo>
                    <a:lnTo>
                      <a:pt x="0" y="1983"/>
                    </a:lnTo>
                    <a:lnTo>
                      <a:pt x="0" y="1933"/>
                    </a:lnTo>
                    <a:lnTo>
                      <a:pt x="0" y="1884"/>
                    </a:lnTo>
                    <a:lnTo>
                      <a:pt x="0" y="1834"/>
                    </a:lnTo>
                    <a:lnTo>
                      <a:pt x="0" y="1794"/>
                    </a:lnTo>
                    <a:lnTo>
                      <a:pt x="0" y="1734"/>
                    </a:lnTo>
                    <a:lnTo>
                      <a:pt x="0" y="1684"/>
                    </a:lnTo>
                    <a:lnTo>
                      <a:pt x="0" y="1635"/>
                    </a:lnTo>
                    <a:lnTo>
                      <a:pt x="0" y="1595"/>
                    </a:lnTo>
                    <a:lnTo>
                      <a:pt x="0" y="1525"/>
                    </a:lnTo>
                    <a:lnTo>
                      <a:pt x="0" y="1465"/>
                    </a:lnTo>
                    <a:lnTo>
                      <a:pt x="0" y="1405"/>
                    </a:lnTo>
                    <a:lnTo>
                      <a:pt x="0" y="1346"/>
                    </a:lnTo>
                    <a:lnTo>
                      <a:pt x="0" y="1286"/>
                    </a:lnTo>
                    <a:lnTo>
                      <a:pt x="0" y="1226"/>
                    </a:lnTo>
                    <a:lnTo>
                      <a:pt x="13" y="1176"/>
                    </a:lnTo>
                    <a:lnTo>
                      <a:pt x="38" y="1126"/>
                    </a:lnTo>
                    <a:lnTo>
                      <a:pt x="50" y="1076"/>
                    </a:lnTo>
                    <a:lnTo>
                      <a:pt x="75" y="1027"/>
                    </a:lnTo>
                    <a:lnTo>
                      <a:pt x="88" y="977"/>
                    </a:lnTo>
                    <a:lnTo>
                      <a:pt x="113" y="927"/>
                    </a:lnTo>
                    <a:lnTo>
                      <a:pt x="138" y="887"/>
                    </a:lnTo>
                    <a:lnTo>
                      <a:pt x="163" y="837"/>
                    </a:lnTo>
                    <a:lnTo>
                      <a:pt x="188" y="797"/>
                    </a:lnTo>
                    <a:lnTo>
                      <a:pt x="225" y="768"/>
                    </a:lnTo>
                    <a:lnTo>
                      <a:pt x="250" y="718"/>
                    </a:lnTo>
                    <a:lnTo>
                      <a:pt x="276" y="678"/>
                    </a:lnTo>
                    <a:lnTo>
                      <a:pt x="313" y="638"/>
                    </a:lnTo>
                    <a:lnTo>
                      <a:pt x="338" y="608"/>
                    </a:lnTo>
                    <a:lnTo>
                      <a:pt x="376" y="578"/>
                    </a:lnTo>
                    <a:lnTo>
                      <a:pt x="413" y="538"/>
                    </a:lnTo>
                    <a:lnTo>
                      <a:pt x="451" y="508"/>
                    </a:lnTo>
                    <a:lnTo>
                      <a:pt x="476" y="479"/>
                    </a:lnTo>
                    <a:lnTo>
                      <a:pt x="513" y="449"/>
                    </a:lnTo>
                    <a:lnTo>
                      <a:pt x="551" y="419"/>
                    </a:lnTo>
                    <a:lnTo>
                      <a:pt x="589" y="389"/>
                    </a:lnTo>
                    <a:lnTo>
                      <a:pt x="626" y="369"/>
                    </a:lnTo>
                    <a:lnTo>
                      <a:pt x="664" y="339"/>
                    </a:lnTo>
                    <a:lnTo>
                      <a:pt x="701" y="319"/>
                    </a:lnTo>
                    <a:lnTo>
                      <a:pt x="739" y="299"/>
                    </a:lnTo>
                    <a:lnTo>
                      <a:pt x="776" y="279"/>
                    </a:lnTo>
                    <a:lnTo>
                      <a:pt x="814" y="259"/>
                    </a:lnTo>
                    <a:lnTo>
                      <a:pt x="852" y="239"/>
                    </a:lnTo>
                    <a:lnTo>
                      <a:pt x="877" y="210"/>
                    </a:lnTo>
                    <a:lnTo>
                      <a:pt x="914" y="200"/>
                    </a:lnTo>
                    <a:lnTo>
                      <a:pt x="952" y="180"/>
                    </a:lnTo>
                    <a:lnTo>
                      <a:pt x="989" y="170"/>
                    </a:lnTo>
                    <a:lnTo>
                      <a:pt x="1014" y="150"/>
                    </a:lnTo>
                    <a:lnTo>
                      <a:pt x="1065" y="140"/>
                    </a:lnTo>
                    <a:lnTo>
                      <a:pt x="1090" y="130"/>
                    </a:lnTo>
                    <a:lnTo>
                      <a:pt x="1127" y="110"/>
                    </a:lnTo>
                    <a:lnTo>
                      <a:pt x="1165" y="100"/>
                    </a:lnTo>
                    <a:lnTo>
                      <a:pt x="1190" y="90"/>
                    </a:lnTo>
                    <a:lnTo>
                      <a:pt x="1252" y="70"/>
                    </a:lnTo>
                    <a:lnTo>
                      <a:pt x="1315" y="60"/>
                    </a:lnTo>
                    <a:lnTo>
                      <a:pt x="1365" y="40"/>
                    </a:lnTo>
                    <a:lnTo>
                      <a:pt x="1415" y="20"/>
                    </a:lnTo>
                    <a:lnTo>
                      <a:pt x="1453" y="10"/>
                    </a:lnTo>
                    <a:lnTo>
                      <a:pt x="1490" y="10"/>
                    </a:lnTo>
                    <a:lnTo>
                      <a:pt x="1540" y="0"/>
                    </a:lnTo>
                    <a:lnTo>
                      <a:pt x="1566" y="0"/>
                    </a:lnTo>
                    <a:lnTo>
                      <a:pt x="1979" y="329"/>
                    </a:lnTo>
                    <a:lnTo>
                      <a:pt x="1979" y="329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10120" y="4143600"/>
                <a:ext cx="3256200" cy="770040"/>
              </a:xfrm>
              <a:custGeom>
                <a:avLst/>
                <a:gdLst/>
                <a:ahLst/>
                <a:rect l="l" t="t" r="r" b="b"/>
                <a:pathLst>
                  <a:path w="6537" h="1664">
                    <a:moveTo>
                      <a:pt x="626" y="40"/>
                    </a:moveTo>
                    <a:lnTo>
                      <a:pt x="613" y="50"/>
                    </a:lnTo>
                    <a:lnTo>
                      <a:pt x="613" y="70"/>
                    </a:lnTo>
                    <a:lnTo>
                      <a:pt x="601" y="90"/>
                    </a:lnTo>
                    <a:lnTo>
                      <a:pt x="601" y="110"/>
                    </a:lnTo>
                    <a:lnTo>
                      <a:pt x="601" y="130"/>
                    </a:lnTo>
                    <a:lnTo>
                      <a:pt x="613" y="170"/>
                    </a:lnTo>
                    <a:lnTo>
                      <a:pt x="613" y="190"/>
                    </a:lnTo>
                    <a:lnTo>
                      <a:pt x="613" y="229"/>
                    </a:lnTo>
                    <a:lnTo>
                      <a:pt x="613" y="259"/>
                    </a:lnTo>
                    <a:lnTo>
                      <a:pt x="639" y="309"/>
                    </a:lnTo>
                    <a:lnTo>
                      <a:pt x="651" y="339"/>
                    </a:lnTo>
                    <a:lnTo>
                      <a:pt x="664" y="379"/>
                    </a:lnTo>
                    <a:lnTo>
                      <a:pt x="676" y="429"/>
                    </a:lnTo>
                    <a:lnTo>
                      <a:pt x="714" y="469"/>
                    </a:lnTo>
                    <a:lnTo>
                      <a:pt x="739" y="508"/>
                    </a:lnTo>
                    <a:lnTo>
                      <a:pt x="764" y="558"/>
                    </a:lnTo>
                    <a:lnTo>
                      <a:pt x="801" y="598"/>
                    </a:lnTo>
                    <a:lnTo>
                      <a:pt x="851" y="638"/>
                    </a:lnTo>
                    <a:lnTo>
                      <a:pt x="902" y="688"/>
                    </a:lnTo>
                    <a:lnTo>
                      <a:pt x="952" y="728"/>
                    </a:lnTo>
                    <a:lnTo>
                      <a:pt x="989" y="748"/>
                    </a:lnTo>
                    <a:lnTo>
                      <a:pt x="1014" y="767"/>
                    </a:lnTo>
                    <a:lnTo>
                      <a:pt x="1052" y="797"/>
                    </a:lnTo>
                    <a:lnTo>
                      <a:pt x="1089" y="817"/>
                    </a:lnTo>
                    <a:lnTo>
                      <a:pt x="1127" y="827"/>
                    </a:lnTo>
                    <a:lnTo>
                      <a:pt x="1152" y="857"/>
                    </a:lnTo>
                    <a:lnTo>
                      <a:pt x="1202" y="867"/>
                    </a:lnTo>
                    <a:lnTo>
                      <a:pt x="1240" y="887"/>
                    </a:lnTo>
                    <a:lnTo>
                      <a:pt x="1290" y="907"/>
                    </a:lnTo>
                    <a:lnTo>
                      <a:pt x="1340" y="927"/>
                    </a:lnTo>
                    <a:lnTo>
                      <a:pt x="1390" y="947"/>
                    </a:lnTo>
                    <a:lnTo>
                      <a:pt x="1440" y="967"/>
                    </a:lnTo>
                    <a:lnTo>
                      <a:pt x="1490" y="977"/>
                    </a:lnTo>
                    <a:lnTo>
                      <a:pt x="1540" y="997"/>
                    </a:lnTo>
                    <a:lnTo>
                      <a:pt x="1603" y="1007"/>
                    </a:lnTo>
                    <a:lnTo>
                      <a:pt x="1666" y="1027"/>
                    </a:lnTo>
                    <a:lnTo>
                      <a:pt x="1728" y="1037"/>
                    </a:lnTo>
                    <a:lnTo>
                      <a:pt x="1791" y="1056"/>
                    </a:lnTo>
                    <a:lnTo>
                      <a:pt x="1853" y="1066"/>
                    </a:lnTo>
                    <a:lnTo>
                      <a:pt x="1929" y="1076"/>
                    </a:lnTo>
                    <a:lnTo>
                      <a:pt x="1991" y="1086"/>
                    </a:lnTo>
                    <a:lnTo>
                      <a:pt x="2054" y="1096"/>
                    </a:lnTo>
                    <a:lnTo>
                      <a:pt x="2116" y="1096"/>
                    </a:lnTo>
                    <a:lnTo>
                      <a:pt x="2179" y="1106"/>
                    </a:lnTo>
                    <a:lnTo>
                      <a:pt x="2254" y="1116"/>
                    </a:lnTo>
                    <a:lnTo>
                      <a:pt x="2317" y="1116"/>
                    </a:lnTo>
                    <a:lnTo>
                      <a:pt x="2392" y="1126"/>
                    </a:lnTo>
                    <a:lnTo>
                      <a:pt x="2455" y="1126"/>
                    </a:lnTo>
                    <a:lnTo>
                      <a:pt x="2530" y="1126"/>
                    </a:lnTo>
                    <a:lnTo>
                      <a:pt x="2592" y="1126"/>
                    </a:lnTo>
                    <a:lnTo>
                      <a:pt x="2667" y="1126"/>
                    </a:lnTo>
                    <a:lnTo>
                      <a:pt x="2743" y="1136"/>
                    </a:lnTo>
                    <a:lnTo>
                      <a:pt x="2818" y="1126"/>
                    </a:lnTo>
                    <a:lnTo>
                      <a:pt x="2893" y="1126"/>
                    </a:lnTo>
                    <a:lnTo>
                      <a:pt x="2968" y="1126"/>
                    </a:lnTo>
                    <a:lnTo>
                      <a:pt x="3043" y="1126"/>
                    </a:lnTo>
                    <a:lnTo>
                      <a:pt x="3106" y="1116"/>
                    </a:lnTo>
                    <a:lnTo>
                      <a:pt x="3181" y="1106"/>
                    </a:lnTo>
                    <a:lnTo>
                      <a:pt x="3256" y="1096"/>
                    </a:lnTo>
                    <a:lnTo>
                      <a:pt x="3331" y="1096"/>
                    </a:lnTo>
                    <a:lnTo>
                      <a:pt x="3406" y="1086"/>
                    </a:lnTo>
                    <a:lnTo>
                      <a:pt x="3482" y="1076"/>
                    </a:lnTo>
                    <a:lnTo>
                      <a:pt x="3557" y="1066"/>
                    </a:lnTo>
                    <a:lnTo>
                      <a:pt x="3632" y="1056"/>
                    </a:lnTo>
                    <a:lnTo>
                      <a:pt x="3707" y="1047"/>
                    </a:lnTo>
                    <a:lnTo>
                      <a:pt x="3782" y="1037"/>
                    </a:lnTo>
                    <a:lnTo>
                      <a:pt x="3857" y="1017"/>
                    </a:lnTo>
                    <a:lnTo>
                      <a:pt x="3932" y="1017"/>
                    </a:lnTo>
                    <a:lnTo>
                      <a:pt x="4008" y="997"/>
                    </a:lnTo>
                    <a:lnTo>
                      <a:pt x="4095" y="987"/>
                    </a:lnTo>
                    <a:lnTo>
                      <a:pt x="4158" y="967"/>
                    </a:lnTo>
                    <a:lnTo>
                      <a:pt x="4245" y="957"/>
                    </a:lnTo>
                    <a:lnTo>
                      <a:pt x="4308" y="937"/>
                    </a:lnTo>
                    <a:lnTo>
                      <a:pt x="4383" y="917"/>
                    </a:lnTo>
                    <a:lnTo>
                      <a:pt x="4458" y="897"/>
                    </a:lnTo>
                    <a:lnTo>
                      <a:pt x="4534" y="887"/>
                    </a:lnTo>
                    <a:lnTo>
                      <a:pt x="4596" y="867"/>
                    </a:lnTo>
                    <a:lnTo>
                      <a:pt x="4671" y="847"/>
                    </a:lnTo>
                    <a:lnTo>
                      <a:pt x="4734" y="827"/>
                    </a:lnTo>
                    <a:lnTo>
                      <a:pt x="4809" y="807"/>
                    </a:lnTo>
                    <a:lnTo>
                      <a:pt x="4884" y="787"/>
                    </a:lnTo>
                    <a:lnTo>
                      <a:pt x="4959" y="758"/>
                    </a:lnTo>
                    <a:lnTo>
                      <a:pt x="5022" y="738"/>
                    </a:lnTo>
                    <a:lnTo>
                      <a:pt x="5097" y="718"/>
                    </a:lnTo>
                    <a:lnTo>
                      <a:pt x="5160" y="698"/>
                    </a:lnTo>
                    <a:lnTo>
                      <a:pt x="5222" y="668"/>
                    </a:lnTo>
                    <a:lnTo>
                      <a:pt x="5285" y="648"/>
                    </a:lnTo>
                    <a:lnTo>
                      <a:pt x="5348" y="628"/>
                    </a:lnTo>
                    <a:lnTo>
                      <a:pt x="5410" y="598"/>
                    </a:lnTo>
                    <a:lnTo>
                      <a:pt x="5473" y="568"/>
                    </a:lnTo>
                    <a:lnTo>
                      <a:pt x="5535" y="538"/>
                    </a:lnTo>
                    <a:lnTo>
                      <a:pt x="5598" y="508"/>
                    </a:lnTo>
                    <a:lnTo>
                      <a:pt x="5648" y="488"/>
                    </a:lnTo>
                    <a:lnTo>
                      <a:pt x="5711" y="459"/>
                    </a:lnTo>
                    <a:lnTo>
                      <a:pt x="5761" y="429"/>
                    </a:lnTo>
                    <a:lnTo>
                      <a:pt x="5824" y="399"/>
                    </a:lnTo>
                    <a:lnTo>
                      <a:pt x="5874" y="369"/>
                    </a:lnTo>
                    <a:lnTo>
                      <a:pt x="5924" y="339"/>
                    </a:lnTo>
                    <a:lnTo>
                      <a:pt x="5974" y="309"/>
                    </a:lnTo>
                    <a:lnTo>
                      <a:pt x="6024" y="279"/>
                    </a:lnTo>
                    <a:lnTo>
                      <a:pt x="6074" y="249"/>
                    </a:lnTo>
                    <a:lnTo>
                      <a:pt x="6124" y="219"/>
                    </a:lnTo>
                    <a:lnTo>
                      <a:pt x="6162" y="190"/>
                    </a:lnTo>
                    <a:lnTo>
                      <a:pt x="6212" y="160"/>
                    </a:lnTo>
                    <a:lnTo>
                      <a:pt x="6537" y="558"/>
                    </a:lnTo>
                    <a:lnTo>
                      <a:pt x="6525" y="568"/>
                    </a:lnTo>
                    <a:lnTo>
                      <a:pt x="6487" y="608"/>
                    </a:lnTo>
                    <a:lnTo>
                      <a:pt x="6462" y="628"/>
                    </a:lnTo>
                    <a:lnTo>
                      <a:pt x="6425" y="658"/>
                    </a:lnTo>
                    <a:lnTo>
                      <a:pt x="6387" y="698"/>
                    </a:lnTo>
                    <a:lnTo>
                      <a:pt x="6337" y="748"/>
                    </a:lnTo>
                    <a:lnTo>
                      <a:pt x="6299" y="758"/>
                    </a:lnTo>
                    <a:lnTo>
                      <a:pt x="6262" y="787"/>
                    </a:lnTo>
                    <a:lnTo>
                      <a:pt x="6224" y="807"/>
                    </a:lnTo>
                    <a:lnTo>
                      <a:pt x="6187" y="837"/>
                    </a:lnTo>
                    <a:lnTo>
                      <a:pt x="6149" y="857"/>
                    </a:lnTo>
                    <a:lnTo>
                      <a:pt x="6099" y="887"/>
                    </a:lnTo>
                    <a:lnTo>
                      <a:pt x="6049" y="917"/>
                    </a:lnTo>
                    <a:lnTo>
                      <a:pt x="5986" y="947"/>
                    </a:lnTo>
                    <a:lnTo>
                      <a:pt x="5924" y="967"/>
                    </a:lnTo>
                    <a:lnTo>
                      <a:pt x="5874" y="997"/>
                    </a:lnTo>
                    <a:lnTo>
                      <a:pt x="5836" y="1017"/>
                    </a:lnTo>
                    <a:lnTo>
                      <a:pt x="5798" y="1027"/>
                    </a:lnTo>
                    <a:lnTo>
                      <a:pt x="5761" y="1037"/>
                    </a:lnTo>
                    <a:lnTo>
                      <a:pt x="5736" y="1056"/>
                    </a:lnTo>
                    <a:lnTo>
                      <a:pt x="5698" y="1066"/>
                    </a:lnTo>
                    <a:lnTo>
                      <a:pt x="5661" y="1076"/>
                    </a:lnTo>
                    <a:lnTo>
                      <a:pt x="5611" y="1096"/>
                    </a:lnTo>
                    <a:lnTo>
                      <a:pt x="5586" y="1116"/>
                    </a:lnTo>
                    <a:lnTo>
                      <a:pt x="5535" y="1126"/>
                    </a:lnTo>
                    <a:lnTo>
                      <a:pt x="5498" y="1146"/>
                    </a:lnTo>
                    <a:lnTo>
                      <a:pt x="5460" y="1156"/>
                    </a:lnTo>
                    <a:lnTo>
                      <a:pt x="5423" y="1176"/>
                    </a:lnTo>
                    <a:lnTo>
                      <a:pt x="5360" y="1196"/>
                    </a:lnTo>
                    <a:lnTo>
                      <a:pt x="5310" y="1206"/>
                    </a:lnTo>
                    <a:lnTo>
                      <a:pt x="5260" y="1226"/>
                    </a:lnTo>
                    <a:lnTo>
                      <a:pt x="5210" y="1246"/>
                    </a:lnTo>
                    <a:lnTo>
                      <a:pt x="5147" y="1256"/>
                    </a:lnTo>
                    <a:lnTo>
                      <a:pt x="5097" y="1266"/>
                    </a:lnTo>
                    <a:lnTo>
                      <a:pt x="5034" y="1286"/>
                    </a:lnTo>
                    <a:lnTo>
                      <a:pt x="4984" y="1306"/>
                    </a:lnTo>
                    <a:lnTo>
                      <a:pt x="4922" y="1326"/>
                    </a:lnTo>
                    <a:lnTo>
                      <a:pt x="4859" y="1335"/>
                    </a:lnTo>
                    <a:lnTo>
                      <a:pt x="4797" y="1345"/>
                    </a:lnTo>
                    <a:lnTo>
                      <a:pt x="4734" y="1365"/>
                    </a:lnTo>
                    <a:lnTo>
                      <a:pt x="4671" y="1385"/>
                    </a:lnTo>
                    <a:lnTo>
                      <a:pt x="4621" y="1405"/>
                    </a:lnTo>
                    <a:lnTo>
                      <a:pt x="4559" y="1415"/>
                    </a:lnTo>
                    <a:lnTo>
                      <a:pt x="4496" y="1435"/>
                    </a:lnTo>
                    <a:lnTo>
                      <a:pt x="4421" y="1445"/>
                    </a:lnTo>
                    <a:lnTo>
                      <a:pt x="4358" y="1455"/>
                    </a:lnTo>
                    <a:lnTo>
                      <a:pt x="4296" y="1475"/>
                    </a:lnTo>
                    <a:lnTo>
                      <a:pt x="4233" y="1485"/>
                    </a:lnTo>
                    <a:lnTo>
                      <a:pt x="4170" y="1495"/>
                    </a:lnTo>
                    <a:lnTo>
                      <a:pt x="4095" y="1515"/>
                    </a:lnTo>
                    <a:lnTo>
                      <a:pt x="4033" y="1525"/>
                    </a:lnTo>
                    <a:lnTo>
                      <a:pt x="3970" y="1535"/>
                    </a:lnTo>
                    <a:lnTo>
                      <a:pt x="3895" y="1545"/>
                    </a:lnTo>
                    <a:lnTo>
                      <a:pt x="3832" y="1565"/>
                    </a:lnTo>
                    <a:lnTo>
                      <a:pt x="3757" y="1575"/>
                    </a:lnTo>
                    <a:lnTo>
                      <a:pt x="3682" y="1585"/>
                    </a:lnTo>
                    <a:lnTo>
                      <a:pt x="3619" y="1595"/>
                    </a:lnTo>
                    <a:lnTo>
                      <a:pt x="3544" y="1605"/>
                    </a:lnTo>
                    <a:lnTo>
                      <a:pt x="3482" y="1615"/>
                    </a:lnTo>
                    <a:lnTo>
                      <a:pt x="3419" y="1624"/>
                    </a:lnTo>
                    <a:lnTo>
                      <a:pt x="3344" y="1634"/>
                    </a:lnTo>
                    <a:lnTo>
                      <a:pt x="3269" y="1634"/>
                    </a:lnTo>
                    <a:lnTo>
                      <a:pt x="3193" y="1644"/>
                    </a:lnTo>
                    <a:lnTo>
                      <a:pt x="3131" y="1654"/>
                    </a:lnTo>
                    <a:lnTo>
                      <a:pt x="3056" y="1654"/>
                    </a:lnTo>
                    <a:lnTo>
                      <a:pt x="2981" y="1654"/>
                    </a:lnTo>
                    <a:lnTo>
                      <a:pt x="2918" y="1664"/>
                    </a:lnTo>
                    <a:lnTo>
                      <a:pt x="2843" y="1664"/>
                    </a:lnTo>
                    <a:lnTo>
                      <a:pt x="2768" y="1664"/>
                    </a:lnTo>
                    <a:lnTo>
                      <a:pt x="2705" y="1664"/>
                    </a:lnTo>
                    <a:lnTo>
                      <a:pt x="2630" y="1664"/>
                    </a:lnTo>
                    <a:lnTo>
                      <a:pt x="2567" y="1664"/>
                    </a:lnTo>
                    <a:lnTo>
                      <a:pt x="2492" y="1664"/>
                    </a:lnTo>
                    <a:lnTo>
                      <a:pt x="2417" y="1664"/>
                    </a:lnTo>
                    <a:lnTo>
                      <a:pt x="2354" y="1664"/>
                    </a:lnTo>
                    <a:lnTo>
                      <a:pt x="2279" y="1664"/>
                    </a:lnTo>
                    <a:lnTo>
                      <a:pt x="2217" y="1654"/>
                    </a:lnTo>
                    <a:lnTo>
                      <a:pt x="2141" y="1654"/>
                    </a:lnTo>
                    <a:lnTo>
                      <a:pt x="2079" y="1644"/>
                    </a:lnTo>
                    <a:lnTo>
                      <a:pt x="2004" y="1634"/>
                    </a:lnTo>
                    <a:lnTo>
                      <a:pt x="1929" y="1624"/>
                    </a:lnTo>
                    <a:lnTo>
                      <a:pt x="1866" y="1615"/>
                    </a:lnTo>
                    <a:lnTo>
                      <a:pt x="1803" y="1605"/>
                    </a:lnTo>
                    <a:lnTo>
                      <a:pt x="1741" y="1605"/>
                    </a:lnTo>
                    <a:lnTo>
                      <a:pt x="1666" y="1585"/>
                    </a:lnTo>
                    <a:lnTo>
                      <a:pt x="1603" y="1565"/>
                    </a:lnTo>
                    <a:lnTo>
                      <a:pt x="1540" y="1555"/>
                    </a:lnTo>
                    <a:lnTo>
                      <a:pt x="1478" y="1535"/>
                    </a:lnTo>
                    <a:lnTo>
                      <a:pt x="1415" y="1525"/>
                    </a:lnTo>
                    <a:lnTo>
                      <a:pt x="1352" y="1505"/>
                    </a:lnTo>
                    <a:lnTo>
                      <a:pt x="1290" y="1485"/>
                    </a:lnTo>
                    <a:lnTo>
                      <a:pt x="1227" y="1475"/>
                    </a:lnTo>
                    <a:lnTo>
                      <a:pt x="1152" y="1445"/>
                    </a:lnTo>
                    <a:lnTo>
                      <a:pt x="1089" y="1415"/>
                    </a:lnTo>
                    <a:lnTo>
                      <a:pt x="1014" y="1385"/>
                    </a:lnTo>
                    <a:lnTo>
                      <a:pt x="964" y="1355"/>
                    </a:lnTo>
                    <a:lnTo>
                      <a:pt x="902" y="1326"/>
                    </a:lnTo>
                    <a:lnTo>
                      <a:pt x="839" y="1296"/>
                    </a:lnTo>
                    <a:lnTo>
                      <a:pt x="789" y="1266"/>
                    </a:lnTo>
                    <a:lnTo>
                      <a:pt x="739" y="1246"/>
                    </a:lnTo>
                    <a:lnTo>
                      <a:pt x="676" y="1206"/>
                    </a:lnTo>
                    <a:lnTo>
                      <a:pt x="626" y="1186"/>
                    </a:lnTo>
                    <a:lnTo>
                      <a:pt x="576" y="1146"/>
                    </a:lnTo>
                    <a:lnTo>
                      <a:pt x="538" y="1126"/>
                    </a:lnTo>
                    <a:lnTo>
                      <a:pt x="501" y="1086"/>
                    </a:lnTo>
                    <a:lnTo>
                      <a:pt x="451" y="1066"/>
                    </a:lnTo>
                    <a:lnTo>
                      <a:pt x="426" y="1027"/>
                    </a:lnTo>
                    <a:lnTo>
                      <a:pt x="388" y="1007"/>
                    </a:lnTo>
                    <a:lnTo>
                      <a:pt x="350" y="967"/>
                    </a:lnTo>
                    <a:lnTo>
                      <a:pt x="325" y="937"/>
                    </a:lnTo>
                    <a:lnTo>
                      <a:pt x="288" y="907"/>
                    </a:lnTo>
                    <a:lnTo>
                      <a:pt x="263" y="877"/>
                    </a:lnTo>
                    <a:lnTo>
                      <a:pt x="238" y="847"/>
                    </a:lnTo>
                    <a:lnTo>
                      <a:pt x="213" y="817"/>
                    </a:lnTo>
                    <a:lnTo>
                      <a:pt x="188" y="787"/>
                    </a:lnTo>
                    <a:lnTo>
                      <a:pt x="175" y="758"/>
                    </a:lnTo>
                    <a:lnTo>
                      <a:pt x="150" y="728"/>
                    </a:lnTo>
                    <a:lnTo>
                      <a:pt x="125" y="698"/>
                    </a:lnTo>
                    <a:lnTo>
                      <a:pt x="113" y="668"/>
                    </a:lnTo>
                    <a:lnTo>
                      <a:pt x="100" y="638"/>
                    </a:lnTo>
                    <a:lnTo>
                      <a:pt x="87" y="608"/>
                    </a:lnTo>
                    <a:lnTo>
                      <a:pt x="75" y="578"/>
                    </a:lnTo>
                    <a:lnTo>
                      <a:pt x="62" y="558"/>
                    </a:lnTo>
                    <a:lnTo>
                      <a:pt x="50" y="528"/>
                    </a:lnTo>
                    <a:lnTo>
                      <a:pt x="37" y="498"/>
                    </a:lnTo>
                    <a:lnTo>
                      <a:pt x="37" y="469"/>
                    </a:lnTo>
                    <a:lnTo>
                      <a:pt x="25" y="439"/>
                    </a:lnTo>
                    <a:lnTo>
                      <a:pt x="25" y="419"/>
                    </a:lnTo>
                    <a:lnTo>
                      <a:pt x="12" y="389"/>
                    </a:lnTo>
                    <a:lnTo>
                      <a:pt x="12" y="359"/>
                    </a:lnTo>
                    <a:lnTo>
                      <a:pt x="12" y="339"/>
                    </a:lnTo>
                    <a:lnTo>
                      <a:pt x="12" y="319"/>
                    </a:lnTo>
                    <a:lnTo>
                      <a:pt x="0" y="269"/>
                    </a:lnTo>
                    <a:lnTo>
                      <a:pt x="0" y="229"/>
                    </a:lnTo>
                    <a:lnTo>
                      <a:pt x="12" y="190"/>
                    </a:lnTo>
                    <a:lnTo>
                      <a:pt x="12" y="150"/>
                    </a:lnTo>
                    <a:lnTo>
                      <a:pt x="12" y="110"/>
                    </a:lnTo>
                    <a:lnTo>
                      <a:pt x="25" y="90"/>
                    </a:lnTo>
                    <a:lnTo>
                      <a:pt x="25" y="60"/>
                    </a:lnTo>
                    <a:lnTo>
                      <a:pt x="37" y="40"/>
                    </a:lnTo>
                    <a:lnTo>
                      <a:pt x="37" y="10"/>
                    </a:lnTo>
                    <a:lnTo>
                      <a:pt x="50" y="0"/>
                    </a:lnTo>
                    <a:lnTo>
                      <a:pt x="626" y="40"/>
                    </a:lnTo>
                    <a:lnTo>
                      <a:pt x="626" y="4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144920" y="2880360"/>
                <a:ext cx="1946520" cy="1512000"/>
              </a:xfrm>
              <a:custGeom>
                <a:avLst/>
                <a:gdLst/>
                <a:ahLst/>
                <a:rect l="l" t="t" r="r" b="b"/>
                <a:pathLst>
                  <a:path w="3908" h="3268">
                    <a:moveTo>
                      <a:pt x="338" y="2581"/>
                    </a:moveTo>
                    <a:lnTo>
                      <a:pt x="338" y="2581"/>
                    </a:lnTo>
                    <a:lnTo>
                      <a:pt x="376" y="2591"/>
                    </a:lnTo>
                    <a:lnTo>
                      <a:pt x="401" y="2601"/>
                    </a:lnTo>
                    <a:lnTo>
                      <a:pt x="426" y="2611"/>
                    </a:lnTo>
                    <a:lnTo>
                      <a:pt x="463" y="2631"/>
                    </a:lnTo>
                    <a:lnTo>
                      <a:pt x="501" y="2641"/>
                    </a:lnTo>
                    <a:lnTo>
                      <a:pt x="539" y="2650"/>
                    </a:lnTo>
                    <a:lnTo>
                      <a:pt x="576" y="2670"/>
                    </a:lnTo>
                    <a:lnTo>
                      <a:pt x="639" y="2680"/>
                    </a:lnTo>
                    <a:lnTo>
                      <a:pt x="689" y="2700"/>
                    </a:lnTo>
                    <a:lnTo>
                      <a:pt x="739" y="2710"/>
                    </a:lnTo>
                    <a:lnTo>
                      <a:pt x="802" y="2730"/>
                    </a:lnTo>
                    <a:lnTo>
                      <a:pt x="839" y="2730"/>
                    </a:lnTo>
                    <a:lnTo>
                      <a:pt x="877" y="2740"/>
                    </a:lnTo>
                    <a:lnTo>
                      <a:pt x="902" y="2750"/>
                    </a:lnTo>
                    <a:lnTo>
                      <a:pt x="939" y="2760"/>
                    </a:lnTo>
                    <a:lnTo>
                      <a:pt x="977" y="2760"/>
                    </a:lnTo>
                    <a:lnTo>
                      <a:pt x="1002" y="2770"/>
                    </a:lnTo>
                    <a:lnTo>
                      <a:pt x="1039" y="2770"/>
                    </a:lnTo>
                    <a:lnTo>
                      <a:pt x="1077" y="2780"/>
                    </a:lnTo>
                    <a:lnTo>
                      <a:pt x="1115" y="2780"/>
                    </a:lnTo>
                    <a:lnTo>
                      <a:pt x="1152" y="2790"/>
                    </a:lnTo>
                    <a:lnTo>
                      <a:pt x="1190" y="2790"/>
                    </a:lnTo>
                    <a:lnTo>
                      <a:pt x="1227" y="2800"/>
                    </a:lnTo>
                    <a:lnTo>
                      <a:pt x="1265" y="2800"/>
                    </a:lnTo>
                    <a:lnTo>
                      <a:pt x="1303" y="2810"/>
                    </a:lnTo>
                    <a:lnTo>
                      <a:pt x="1340" y="2810"/>
                    </a:lnTo>
                    <a:lnTo>
                      <a:pt x="1378" y="2810"/>
                    </a:lnTo>
                    <a:lnTo>
                      <a:pt x="1428" y="2810"/>
                    </a:lnTo>
                    <a:lnTo>
                      <a:pt x="1465" y="2810"/>
                    </a:lnTo>
                    <a:lnTo>
                      <a:pt x="1515" y="2810"/>
                    </a:lnTo>
                    <a:lnTo>
                      <a:pt x="1553" y="2820"/>
                    </a:lnTo>
                    <a:lnTo>
                      <a:pt x="1603" y="2810"/>
                    </a:lnTo>
                    <a:lnTo>
                      <a:pt x="1641" y="2810"/>
                    </a:lnTo>
                    <a:lnTo>
                      <a:pt x="1691" y="2800"/>
                    </a:lnTo>
                    <a:lnTo>
                      <a:pt x="1728" y="2800"/>
                    </a:lnTo>
                    <a:lnTo>
                      <a:pt x="1778" y="2790"/>
                    </a:lnTo>
                    <a:lnTo>
                      <a:pt x="1816" y="2790"/>
                    </a:lnTo>
                    <a:lnTo>
                      <a:pt x="1854" y="2780"/>
                    </a:lnTo>
                    <a:lnTo>
                      <a:pt x="1916" y="2780"/>
                    </a:lnTo>
                    <a:lnTo>
                      <a:pt x="1954" y="2770"/>
                    </a:lnTo>
                    <a:lnTo>
                      <a:pt x="2004" y="2760"/>
                    </a:lnTo>
                    <a:lnTo>
                      <a:pt x="2041" y="2750"/>
                    </a:lnTo>
                    <a:lnTo>
                      <a:pt x="2092" y="2740"/>
                    </a:lnTo>
                    <a:lnTo>
                      <a:pt x="2129" y="2730"/>
                    </a:lnTo>
                    <a:lnTo>
                      <a:pt x="2179" y="2710"/>
                    </a:lnTo>
                    <a:lnTo>
                      <a:pt x="2229" y="2700"/>
                    </a:lnTo>
                    <a:lnTo>
                      <a:pt x="2279" y="2690"/>
                    </a:lnTo>
                    <a:lnTo>
                      <a:pt x="2317" y="2670"/>
                    </a:lnTo>
                    <a:lnTo>
                      <a:pt x="2355" y="2660"/>
                    </a:lnTo>
                    <a:lnTo>
                      <a:pt x="2392" y="2650"/>
                    </a:lnTo>
                    <a:lnTo>
                      <a:pt x="2430" y="2631"/>
                    </a:lnTo>
                    <a:lnTo>
                      <a:pt x="2467" y="2611"/>
                    </a:lnTo>
                    <a:lnTo>
                      <a:pt x="2505" y="2601"/>
                    </a:lnTo>
                    <a:lnTo>
                      <a:pt x="2542" y="2591"/>
                    </a:lnTo>
                    <a:lnTo>
                      <a:pt x="2567" y="2571"/>
                    </a:lnTo>
                    <a:lnTo>
                      <a:pt x="2630" y="2541"/>
                    </a:lnTo>
                    <a:lnTo>
                      <a:pt x="2693" y="2511"/>
                    </a:lnTo>
                    <a:lnTo>
                      <a:pt x="2743" y="2481"/>
                    </a:lnTo>
                    <a:lnTo>
                      <a:pt x="2805" y="2451"/>
                    </a:lnTo>
                    <a:lnTo>
                      <a:pt x="2843" y="2411"/>
                    </a:lnTo>
                    <a:lnTo>
                      <a:pt x="2893" y="2381"/>
                    </a:lnTo>
                    <a:lnTo>
                      <a:pt x="2931" y="2352"/>
                    </a:lnTo>
                    <a:lnTo>
                      <a:pt x="2968" y="2322"/>
                    </a:lnTo>
                    <a:lnTo>
                      <a:pt x="3006" y="2282"/>
                    </a:lnTo>
                    <a:lnTo>
                      <a:pt x="3043" y="2252"/>
                    </a:lnTo>
                    <a:lnTo>
                      <a:pt x="3068" y="2212"/>
                    </a:lnTo>
                    <a:lnTo>
                      <a:pt x="3106" y="2182"/>
                    </a:lnTo>
                    <a:lnTo>
                      <a:pt x="3118" y="2142"/>
                    </a:lnTo>
                    <a:lnTo>
                      <a:pt x="3144" y="2102"/>
                    </a:lnTo>
                    <a:lnTo>
                      <a:pt x="3156" y="2063"/>
                    </a:lnTo>
                    <a:lnTo>
                      <a:pt x="3181" y="2023"/>
                    </a:lnTo>
                    <a:lnTo>
                      <a:pt x="3194" y="1983"/>
                    </a:lnTo>
                    <a:lnTo>
                      <a:pt x="3206" y="1943"/>
                    </a:lnTo>
                    <a:lnTo>
                      <a:pt x="3219" y="1903"/>
                    </a:lnTo>
                    <a:lnTo>
                      <a:pt x="3231" y="1863"/>
                    </a:lnTo>
                    <a:lnTo>
                      <a:pt x="3244" y="1813"/>
                    </a:lnTo>
                    <a:lnTo>
                      <a:pt x="3256" y="1774"/>
                    </a:lnTo>
                    <a:lnTo>
                      <a:pt x="3256" y="1724"/>
                    </a:lnTo>
                    <a:lnTo>
                      <a:pt x="3269" y="1684"/>
                    </a:lnTo>
                    <a:lnTo>
                      <a:pt x="3281" y="1624"/>
                    </a:lnTo>
                    <a:lnTo>
                      <a:pt x="3281" y="1584"/>
                    </a:lnTo>
                    <a:lnTo>
                      <a:pt x="3281" y="1534"/>
                    </a:lnTo>
                    <a:lnTo>
                      <a:pt x="3294" y="1495"/>
                    </a:lnTo>
                    <a:lnTo>
                      <a:pt x="3294" y="1465"/>
                    </a:lnTo>
                    <a:lnTo>
                      <a:pt x="3294" y="1435"/>
                    </a:lnTo>
                    <a:lnTo>
                      <a:pt x="3294" y="1405"/>
                    </a:lnTo>
                    <a:lnTo>
                      <a:pt x="3294" y="1385"/>
                    </a:lnTo>
                    <a:lnTo>
                      <a:pt x="3294" y="1335"/>
                    </a:lnTo>
                    <a:lnTo>
                      <a:pt x="3294" y="1295"/>
                    </a:lnTo>
                    <a:lnTo>
                      <a:pt x="3281" y="1235"/>
                    </a:lnTo>
                    <a:lnTo>
                      <a:pt x="3281" y="1196"/>
                    </a:lnTo>
                    <a:lnTo>
                      <a:pt x="3269" y="1156"/>
                    </a:lnTo>
                    <a:lnTo>
                      <a:pt x="3256" y="1116"/>
                    </a:lnTo>
                    <a:lnTo>
                      <a:pt x="3231" y="1076"/>
                    </a:lnTo>
                    <a:lnTo>
                      <a:pt x="3219" y="1036"/>
                    </a:lnTo>
                    <a:lnTo>
                      <a:pt x="3206" y="996"/>
                    </a:lnTo>
                    <a:lnTo>
                      <a:pt x="3181" y="956"/>
                    </a:lnTo>
                    <a:lnTo>
                      <a:pt x="3156" y="917"/>
                    </a:lnTo>
                    <a:lnTo>
                      <a:pt x="3131" y="887"/>
                    </a:lnTo>
                    <a:lnTo>
                      <a:pt x="3118" y="857"/>
                    </a:lnTo>
                    <a:lnTo>
                      <a:pt x="3093" y="827"/>
                    </a:lnTo>
                    <a:lnTo>
                      <a:pt x="3068" y="797"/>
                    </a:lnTo>
                    <a:lnTo>
                      <a:pt x="3031" y="767"/>
                    </a:lnTo>
                    <a:lnTo>
                      <a:pt x="3006" y="737"/>
                    </a:lnTo>
                    <a:lnTo>
                      <a:pt x="2981" y="717"/>
                    </a:lnTo>
                    <a:lnTo>
                      <a:pt x="2956" y="687"/>
                    </a:lnTo>
                    <a:lnTo>
                      <a:pt x="2931" y="658"/>
                    </a:lnTo>
                    <a:lnTo>
                      <a:pt x="2893" y="638"/>
                    </a:lnTo>
                    <a:lnTo>
                      <a:pt x="2881" y="618"/>
                    </a:lnTo>
                    <a:lnTo>
                      <a:pt x="2818" y="578"/>
                    </a:lnTo>
                    <a:lnTo>
                      <a:pt x="2755" y="538"/>
                    </a:lnTo>
                    <a:lnTo>
                      <a:pt x="2705" y="508"/>
                    </a:lnTo>
                    <a:lnTo>
                      <a:pt x="2668" y="478"/>
                    </a:lnTo>
                    <a:lnTo>
                      <a:pt x="2555" y="0"/>
                    </a:lnTo>
                    <a:lnTo>
                      <a:pt x="2555" y="0"/>
                    </a:lnTo>
                    <a:lnTo>
                      <a:pt x="2592" y="10"/>
                    </a:lnTo>
                    <a:lnTo>
                      <a:pt x="2618" y="10"/>
                    </a:lnTo>
                    <a:lnTo>
                      <a:pt x="2643" y="20"/>
                    </a:lnTo>
                    <a:lnTo>
                      <a:pt x="2668" y="30"/>
                    </a:lnTo>
                    <a:lnTo>
                      <a:pt x="2718" y="40"/>
                    </a:lnTo>
                    <a:lnTo>
                      <a:pt x="2743" y="50"/>
                    </a:lnTo>
                    <a:lnTo>
                      <a:pt x="2780" y="70"/>
                    </a:lnTo>
                    <a:lnTo>
                      <a:pt x="2818" y="80"/>
                    </a:lnTo>
                    <a:lnTo>
                      <a:pt x="2881" y="100"/>
                    </a:lnTo>
                    <a:lnTo>
                      <a:pt x="2918" y="119"/>
                    </a:lnTo>
                    <a:lnTo>
                      <a:pt x="2968" y="149"/>
                    </a:lnTo>
                    <a:lnTo>
                      <a:pt x="3031" y="169"/>
                    </a:lnTo>
                    <a:lnTo>
                      <a:pt x="3081" y="199"/>
                    </a:lnTo>
                    <a:lnTo>
                      <a:pt x="3131" y="229"/>
                    </a:lnTo>
                    <a:lnTo>
                      <a:pt x="3181" y="259"/>
                    </a:lnTo>
                    <a:lnTo>
                      <a:pt x="3231" y="289"/>
                    </a:lnTo>
                    <a:lnTo>
                      <a:pt x="3281" y="329"/>
                    </a:lnTo>
                    <a:lnTo>
                      <a:pt x="3344" y="359"/>
                    </a:lnTo>
                    <a:lnTo>
                      <a:pt x="3394" y="408"/>
                    </a:lnTo>
                    <a:lnTo>
                      <a:pt x="3444" y="448"/>
                    </a:lnTo>
                    <a:lnTo>
                      <a:pt x="3494" y="498"/>
                    </a:lnTo>
                    <a:lnTo>
                      <a:pt x="3519" y="518"/>
                    </a:lnTo>
                    <a:lnTo>
                      <a:pt x="3532" y="538"/>
                    </a:lnTo>
                    <a:lnTo>
                      <a:pt x="3557" y="568"/>
                    </a:lnTo>
                    <a:lnTo>
                      <a:pt x="3582" y="598"/>
                    </a:lnTo>
                    <a:lnTo>
                      <a:pt x="3594" y="618"/>
                    </a:lnTo>
                    <a:lnTo>
                      <a:pt x="3619" y="648"/>
                    </a:lnTo>
                    <a:lnTo>
                      <a:pt x="3645" y="677"/>
                    </a:lnTo>
                    <a:lnTo>
                      <a:pt x="3670" y="707"/>
                    </a:lnTo>
                    <a:lnTo>
                      <a:pt x="3682" y="737"/>
                    </a:lnTo>
                    <a:lnTo>
                      <a:pt x="3707" y="767"/>
                    </a:lnTo>
                    <a:lnTo>
                      <a:pt x="3720" y="797"/>
                    </a:lnTo>
                    <a:lnTo>
                      <a:pt x="3745" y="827"/>
                    </a:lnTo>
                    <a:lnTo>
                      <a:pt x="3757" y="857"/>
                    </a:lnTo>
                    <a:lnTo>
                      <a:pt x="3770" y="897"/>
                    </a:lnTo>
                    <a:lnTo>
                      <a:pt x="3795" y="927"/>
                    </a:lnTo>
                    <a:lnTo>
                      <a:pt x="3807" y="966"/>
                    </a:lnTo>
                    <a:lnTo>
                      <a:pt x="3820" y="996"/>
                    </a:lnTo>
                    <a:lnTo>
                      <a:pt x="3832" y="1036"/>
                    </a:lnTo>
                    <a:lnTo>
                      <a:pt x="3832" y="1066"/>
                    </a:lnTo>
                    <a:lnTo>
                      <a:pt x="3845" y="1106"/>
                    </a:lnTo>
                    <a:lnTo>
                      <a:pt x="3857" y="1136"/>
                    </a:lnTo>
                    <a:lnTo>
                      <a:pt x="3870" y="1176"/>
                    </a:lnTo>
                    <a:lnTo>
                      <a:pt x="3870" y="1206"/>
                    </a:lnTo>
                    <a:lnTo>
                      <a:pt x="3882" y="1245"/>
                    </a:lnTo>
                    <a:lnTo>
                      <a:pt x="3882" y="1275"/>
                    </a:lnTo>
                    <a:lnTo>
                      <a:pt x="3895" y="1315"/>
                    </a:lnTo>
                    <a:lnTo>
                      <a:pt x="3895" y="1345"/>
                    </a:lnTo>
                    <a:lnTo>
                      <a:pt x="3908" y="1385"/>
                    </a:lnTo>
                    <a:lnTo>
                      <a:pt x="3908" y="1415"/>
                    </a:lnTo>
                    <a:lnTo>
                      <a:pt x="3908" y="1455"/>
                    </a:lnTo>
                    <a:lnTo>
                      <a:pt x="3908" y="1485"/>
                    </a:lnTo>
                    <a:lnTo>
                      <a:pt x="3908" y="1524"/>
                    </a:lnTo>
                    <a:lnTo>
                      <a:pt x="3908" y="1554"/>
                    </a:lnTo>
                    <a:lnTo>
                      <a:pt x="3908" y="1584"/>
                    </a:lnTo>
                    <a:lnTo>
                      <a:pt x="3895" y="1624"/>
                    </a:lnTo>
                    <a:lnTo>
                      <a:pt x="3895" y="1654"/>
                    </a:lnTo>
                    <a:lnTo>
                      <a:pt x="3895" y="1694"/>
                    </a:lnTo>
                    <a:lnTo>
                      <a:pt x="3882" y="1724"/>
                    </a:lnTo>
                    <a:lnTo>
                      <a:pt x="3882" y="1764"/>
                    </a:lnTo>
                    <a:lnTo>
                      <a:pt x="3870" y="1794"/>
                    </a:lnTo>
                    <a:lnTo>
                      <a:pt x="3857" y="1823"/>
                    </a:lnTo>
                    <a:lnTo>
                      <a:pt x="3857" y="1863"/>
                    </a:lnTo>
                    <a:lnTo>
                      <a:pt x="3845" y="1883"/>
                    </a:lnTo>
                    <a:lnTo>
                      <a:pt x="3832" y="1923"/>
                    </a:lnTo>
                    <a:lnTo>
                      <a:pt x="3820" y="1953"/>
                    </a:lnTo>
                    <a:lnTo>
                      <a:pt x="3820" y="1993"/>
                    </a:lnTo>
                    <a:lnTo>
                      <a:pt x="3795" y="2023"/>
                    </a:lnTo>
                    <a:lnTo>
                      <a:pt x="3795" y="2063"/>
                    </a:lnTo>
                    <a:lnTo>
                      <a:pt x="3770" y="2082"/>
                    </a:lnTo>
                    <a:lnTo>
                      <a:pt x="3757" y="2122"/>
                    </a:lnTo>
                    <a:lnTo>
                      <a:pt x="3745" y="2142"/>
                    </a:lnTo>
                    <a:lnTo>
                      <a:pt x="3720" y="2182"/>
                    </a:lnTo>
                    <a:lnTo>
                      <a:pt x="3695" y="2202"/>
                    </a:lnTo>
                    <a:lnTo>
                      <a:pt x="3682" y="2242"/>
                    </a:lnTo>
                    <a:lnTo>
                      <a:pt x="3670" y="2272"/>
                    </a:lnTo>
                    <a:lnTo>
                      <a:pt x="3645" y="2302"/>
                    </a:lnTo>
                    <a:lnTo>
                      <a:pt x="3619" y="2332"/>
                    </a:lnTo>
                    <a:lnTo>
                      <a:pt x="3594" y="2362"/>
                    </a:lnTo>
                    <a:lnTo>
                      <a:pt x="3569" y="2391"/>
                    </a:lnTo>
                    <a:lnTo>
                      <a:pt x="3557" y="2421"/>
                    </a:lnTo>
                    <a:lnTo>
                      <a:pt x="3519" y="2451"/>
                    </a:lnTo>
                    <a:lnTo>
                      <a:pt x="3507" y="2481"/>
                    </a:lnTo>
                    <a:lnTo>
                      <a:pt x="3469" y="2511"/>
                    </a:lnTo>
                    <a:lnTo>
                      <a:pt x="3444" y="2541"/>
                    </a:lnTo>
                    <a:lnTo>
                      <a:pt x="3419" y="2561"/>
                    </a:lnTo>
                    <a:lnTo>
                      <a:pt x="3382" y="2591"/>
                    </a:lnTo>
                    <a:lnTo>
                      <a:pt x="3356" y="2621"/>
                    </a:lnTo>
                    <a:lnTo>
                      <a:pt x="3331" y="2650"/>
                    </a:lnTo>
                    <a:lnTo>
                      <a:pt x="3294" y="2670"/>
                    </a:lnTo>
                    <a:lnTo>
                      <a:pt x="3256" y="2700"/>
                    </a:lnTo>
                    <a:lnTo>
                      <a:pt x="3219" y="2720"/>
                    </a:lnTo>
                    <a:lnTo>
                      <a:pt x="3194" y="2750"/>
                    </a:lnTo>
                    <a:lnTo>
                      <a:pt x="3156" y="2780"/>
                    </a:lnTo>
                    <a:lnTo>
                      <a:pt x="3118" y="2800"/>
                    </a:lnTo>
                    <a:lnTo>
                      <a:pt x="3081" y="2820"/>
                    </a:lnTo>
                    <a:lnTo>
                      <a:pt x="3043" y="2850"/>
                    </a:lnTo>
                    <a:lnTo>
                      <a:pt x="3006" y="2870"/>
                    </a:lnTo>
                    <a:lnTo>
                      <a:pt x="2956" y="2900"/>
                    </a:lnTo>
                    <a:lnTo>
                      <a:pt x="2918" y="2920"/>
                    </a:lnTo>
                    <a:lnTo>
                      <a:pt x="2881" y="2949"/>
                    </a:lnTo>
                    <a:lnTo>
                      <a:pt x="2843" y="2969"/>
                    </a:lnTo>
                    <a:lnTo>
                      <a:pt x="2793" y="2989"/>
                    </a:lnTo>
                    <a:lnTo>
                      <a:pt x="2743" y="3009"/>
                    </a:lnTo>
                    <a:lnTo>
                      <a:pt x="2705" y="3029"/>
                    </a:lnTo>
                    <a:lnTo>
                      <a:pt x="2655" y="3049"/>
                    </a:lnTo>
                    <a:lnTo>
                      <a:pt x="2605" y="3059"/>
                    </a:lnTo>
                    <a:lnTo>
                      <a:pt x="2555" y="3079"/>
                    </a:lnTo>
                    <a:lnTo>
                      <a:pt x="2517" y="3099"/>
                    </a:lnTo>
                    <a:lnTo>
                      <a:pt x="2467" y="3109"/>
                    </a:lnTo>
                    <a:lnTo>
                      <a:pt x="2417" y="3129"/>
                    </a:lnTo>
                    <a:lnTo>
                      <a:pt x="2367" y="3139"/>
                    </a:lnTo>
                    <a:lnTo>
                      <a:pt x="2317" y="3159"/>
                    </a:lnTo>
                    <a:lnTo>
                      <a:pt x="2267" y="3169"/>
                    </a:lnTo>
                    <a:lnTo>
                      <a:pt x="2217" y="3179"/>
                    </a:lnTo>
                    <a:lnTo>
                      <a:pt x="2167" y="3189"/>
                    </a:lnTo>
                    <a:lnTo>
                      <a:pt x="2129" y="3199"/>
                    </a:lnTo>
                    <a:lnTo>
                      <a:pt x="2079" y="3209"/>
                    </a:lnTo>
                    <a:lnTo>
                      <a:pt x="2016" y="3218"/>
                    </a:lnTo>
                    <a:lnTo>
                      <a:pt x="1966" y="3228"/>
                    </a:lnTo>
                    <a:lnTo>
                      <a:pt x="1916" y="3238"/>
                    </a:lnTo>
                    <a:lnTo>
                      <a:pt x="1866" y="3238"/>
                    </a:lnTo>
                    <a:lnTo>
                      <a:pt x="1816" y="3238"/>
                    </a:lnTo>
                    <a:lnTo>
                      <a:pt x="1766" y="3248"/>
                    </a:lnTo>
                    <a:lnTo>
                      <a:pt x="1716" y="3258"/>
                    </a:lnTo>
                    <a:lnTo>
                      <a:pt x="1666" y="3258"/>
                    </a:lnTo>
                    <a:lnTo>
                      <a:pt x="1603" y="3258"/>
                    </a:lnTo>
                    <a:lnTo>
                      <a:pt x="1553" y="3258"/>
                    </a:lnTo>
                    <a:lnTo>
                      <a:pt x="1503" y="3268"/>
                    </a:lnTo>
                    <a:lnTo>
                      <a:pt x="1453" y="3268"/>
                    </a:lnTo>
                    <a:lnTo>
                      <a:pt x="1403" y="3268"/>
                    </a:lnTo>
                    <a:lnTo>
                      <a:pt x="1353" y="3268"/>
                    </a:lnTo>
                    <a:lnTo>
                      <a:pt x="1303" y="3268"/>
                    </a:lnTo>
                    <a:lnTo>
                      <a:pt x="1252" y="3258"/>
                    </a:lnTo>
                    <a:lnTo>
                      <a:pt x="1202" y="3258"/>
                    </a:lnTo>
                    <a:lnTo>
                      <a:pt x="1152" y="3248"/>
                    </a:lnTo>
                    <a:lnTo>
                      <a:pt x="1102" y="3248"/>
                    </a:lnTo>
                    <a:lnTo>
                      <a:pt x="1052" y="3238"/>
                    </a:lnTo>
                    <a:lnTo>
                      <a:pt x="1002" y="3238"/>
                    </a:lnTo>
                    <a:lnTo>
                      <a:pt x="964" y="3228"/>
                    </a:lnTo>
                    <a:lnTo>
                      <a:pt x="914" y="3218"/>
                    </a:lnTo>
                    <a:lnTo>
                      <a:pt x="864" y="3209"/>
                    </a:lnTo>
                    <a:lnTo>
                      <a:pt x="814" y="3199"/>
                    </a:lnTo>
                    <a:lnTo>
                      <a:pt x="764" y="3189"/>
                    </a:lnTo>
                    <a:lnTo>
                      <a:pt x="726" y="3179"/>
                    </a:lnTo>
                    <a:lnTo>
                      <a:pt x="676" y="3169"/>
                    </a:lnTo>
                    <a:lnTo>
                      <a:pt x="639" y="3159"/>
                    </a:lnTo>
                    <a:lnTo>
                      <a:pt x="589" y="3149"/>
                    </a:lnTo>
                    <a:lnTo>
                      <a:pt x="564" y="3139"/>
                    </a:lnTo>
                    <a:lnTo>
                      <a:pt x="513" y="3119"/>
                    </a:lnTo>
                    <a:lnTo>
                      <a:pt x="476" y="3109"/>
                    </a:lnTo>
                    <a:lnTo>
                      <a:pt x="426" y="3089"/>
                    </a:lnTo>
                    <a:lnTo>
                      <a:pt x="388" y="3079"/>
                    </a:lnTo>
                    <a:lnTo>
                      <a:pt x="351" y="3059"/>
                    </a:lnTo>
                    <a:lnTo>
                      <a:pt x="313" y="3039"/>
                    </a:lnTo>
                    <a:lnTo>
                      <a:pt x="276" y="3019"/>
                    </a:lnTo>
                    <a:lnTo>
                      <a:pt x="250" y="3009"/>
                    </a:lnTo>
                    <a:lnTo>
                      <a:pt x="213" y="2979"/>
                    </a:lnTo>
                    <a:lnTo>
                      <a:pt x="175" y="2969"/>
                    </a:lnTo>
                    <a:lnTo>
                      <a:pt x="138" y="2939"/>
                    </a:lnTo>
                    <a:lnTo>
                      <a:pt x="113" y="2920"/>
                    </a:lnTo>
                    <a:lnTo>
                      <a:pt x="50" y="2880"/>
                    </a:lnTo>
                    <a:lnTo>
                      <a:pt x="0" y="2840"/>
                    </a:lnTo>
                    <a:lnTo>
                      <a:pt x="338" y="2581"/>
                    </a:lnTo>
                    <a:lnTo>
                      <a:pt x="338" y="2581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803200" y="2054880"/>
                <a:ext cx="2732400" cy="1309320"/>
              </a:xfrm>
              <a:custGeom>
                <a:avLst/>
                <a:gdLst/>
                <a:ahLst/>
                <a:rect l="l" t="t" r="r" b="b"/>
                <a:pathLst>
                  <a:path w="5486" h="2830">
                    <a:moveTo>
                      <a:pt x="313" y="857"/>
                    </a:moveTo>
                    <a:lnTo>
                      <a:pt x="313" y="847"/>
                    </a:lnTo>
                    <a:lnTo>
                      <a:pt x="351" y="837"/>
                    </a:lnTo>
                    <a:lnTo>
                      <a:pt x="376" y="817"/>
                    </a:lnTo>
                    <a:lnTo>
                      <a:pt x="414" y="807"/>
                    </a:lnTo>
                    <a:lnTo>
                      <a:pt x="439" y="787"/>
                    </a:lnTo>
                    <a:lnTo>
                      <a:pt x="489" y="777"/>
                    </a:lnTo>
                    <a:lnTo>
                      <a:pt x="539" y="757"/>
                    </a:lnTo>
                    <a:lnTo>
                      <a:pt x="589" y="738"/>
                    </a:lnTo>
                    <a:lnTo>
                      <a:pt x="614" y="718"/>
                    </a:lnTo>
                    <a:lnTo>
                      <a:pt x="652" y="708"/>
                    </a:lnTo>
                    <a:lnTo>
                      <a:pt x="677" y="708"/>
                    </a:lnTo>
                    <a:lnTo>
                      <a:pt x="714" y="698"/>
                    </a:lnTo>
                    <a:lnTo>
                      <a:pt x="752" y="678"/>
                    </a:lnTo>
                    <a:lnTo>
                      <a:pt x="789" y="668"/>
                    </a:lnTo>
                    <a:lnTo>
                      <a:pt x="814" y="658"/>
                    </a:lnTo>
                    <a:lnTo>
                      <a:pt x="864" y="648"/>
                    </a:lnTo>
                    <a:lnTo>
                      <a:pt x="890" y="638"/>
                    </a:lnTo>
                    <a:lnTo>
                      <a:pt x="940" y="628"/>
                    </a:lnTo>
                    <a:lnTo>
                      <a:pt x="977" y="618"/>
                    </a:lnTo>
                    <a:lnTo>
                      <a:pt x="1027" y="608"/>
                    </a:lnTo>
                    <a:lnTo>
                      <a:pt x="1065" y="598"/>
                    </a:lnTo>
                    <a:lnTo>
                      <a:pt x="1115" y="588"/>
                    </a:lnTo>
                    <a:lnTo>
                      <a:pt x="1153" y="578"/>
                    </a:lnTo>
                    <a:lnTo>
                      <a:pt x="1203" y="568"/>
                    </a:lnTo>
                    <a:lnTo>
                      <a:pt x="1253" y="558"/>
                    </a:lnTo>
                    <a:lnTo>
                      <a:pt x="1303" y="548"/>
                    </a:lnTo>
                    <a:lnTo>
                      <a:pt x="1365" y="538"/>
                    </a:lnTo>
                    <a:lnTo>
                      <a:pt x="1416" y="538"/>
                    </a:lnTo>
                    <a:lnTo>
                      <a:pt x="1466" y="518"/>
                    </a:lnTo>
                    <a:lnTo>
                      <a:pt x="1516" y="518"/>
                    </a:lnTo>
                    <a:lnTo>
                      <a:pt x="1578" y="508"/>
                    </a:lnTo>
                    <a:lnTo>
                      <a:pt x="1628" y="508"/>
                    </a:lnTo>
                    <a:lnTo>
                      <a:pt x="1679" y="498"/>
                    </a:lnTo>
                    <a:lnTo>
                      <a:pt x="1754" y="498"/>
                    </a:lnTo>
                    <a:lnTo>
                      <a:pt x="1804" y="488"/>
                    </a:lnTo>
                    <a:lnTo>
                      <a:pt x="1879" y="488"/>
                    </a:lnTo>
                    <a:lnTo>
                      <a:pt x="1929" y="488"/>
                    </a:lnTo>
                    <a:lnTo>
                      <a:pt x="2004" y="478"/>
                    </a:lnTo>
                    <a:lnTo>
                      <a:pt x="2067" y="478"/>
                    </a:lnTo>
                    <a:lnTo>
                      <a:pt x="2129" y="478"/>
                    </a:lnTo>
                    <a:lnTo>
                      <a:pt x="2192" y="478"/>
                    </a:lnTo>
                    <a:lnTo>
                      <a:pt x="2267" y="478"/>
                    </a:lnTo>
                    <a:lnTo>
                      <a:pt x="2330" y="488"/>
                    </a:lnTo>
                    <a:lnTo>
                      <a:pt x="2405" y="488"/>
                    </a:lnTo>
                    <a:lnTo>
                      <a:pt x="2468" y="488"/>
                    </a:lnTo>
                    <a:lnTo>
                      <a:pt x="2543" y="498"/>
                    </a:lnTo>
                    <a:lnTo>
                      <a:pt x="2618" y="498"/>
                    </a:lnTo>
                    <a:lnTo>
                      <a:pt x="2693" y="508"/>
                    </a:lnTo>
                    <a:lnTo>
                      <a:pt x="2768" y="518"/>
                    </a:lnTo>
                    <a:lnTo>
                      <a:pt x="2843" y="518"/>
                    </a:lnTo>
                    <a:lnTo>
                      <a:pt x="2918" y="538"/>
                    </a:lnTo>
                    <a:lnTo>
                      <a:pt x="3006" y="548"/>
                    </a:lnTo>
                    <a:lnTo>
                      <a:pt x="3081" y="558"/>
                    </a:lnTo>
                    <a:lnTo>
                      <a:pt x="3156" y="578"/>
                    </a:lnTo>
                    <a:lnTo>
                      <a:pt x="3232" y="588"/>
                    </a:lnTo>
                    <a:lnTo>
                      <a:pt x="3307" y="598"/>
                    </a:lnTo>
                    <a:lnTo>
                      <a:pt x="3369" y="618"/>
                    </a:lnTo>
                    <a:lnTo>
                      <a:pt x="3444" y="638"/>
                    </a:lnTo>
                    <a:lnTo>
                      <a:pt x="3507" y="658"/>
                    </a:lnTo>
                    <a:lnTo>
                      <a:pt x="3582" y="678"/>
                    </a:lnTo>
                    <a:lnTo>
                      <a:pt x="3645" y="698"/>
                    </a:lnTo>
                    <a:lnTo>
                      <a:pt x="3707" y="718"/>
                    </a:lnTo>
                    <a:lnTo>
                      <a:pt x="3770" y="738"/>
                    </a:lnTo>
                    <a:lnTo>
                      <a:pt x="3833" y="767"/>
                    </a:lnTo>
                    <a:lnTo>
                      <a:pt x="3895" y="787"/>
                    </a:lnTo>
                    <a:lnTo>
                      <a:pt x="3945" y="817"/>
                    </a:lnTo>
                    <a:lnTo>
                      <a:pt x="4008" y="847"/>
                    </a:lnTo>
                    <a:lnTo>
                      <a:pt x="4058" y="877"/>
                    </a:lnTo>
                    <a:lnTo>
                      <a:pt x="4108" y="907"/>
                    </a:lnTo>
                    <a:lnTo>
                      <a:pt x="4158" y="937"/>
                    </a:lnTo>
                    <a:lnTo>
                      <a:pt x="4208" y="967"/>
                    </a:lnTo>
                    <a:lnTo>
                      <a:pt x="4259" y="997"/>
                    </a:lnTo>
                    <a:lnTo>
                      <a:pt x="4296" y="1027"/>
                    </a:lnTo>
                    <a:lnTo>
                      <a:pt x="4346" y="1066"/>
                    </a:lnTo>
                    <a:lnTo>
                      <a:pt x="4384" y="1106"/>
                    </a:lnTo>
                    <a:lnTo>
                      <a:pt x="4434" y="1136"/>
                    </a:lnTo>
                    <a:lnTo>
                      <a:pt x="4471" y="1166"/>
                    </a:lnTo>
                    <a:lnTo>
                      <a:pt x="4509" y="1206"/>
                    </a:lnTo>
                    <a:lnTo>
                      <a:pt x="4547" y="1246"/>
                    </a:lnTo>
                    <a:lnTo>
                      <a:pt x="4584" y="1286"/>
                    </a:lnTo>
                    <a:lnTo>
                      <a:pt x="4609" y="1325"/>
                    </a:lnTo>
                    <a:lnTo>
                      <a:pt x="4647" y="1365"/>
                    </a:lnTo>
                    <a:lnTo>
                      <a:pt x="4672" y="1405"/>
                    </a:lnTo>
                    <a:lnTo>
                      <a:pt x="4709" y="1445"/>
                    </a:lnTo>
                    <a:lnTo>
                      <a:pt x="4734" y="1485"/>
                    </a:lnTo>
                    <a:lnTo>
                      <a:pt x="4759" y="1525"/>
                    </a:lnTo>
                    <a:lnTo>
                      <a:pt x="4785" y="1565"/>
                    </a:lnTo>
                    <a:lnTo>
                      <a:pt x="4797" y="1614"/>
                    </a:lnTo>
                    <a:lnTo>
                      <a:pt x="4822" y="1654"/>
                    </a:lnTo>
                    <a:lnTo>
                      <a:pt x="4835" y="1694"/>
                    </a:lnTo>
                    <a:lnTo>
                      <a:pt x="4860" y="1734"/>
                    </a:lnTo>
                    <a:lnTo>
                      <a:pt x="4872" y="1784"/>
                    </a:lnTo>
                    <a:lnTo>
                      <a:pt x="4872" y="1824"/>
                    </a:lnTo>
                    <a:lnTo>
                      <a:pt x="4885" y="1864"/>
                    </a:lnTo>
                    <a:lnTo>
                      <a:pt x="4897" y="1903"/>
                    </a:lnTo>
                    <a:lnTo>
                      <a:pt x="4910" y="1953"/>
                    </a:lnTo>
                    <a:lnTo>
                      <a:pt x="4922" y="1993"/>
                    </a:lnTo>
                    <a:lnTo>
                      <a:pt x="4922" y="2043"/>
                    </a:lnTo>
                    <a:lnTo>
                      <a:pt x="4922" y="2083"/>
                    </a:lnTo>
                    <a:lnTo>
                      <a:pt x="4935" y="2133"/>
                    </a:lnTo>
                    <a:lnTo>
                      <a:pt x="4922" y="2172"/>
                    </a:lnTo>
                    <a:lnTo>
                      <a:pt x="4922" y="2212"/>
                    </a:lnTo>
                    <a:lnTo>
                      <a:pt x="4922" y="2262"/>
                    </a:lnTo>
                    <a:lnTo>
                      <a:pt x="4922" y="2312"/>
                    </a:lnTo>
                    <a:lnTo>
                      <a:pt x="4910" y="2352"/>
                    </a:lnTo>
                    <a:lnTo>
                      <a:pt x="4897" y="2392"/>
                    </a:lnTo>
                    <a:lnTo>
                      <a:pt x="4885" y="2442"/>
                    </a:lnTo>
                    <a:lnTo>
                      <a:pt x="4885" y="2481"/>
                    </a:lnTo>
                    <a:lnTo>
                      <a:pt x="4860" y="2521"/>
                    </a:lnTo>
                    <a:lnTo>
                      <a:pt x="4860" y="2571"/>
                    </a:lnTo>
                    <a:lnTo>
                      <a:pt x="4835" y="2611"/>
                    </a:lnTo>
                    <a:lnTo>
                      <a:pt x="4822" y="2661"/>
                    </a:lnTo>
                    <a:lnTo>
                      <a:pt x="4797" y="2701"/>
                    </a:lnTo>
                    <a:lnTo>
                      <a:pt x="4785" y="2740"/>
                    </a:lnTo>
                    <a:lnTo>
                      <a:pt x="4759" y="2780"/>
                    </a:lnTo>
                    <a:lnTo>
                      <a:pt x="4734" y="2830"/>
                    </a:lnTo>
                    <a:lnTo>
                      <a:pt x="5386" y="2551"/>
                    </a:lnTo>
                    <a:lnTo>
                      <a:pt x="5386" y="2541"/>
                    </a:lnTo>
                    <a:lnTo>
                      <a:pt x="5386" y="2521"/>
                    </a:lnTo>
                    <a:lnTo>
                      <a:pt x="5398" y="2491"/>
                    </a:lnTo>
                    <a:lnTo>
                      <a:pt x="5411" y="2451"/>
                    </a:lnTo>
                    <a:lnTo>
                      <a:pt x="5411" y="2432"/>
                    </a:lnTo>
                    <a:lnTo>
                      <a:pt x="5423" y="2402"/>
                    </a:lnTo>
                    <a:lnTo>
                      <a:pt x="5436" y="2372"/>
                    </a:lnTo>
                    <a:lnTo>
                      <a:pt x="5448" y="2342"/>
                    </a:lnTo>
                    <a:lnTo>
                      <a:pt x="5448" y="2312"/>
                    </a:lnTo>
                    <a:lnTo>
                      <a:pt x="5461" y="2282"/>
                    </a:lnTo>
                    <a:lnTo>
                      <a:pt x="5461" y="2242"/>
                    </a:lnTo>
                    <a:lnTo>
                      <a:pt x="5473" y="2212"/>
                    </a:lnTo>
                    <a:lnTo>
                      <a:pt x="5473" y="2172"/>
                    </a:lnTo>
                    <a:lnTo>
                      <a:pt x="5473" y="2123"/>
                    </a:lnTo>
                    <a:lnTo>
                      <a:pt x="5473" y="2083"/>
                    </a:lnTo>
                    <a:lnTo>
                      <a:pt x="5486" y="2043"/>
                    </a:lnTo>
                    <a:lnTo>
                      <a:pt x="5486" y="1993"/>
                    </a:lnTo>
                    <a:lnTo>
                      <a:pt x="5486" y="1953"/>
                    </a:lnTo>
                    <a:lnTo>
                      <a:pt x="5473" y="1903"/>
                    </a:lnTo>
                    <a:lnTo>
                      <a:pt x="5473" y="1864"/>
                    </a:lnTo>
                    <a:lnTo>
                      <a:pt x="5473" y="1834"/>
                    </a:lnTo>
                    <a:lnTo>
                      <a:pt x="5461" y="1804"/>
                    </a:lnTo>
                    <a:lnTo>
                      <a:pt x="5461" y="1784"/>
                    </a:lnTo>
                    <a:lnTo>
                      <a:pt x="5461" y="1754"/>
                    </a:lnTo>
                    <a:lnTo>
                      <a:pt x="5448" y="1734"/>
                    </a:lnTo>
                    <a:lnTo>
                      <a:pt x="5448" y="1704"/>
                    </a:lnTo>
                    <a:lnTo>
                      <a:pt x="5436" y="1674"/>
                    </a:lnTo>
                    <a:lnTo>
                      <a:pt x="5436" y="1654"/>
                    </a:lnTo>
                    <a:lnTo>
                      <a:pt x="5423" y="1624"/>
                    </a:lnTo>
                    <a:lnTo>
                      <a:pt x="5411" y="1604"/>
                    </a:lnTo>
                    <a:lnTo>
                      <a:pt x="5411" y="1575"/>
                    </a:lnTo>
                    <a:lnTo>
                      <a:pt x="5398" y="1545"/>
                    </a:lnTo>
                    <a:lnTo>
                      <a:pt x="5386" y="1525"/>
                    </a:lnTo>
                    <a:lnTo>
                      <a:pt x="5373" y="1495"/>
                    </a:lnTo>
                    <a:lnTo>
                      <a:pt x="5361" y="1465"/>
                    </a:lnTo>
                    <a:lnTo>
                      <a:pt x="5361" y="1445"/>
                    </a:lnTo>
                    <a:lnTo>
                      <a:pt x="5336" y="1405"/>
                    </a:lnTo>
                    <a:lnTo>
                      <a:pt x="5311" y="1355"/>
                    </a:lnTo>
                    <a:lnTo>
                      <a:pt x="5285" y="1325"/>
                    </a:lnTo>
                    <a:lnTo>
                      <a:pt x="5273" y="1286"/>
                    </a:lnTo>
                    <a:lnTo>
                      <a:pt x="5248" y="1246"/>
                    </a:lnTo>
                    <a:lnTo>
                      <a:pt x="5223" y="1216"/>
                    </a:lnTo>
                    <a:lnTo>
                      <a:pt x="5198" y="1176"/>
                    </a:lnTo>
                    <a:lnTo>
                      <a:pt x="5173" y="1146"/>
                    </a:lnTo>
                    <a:lnTo>
                      <a:pt x="5148" y="1106"/>
                    </a:lnTo>
                    <a:lnTo>
                      <a:pt x="5123" y="1076"/>
                    </a:lnTo>
                    <a:lnTo>
                      <a:pt x="5098" y="1036"/>
                    </a:lnTo>
                    <a:lnTo>
                      <a:pt x="5073" y="1007"/>
                    </a:lnTo>
                    <a:lnTo>
                      <a:pt x="5035" y="977"/>
                    </a:lnTo>
                    <a:lnTo>
                      <a:pt x="5010" y="947"/>
                    </a:lnTo>
                    <a:lnTo>
                      <a:pt x="4985" y="907"/>
                    </a:lnTo>
                    <a:lnTo>
                      <a:pt x="4960" y="887"/>
                    </a:lnTo>
                    <a:lnTo>
                      <a:pt x="4922" y="847"/>
                    </a:lnTo>
                    <a:lnTo>
                      <a:pt x="4885" y="817"/>
                    </a:lnTo>
                    <a:lnTo>
                      <a:pt x="4860" y="787"/>
                    </a:lnTo>
                    <a:lnTo>
                      <a:pt x="4822" y="767"/>
                    </a:lnTo>
                    <a:lnTo>
                      <a:pt x="4785" y="738"/>
                    </a:lnTo>
                    <a:lnTo>
                      <a:pt x="4759" y="708"/>
                    </a:lnTo>
                    <a:lnTo>
                      <a:pt x="4722" y="678"/>
                    </a:lnTo>
                    <a:lnTo>
                      <a:pt x="4684" y="658"/>
                    </a:lnTo>
                    <a:lnTo>
                      <a:pt x="4647" y="628"/>
                    </a:lnTo>
                    <a:lnTo>
                      <a:pt x="4609" y="598"/>
                    </a:lnTo>
                    <a:lnTo>
                      <a:pt x="4572" y="578"/>
                    </a:lnTo>
                    <a:lnTo>
                      <a:pt x="4534" y="558"/>
                    </a:lnTo>
                    <a:lnTo>
                      <a:pt x="4496" y="528"/>
                    </a:lnTo>
                    <a:lnTo>
                      <a:pt x="4459" y="508"/>
                    </a:lnTo>
                    <a:lnTo>
                      <a:pt x="4421" y="488"/>
                    </a:lnTo>
                    <a:lnTo>
                      <a:pt x="4384" y="469"/>
                    </a:lnTo>
                    <a:lnTo>
                      <a:pt x="4334" y="439"/>
                    </a:lnTo>
                    <a:lnTo>
                      <a:pt x="4296" y="419"/>
                    </a:lnTo>
                    <a:lnTo>
                      <a:pt x="4246" y="399"/>
                    </a:lnTo>
                    <a:lnTo>
                      <a:pt x="4208" y="379"/>
                    </a:lnTo>
                    <a:lnTo>
                      <a:pt x="4158" y="359"/>
                    </a:lnTo>
                    <a:lnTo>
                      <a:pt x="4121" y="339"/>
                    </a:lnTo>
                    <a:lnTo>
                      <a:pt x="4071" y="319"/>
                    </a:lnTo>
                    <a:lnTo>
                      <a:pt x="4033" y="309"/>
                    </a:lnTo>
                    <a:lnTo>
                      <a:pt x="3983" y="289"/>
                    </a:lnTo>
                    <a:lnTo>
                      <a:pt x="3933" y="269"/>
                    </a:lnTo>
                    <a:lnTo>
                      <a:pt x="3895" y="249"/>
                    </a:lnTo>
                    <a:lnTo>
                      <a:pt x="3845" y="239"/>
                    </a:lnTo>
                    <a:lnTo>
                      <a:pt x="3795" y="219"/>
                    </a:lnTo>
                    <a:lnTo>
                      <a:pt x="3745" y="209"/>
                    </a:lnTo>
                    <a:lnTo>
                      <a:pt x="3707" y="199"/>
                    </a:lnTo>
                    <a:lnTo>
                      <a:pt x="3657" y="189"/>
                    </a:lnTo>
                    <a:lnTo>
                      <a:pt x="3607" y="170"/>
                    </a:lnTo>
                    <a:lnTo>
                      <a:pt x="3557" y="160"/>
                    </a:lnTo>
                    <a:lnTo>
                      <a:pt x="3507" y="140"/>
                    </a:lnTo>
                    <a:lnTo>
                      <a:pt x="3457" y="130"/>
                    </a:lnTo>
                    <a:lnTo>
                      <a:pt x="3407" y="120"/>
                    </a:lnTo>
                    <a:lnTo>
                      <a:pt x="3357" y="110"/>
                    </a:lnTo>
                    <a:lnTo>
                      <a:pt x="3294" y="100"/>
                    </a:lnTo>
                    <a:lnTo>
                      <a:pt x="3244" y="90"/>
                    </a:lnTo>
                    <a:lnTo>
                      <a:pt x="3194" y="80"/>
                    </a:lnTo>
                    <a:lnTo>
                      <a:pt x="3131" y="70"/>
                    </a:lnTo>
                    <a:lnTo>
                      <a:pt x="3081" y="70"/>
                    </a:lnTo>
                    <a:lnTo>
                      <a:pt x="3031" y="60"/>
                    </a:lnTo>
                    <a:lnTo>
                      <a:pt x="2969" y="50"/>
                    </a:lnTo>
                    <a:lnTo>
                      <a:pt x="2918" y="50"/>
                    </a:lnTo>
                    <a:lnTo>
                      <a:pt x="2868" y="40"/>
                    </a:lnTo>
                    <a:lnTo>
                      <a:pt x="2818" y="40"/>
                    </a:lnTo>
                    <a:lnTo>
                      <a:pt x="2756" y="30"/>
                    </a:lnTo>
                    <a:lnTo>
                      <a:pt x="2706" y="20"/>
                    </a:lnTo>
                    <a:lnTo>
                      <a:pt x="2630" y="10"/>
                    </a:lnTo>
                    <a:lnTo>
                      <a:pt x="2580" y="10"/>
                    </a:lnTo>
                    <a:lnTo>
                      <a:pt x="2530" y="10"/>
                    </a:lnTo>
                    <a:lnTo>
                      <a:pt x="2468" y="10"/>
                    </a:lnTo>
                    <a:lnTo>
                      <a:pt x="2405" y="10"/>
                    </a:lnTo>
                    <a:lnTo>
                      <a:pt x="2355" y="10"/>
                    </a:lnTo>
                    <a:lnTo>
                      <a:pt x="2305" y="0"/>
                    </a:lnTo>
                    <a:lnTo>
                      <a:pt x="2242" y="0"/>
                    </a:lnTo>
                    <a:lnTo>
                      <a:pt x="2180" y="0"/>
                    </a:lnTo>
                    <a:lnTo>
                      <a:pt x="2129" y="0"/>
                    </a:lnTo>
                    <a:lnTo>
                      <a:pt x="2079" y="0"/>
                    </a:lnTo>
                    <a:lnTo>
                      <a:pt x="2017" y="0"/>
                    </a:lnTo>
                    <a:lnTo>
                      <a:pt x="1967" y="10"/>
                    </a:lnTo>
                    <a:lnTo>
                      <a:pt x="1916" y="10"/>
                    </a:lnTo>
                    <a:lnTo>
                      <a:pt x="1854" y="10"/>
                    </a:lnTo>
                    <a:lnTo>
                      <a:pt x="1791" y="10"/>
                    </a:lnTo>
                    <a:lnTo>
                      <a:pt x="1741" y="10"/>
                    </a:lnTo>
                    <a:lnTo>
                      <a:pt x="1679" y="20"/>
                    </a:lnTo>
                    <a:lnTo>
                      <a:pt x="1628" y="20"/>
                    </a:lnTo>
                    <a:lnTo>
                      <a:pt x="1578" y="30"/>
                    </a:lnTo>
                    <a:lnTo>
                      <a:pt x="1528" y="30"/>
                    </a:lnTo>
                    <a:lnTo>
                      <a:pt x="1478" y="40"/>
                    </a:lnTo>
                    <a:lnTo>
                      <a:pt x="1428" y="50"/>
                    </a:lnTo>
                    <a:lnTo>
                      <a:pt x="1365" y="60"/>
                    </a:lnTo>
                    <a:lnTo>
                      <a:pt x="1315" y="60"/>
                    </a:lnTo>
                    <a:lnTo>
                      <a:pt x="1278" y="70"/>
                    </a:lnTo>
                    <a:lnTo>
                      <a:pt x="1215" y="70"/>
                    </a:lnTo>
                    <a:lnTo>
                      <a:pt x="1178" y="80"/>
                    </a:lnTo>
                    <a:lnTo>
                      <a:pt x="1127" y="90"/>
                    </a:lnTo>
                    <a:lnTo>
                      <a:pt x="1077" y="110"/>
                    </a:lnTo>
                    <a:lnTo>
                      <a:pt x="1027" y="110"/>
                    </a:lnTo>
                    <a:lnTo>
                      <a:pt x="977" y="120"/>
                    </a:lnTo>
                    <a:lnTo>
                      <a:pt x="940" y="130"/>
                    </a:lnTo>
                    <a:lnTo>
                      <a:pt x="890" y="140"/>
                    </a:lnTo>
                    <a:lnTo>
                      <a:pt x="839" y="150"/>
                    </a:lnTo>
                    <a:lnTo>
                      <a:pt x="802" y="160"/>
                    </a:lnTo>
                    <a:lnTo>
                      <a:pt x="752" y="170"/>
                    </a:lnTo>
                    <a:lnTo>
                      <a:pt x="714" y="189"/>
                    </a:lnTo>
                    <a:lnTo>
                      <a:pt x="664" y="199"/>
                    </a:lnTo>
                    <a:lnTo>
                      <a:pt x="627" y="199"/>
                    </a:lnTo>
                    <a:lnTo>
                      <a:pt x="589" y="209"/>
                    </a:lnTo>
                    <a:lnTo>
                      <a:pt x="551" y="229"/>
                    </a:lnTo>
                    <a:lnTo>
                      <a:pt x="514" y="239"/>
                    </a:lnTo>
                    <a:lnTo>
                      <a:pt x="476" y="249"/>
                    </a:lnTo>
                    <a:lnTo>
                      <a:pt x="439" y="259"/>
                    </a:lnTo>
                    <a:lnTo>
                      <a:pt x="414" y="279"/>
                    </a:lnTo>
                    <a:lnTo>
                      <a:pt x="376" y="289"/>
                    </a:lnTo>
                    <a:lnTo>
                      <a:pt x="338" y="299"/>
                    </a:lnTo>
                    <a:lnTo>
                      <a:pt x="301" y="319"/>
                    </a:lnTo>
                    <a:lnTo>
                      <a:pt x="276" y="329"/>
                    </a:lnTo>
                    <a:lnTo>
                      <a:pt x="213" y="359"/>
                    </a:lnTo>
                    <a:lnTo>
                      <a:pt x="163" y="389"/>
                    </a:lnTo>
                    <a:lnTo>
                      <a:pt x="113" y="409"/>
                    </a:lnTo>
                    <a:lnTo>
                      <a:pt x="75" y="439"/>
                    </a:lnTo>
                    <a:lnTo>
                      <a:pt x="25" y="469"/>
                    </a:lnTo>
                    <a:lnTo>
                      <a:pt x="0" y="498"/>
                    </a:lnTo>
                    <a:lnTo>
                      <a:pt x="313" y="857"/>
                    </a:lnTo>
                    <a:lnTo>
                      <a:pt x="313" y="857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347560" y="1644480"/>
                <a:ext cx="3705480" cy="1143720"/>
              </a:xfrm>
              <a:custGeom>
                <a:avLst/>
                <a:gdLst/>
                <a:ahLst/>
                <a:rect l="l" t="t" r="r" b="b"/>
                <a:pathLst>
                  <a:path w="7439" h="2472">
                    <a:moveTo>
                      <a:pt x="7377" y="2472"/>
                    </a:moveTo>
                    <a:lnTo>
                      <a:pt x="7377" y="2462"/>
                    </a:lnTo>
                    <a:lnTo>
                      <a:pt x="7389" y="2432"/>
                    </a:lnTo>
                    <a:lnTo>
                      <a:pt x="7389" y="2412"/>
                    </a:lnTo>
                    <a:lnTo>
                      <a:pt x="7402" y="2382"/>
                    </a:lnTo>
                    <a:lnTo>
                      <a:pt x="7414" y="2352"/>
                    </a:lnTo>
                    <a:lnTo>
                      <a:pt x="7427" y="2322"/>
                    </a:lnTo>
                    <a:lnTo>
                      <a:pt x="7427" y="2282"/>
                    </a:lnTo>
                    <a:lnTo>
                      <a:pt x="7427" y="2242"/>
                    </a:lnTo>
                    <a:lnTo>
                      <a:pt x="7427" y="2203"/>
                    </a:lnTo>
                    <a:lnTo>
                      <a:pt x="7439" y="2153"/>
                    </a:lnTo>
                    <a:lnTo>
                      <a:pt x="7439" y="2123"/>
                    </a:lnTo>
                    <a:lnTo>
                      <a:pt x="7439" y="2103"/>
                    </a:lnTo>
                    <a:lnTo>
                      <a:pt x="7439" y="2073"/>
                    </a:lnTo>
                    <a:lnTo>
                      <a:pt x="7439" y="2053"/>
                    </a:lnTo>
                    <a:lnTo>
                      <a:pt x="7439" y="2023"/>
                    </a:lnTo>
                    <a:lnTo>
                      <a:pt x="7439" y="1993"/>
                    </a:lnTo>
                    <a:lnTo>
                      <a:pt x="7439" y="1973"/>
                    </a:lnTo>
                    <a:lnTo>
                      <a:pt x="7439" y="1943"/>
                    </a:lnTo>
                    <a:lnTo>
                      <a:pt x="7439" y="1914"/>
                    </a:lnTo>
                    <a:lnTo>
                      <a:pt x="7427" y="1884"/>
                    </a:lnTo>
                    <a:lnTo>
                      <a:pt x="7427" y="1844"/>
                    </a:lnTo>
                    <a:lnTo>
                      <a:pt x="7427" y="1824"/>
                    </a:lnTo>
                    <a:lnTo>
                      <a:pt x="7414" y="1784"/>
                    </a:lnTo>
                    <a:lnTo>
                      <a:pt x="7414" y="1754"/>
                    </a:lnTo>
                    <a:lnTo>
                      <a:pt x="7402" y="1724"/>
                    </a:lnTo>
                    <a:lnTo>
                      <a:pt x="7402" y="1694"/>
                    </a:lnTo>
                    <a:lnTo>
                      <a:pt x="7389" y="1654"/>
                    </a:lnTo>
                    <a:lnTo>
                      <a:pt x="7377" y="1625"/>
                    </a:lnTo>
                    <a:lnTo>
                      <a:pt x="7364" y="1595"/>
                    </a:lnTo>
                    <a:lnTo>
                      <a:pt x="7352" y="1565"/>
                    </a:lnTo>
                    <a:lnTo>
                      <a:pt x="7339" y="1525"/>
                    </a:lnTo>
                    <a:lnTo>
                      <a:pt x="7327" y="1495"/>
                    </a:lnTo>
                    <a:lnTo>
                      <a:pt x="7314" y="1465"/>
                    </a:lnTo>
                    <a:lnTo>
                      <a:pt x="7302" y="1425"/>
                    </a:lnTo>
                    <a:lnTo>
                      <a:pt x="7276" y="1395"/>
                    </a:lnTo>
                    <a:lnTo>
                      <a:pt x="7264" y="1356"/>
                    </a:lnTo>
                    <a:lnTo>
                      <a:pt x="7239" y="1316"/>
                    </a:lnTo>
                    <a:lnTo>
                      <a:pt x="7226" y="1286"/>
                    </a:lnTo>
                    <a:lnTo>
                      <a:pt x="7189" y="1246"/>
                    </a:lnTo>
                    <a:lnTo>
                      <a:pt x="7176" y="1216"/>
                    </a:lnTo>
                    <a:lnTo>
                      <a:pt x="7151" y="1176"/>
                    </a:lnTo>
                    <a:lnTo>
                      <a:pt x="7126" y="1146"/>
                    </a:lnTo>
                    <a:lnTo>
                      <a:pt x="7089" y="1106"/>
                    </a:lnTo>
                    <a:lnTo>
                      <a:pt x="7064" y="1076"/>
                    </a:lnTo>
                    <a:lnTo>
                      <a:pt x="7026" y="1037"/>
                    </a:lnTo>
                    <a:lnTo>
                      <a:pt x="7001" y="1007"/>
                    </a:lnTo>
                    <a:lnTo>
                      <a:pt x="6963" y="967"/>
                    </a:lnTo>
                    <a:lnTo>
                      <a:pt x="6926" y="937"/>
                    </a:lnTo>
                    <a:lnTo>
                      <a:pt x="6888" y="897"/>
                    </a:lnTo>
                    <a:lnTo>
                      <a:pt x="6851" y="867"/>
                    </a:lnTo>
                    <a:lnTo>
                      <a:pt x="6801" y="827"/>
                    </a:lnTo>
                    <a:lnTo>
                      <a:pt x="6763" y="788"/>
                    </a:lnTo>
                    <a:lnTo>
                      <a:pt x="6713" y="758"/>
                    </a:lnTo>
                    <a:lnTo>
                      <a:pt x="6675" y="728"/>
                    </a:lnTo>
                    <a:lnTo>
                      <a:pt x="6625" y="688"/>
                    </a:lnTo>
                    <a:lnTo>
                      <a:pt x="6575" y="658"/>
                    </a:lnTo>
                    <a:lnTo>
                      <a:pt x="6525" y="628"/>
                    </a:lnTo>
                    <a:lnTo>
                      <a:pt x="6475" y="598"/>
                    </a:lnTo>
                    <a:lnTo>
                      <a:pt x="6412" y="568"/>
                    </a:lnTo>
                    <a:lnTo>
                      <a:pt x="6362" y="538"/>
                    </a:lnTo>
                    <a:lnTo>
                      <a:pt x="6312" y="508"/>
                    </a:lnTo>
                    <a:lnTo>
                      <a:pt x="6262" y="489"/>
                    </a:lnTo>
                    <a:lnTo>
                      <a:pt x="6199" y="459"/>
                    </a:lnTo>
                    <a:lnTo>
                      <a:pt x="6149" y="439"/>
                    </a:lnTo>
                    <a:lnTo>
                      <a:pt x="6087" y="409"/>
                    </a:lnTo>
                    <a:lnTo>
                      <a:pt x="6037" y="389"/>
                    </a:lnTo>
                    <a:lnTo>
                      <a:pt x="5974" y="369"/>
                    </a:lnTo>
                    <a:lnTo>
                      <a:pt x="5911" y="339"/>
                    </a:lnTo>
                    <a:lnTo>
                      <a:pt x="5849" y="319"/>
                    </a:lnTo>
                    <a:lnTo>
                      <a:pt x="5786" y="299"/>
                    </a:lnTo>
                    <a:lnTo>
                      <a:pt x="5723" y="269"/>
                    </a:lnTo>
                    <a:lnTo>
                      <a:pt x="5661" y="249"/>
                    </a:lnTo>
                    <a:lnTo>
                      <a:pt x="5598" y="239"/>
                    </a:lnTo>
                    <a:lnTo>
                      <a:pt x="5536" y="220"/>
                    </a:lnTo>
                    <a:lnTo>
                      <a:pt x="5460" y="200"/>
                    </a:lnTo>
                    <a:lnTo>
                      <a:pt x="5398" y="180"/>
                    </a:lnTo>
                    <a:lnTo>
                      <a:pt x="5323" y="170"/>
                    </a:lnTo>
                    <a:lnTo>
                      <a:pt x="5260" y="150"/>
                    </a:lnTo>
                    <a:lnTo>
                      <a:pt x="5197" y="140"/>
                    </a:lnTo>
                    <a:lnTo>
                      <a:pt x="5122" y="120"/>
                    </a:lnTo>
                    <a:lnTo>
                      <a:pt x="5047" y="110"/>
                    </a:lnTo>
                    <a:lnTo>
                      <a:pt x="4985" y="100"/>
                    </a:lnTo>
                    <a:lnTo>
                      <a:pt x="4909" y="90"/>
                    </a:lnTo>
                    <a:lnTo>
                      <a:pt x="4834" y="70"/>
                    </a:lnTo>
                    <a:lnTo>
                      <a:pt x="4759" y="60"/>
                    </a:lnTo>
                    <a:lnTo>
                      <a:pt x="4684" y="50"/>
                    </a:lnTo>
                    <a:lnTo>
                      <a:pt x="4609" y="40"/>
                    </a:lnTo>
                    <a:lnTo>
                      <a:pt x="4534" y="40"/>
                    </a:lnTo>
                    <a:lnTo>
                      <a:pt x="4459" y="30"/>
                    </a:lnTo>
                    <a:lnTo>
                      <a:pt x="4396" y="20"/>
                    </a:lnTo>
                    <a:lnTo>
                      <a:pt x="4308" y="10"/>
                    </a:lnTo>
                    <a:lnTo>
                      <a:pt x="4233" y="10"/>
                    </a:lnTo>
                    <a:lnTo>
                      <a:pt x="4158" y="0"/>
                    </a:lnTo>
                    <a:lnTo>
                      <a:pt x="4083" y="0"/>
                    </a:lnTo>
                    <a:lnTo>
                      <a:pt x="3995" y="0"/>
                    </a:lnTo>
                    <a:lnTo>
                      <a:pt x="3920" y="0"/>
                    </a:lnTo>
                    <a:lnTo>
                      <a:pt x="3845" y="0"/>
                    </a:lnTo>
                    <a:lnTo>
                      <a:pt x="3770" y="0"/>
                    </a:lnTo>
                    <a:lnTo>
                      <a:pt x="3682" y="0"/>
                    </a:lnTo>
                    <a:lnTo>
                      <a:pt x="3607" y="0"/>
                    </a:lnTo>
                    <a:lnTo>
                      <a:pt x="3532" y="0"/>
                    </a:lnTo>
                    <a:lnTo>
                      <a:pt x="3444" y="0"/>
                    </a:lnTo>
                    <a:lnTo>
                      <a:pt x="3369" y="0"/>
                    </a:lnTo>
                    <a:lnTo>
                      <a:pt x="3294" y="10"/>
                    </a:lnTo>
                    <a:lnTo>
                      <a:pt x="3206" y="10"/>
                    </a:lnTo>
                    <a:lnTo>
                      <a:pt x="3131" y="20"/>
                    </a:lnTo>
                    <a:lnTo>
                      <a:pt x="3043" y="20"/>
                    </a:lnTo>
                    <a:lnTo>
                      <a:pt x="2968" y="30"/>
                    </a:lnTo>
                    <a:lnTo>
                      <a:pt x="2880" y="40"/>
                    </a:lnTo>
                    <a:lnTo>
                      <a:pt x="2805" y="50"/>
                    </a:lnTo>
                    <a:lnTo>
                      <a:pt x="2718" y="60"/>
                    </a:lnTo>
                    <a:lnTo>
                      <a:pt x="2643" y="70"/>
                    </a:lnTo>
                    <a:lnTo>
                      <a:pt x="2555" y="80"/>
                    </a:lnTo>
                    <a:lnTo>
                      <a:pt x="2480" y="100"/>
                    </a:lnTo>
                    <a:lnTo>
                      <a:pt x="2392" y="110"/>
                    </a:lnTo>
                    <a:lnTo>
                      <a:pt x="2317" y="120"/>
                    </a:lnTo>
                    <a:lnTo>
                      <a:pt x="2242" y="130"/>
                    </a:lnTo>
                    <a:lnTo>
                      <a:pt x="2167" y="150"/>
                    </a:lnTo>
                    <a:lnTo>
                      <a:pt x="2091" y="160"/>
                    </a:lnTo>
                    <a:lnTo>
                      <a:pt x="2016" y="180"/>
                    </a:lnTo>
                    <a:lnTo>
                      <a:pt x="1941" y="190"/>
                    </a:lnTo>
                    <a:lnTo>
                      <a:pt x="1879" y="210"/>
                    </a:lnTo>
                    <a:lnTo>
                      <a:pt x="1803" y="229"/>
                    </a:lnTo>
                    <a:lnTo>
                      <a:pt x="1741" y="249"/>
                    </a:lnTo>
                    <a:lnTo>
                      <a:pt x="1666" y="259"/>
                    </a:lnTo>
                    <a:lnTo>
                      <a:pt x="1616" y="289"/>
                    </a:lnTo>
                    <a:lnTo>
                      <a:pt x="1540" y="309"/>
                    </a:lnTo>
                    <a:lnTo>
                      <a:pt x="1478" y="329"/>
                    </a:lnTo>
                    <a:lnTo>
                      <a:pt x="1428" y="349"/>
                    </a:lnTo>
                    <a:lnTo>
                      <a:pt x="1378" y="369"/>
                    </a:lnTo>
                    <a:lnTo>
                      <a:pt x="1315" y="389"/>
                    </a:lnTo>
                    <a:lnTo>
                      <a:pt x="1252" y="419"/>
                    </a:lnTo>
                    <a:lnTo>
                      <a:pt x="1202" y="439"/>
                    </a:lnTo>
                    <a:lnTo>
                      <a:pt x="1152" y="459"/>
                    </a:lnTo>
                    <a:lnTo>
                      <a:pt x="1090" y="489"/>
                    </a:lnTo>
                    <a:lnTo>
                      <a:pt x="1039" y="508"/>
                    </a:lnTo>
                    <a:lnTo>
                      <a:pt x="989" y="528"/>
                    </a:lnTo>
                    <a:lnTo>
                      <a:pt x="952" y="558"/>
                    </a:lnTo>
                    <a:lnTo>
                      <a:pt x="902" y="578"/>
                    </a:lnTo>
                    <a:lnTo>
                      <a:pt x="864" y="608"/>
                    </a:lnTo>
                    <a:lnTo>
                      <a:pt x="814" y="638"/>
                    </a:lnTo>
                    <a:lnTo>
                      <a:pt x="776" y="668"/>
                    </a:lnTo>
                    <a:lnTo>
                      <a:pt x="739" y="688"/>
                    </a:lnTo>
                    <a:lnTo>
                      <a:pt x="701" y="718"/>
                    </a:lnTo>
                    <a:lnTo>
                      <a:pt x="664" y="748"/>
                    </a:lnTo>
                    <a:lnTo>
                      <a:pt x="626" y="778"/>
                    </a:lnTo>
                    <a:lnTo>
                      <a:pt x="589" y="807"/>
                    </a:lnTo>
                    <a:lnTo>
                      <a:pt x="551" y="827"/>
                    </a:lnTo>
                    <a:lnTo>
                      <a:pt x="513" y="857"/>
                    </a:lnTo>
                    <a:lnTo>
                      <a:pt x="488" y="887"/>
                    </a:lnTo>
                    <a:lnTo>
                      <a:pt x="451" y="917"/>
                    </a:lnTo>
                    <a:lnTo>
                      <a:pt x="426" y="947"/>
                    </a:lnTo>
                    <a:lnTo>
                      <a:pt x="401" y="967"/>
                    </a:lnTo>
                    <a:lnTo>
                      <a:pt x="376" y="1007"/>
                    </a:lnTo>
                    <a:lnTo>
                      <a:pt x="338" y="1027"/>
                    </a:lnTo>
                    <a:lnTo>
                      <a:pt x="313" y="1067"/>
                    </a:lnTo>
                    <a:lnTo>
                      <a:pt x="288" y="1086"/>
                    </a:lnTo>
                    <a:lnTo>
                      <a:pt x="275" y="1126"/>
                    </a:lnTo>
                    <a:lnTo>
                      <a:pt x="250" y="1146"/>
                    </a:lnTo>
                    <a:lnTo>
                      <a:pt x="225" y="1186"/>
                    </a:lnTo>
                    <a:lnTo>
                      <a:pt x="200" y="1216"/>
                    </a:lnTo>
                    <a:lnTo>
                      <a:pt x="188" y="1246"/>
                    </a:lnTo>
                    <a:lnTo>
                      <a:pt x="163" y="1276"/>
                    </a:lnTo>
                    <a:lnTo>
                      <a:pt x="150" y="1306"/>
                    </a:lnTo>
                    <a:lnTo>
                      <a:pt x="125" y="1336"/>
                    </a:lnTo>
                    <a:lnTo>
                      <a:pt x="113" y="1365"/>
                    </a:lnTo>
                    <a:lnTo>
                      <a:pt x="100" y="1395"/>
                    </a:lnTo>
                    <a:lnTo>
                      <a:pt x="88" y="1425"/>
                    </a:lnTo>
                    <a:lnTo>
                      <a:pt x="75" y="1455"/>
                    </a:lnTo>
                    <a:lnTo>
                      <a:pt x="63" y="1485"/>
                    </a:lnTo>
                    <a:lnTo>
                      <a:pt x="50" y="1515"/>
                    </a:lnTo>
                    <a:lnTo>
                      <a:pt x="38" y="1545"/>
                    </a:lnTo>
                    <a:lnTo>
                      <a:pt x="38" y="1575"/>
                    </a:lnTo>
                    <a:lnTo>
                      <a:pt x="25" y="1605"/>
                    </a:lnTo>
                    <a:lnTo>
                      <a:pt x="12" y="1635"/>
                    </a:lnTo>
                    <a:lnTo>
                      <a:pt x="12" y="1664"/>
                    </a:lnTo>
                    <a:lnTo>
                      <a:pt x="0" y="1694"/>
                    </a:lnTo>
                    <a:lnTo>
                      <a:pt x="0" y="1724"/>
                    </a:lnTo>
                    <a:lnTo>
                      <a:pt x="551" y="1794"/>
                    </a:lnTo>
                    <a:lnTo>
                      <a:pt x="551" y="1784"/>
                    </a:lnTo>
                    <a:lnTo>
                      <a:pt x="564" y="1744"/>
                    </a:lnTo>
                    <a:lnTo>
                      <a:pt x="576" y="1714"/>
                    </a:lnTo>
                    <a:lnTo>
                      <a:pt x="589" y="1684"/>
                    </a:lnTo>
                    <a:lnTo>
                      <a:pt x="601" y="1654"/>
                    </a:lnTo>
                    <a:lnTo>
                      <a:pt x="626" y="1615"/>
                    </a:lnTo>
                    <a:lnTo>
                      <a:pt x="651" y="1565"/>
                    </a:lnTo>
                    <a:lnTo>
                      <a:pt x="689" y="1525"/>
                    </a:lnTo>
                    <a:lnTo>
                      <a:pt x="701" y="1495"/>
                    </a:lnTo>
                    <a:lnTo>
                      <a:pt x="726" y="1465"/>
                    </a:lnTo>
                    <a:lnTo>
                      <a:pt x="739" y="1445"/>
                    </a:lnTo>
                    <a:lnTo>
                      <a:pt x="764" y="1415"/>
                    </a:lnTo>
                    <a:lnTo>
                      <a:pt x="789" y="1395"/>
                    </a:lnTo>
                    <a:lnTo>
                      <a:pt x="814" y="1365"/>
                    </a:lnTo>
                    <a:lnTo>
                      <a:pt x="827" y="1336"/>
                    </a:lnTo>
                    <a:lnTo>
                      <a:pt x="864" y="1306"/>
                    </a:lnTo>
                    <a:lnTo>
                      <a:pt x="889" y="1276"/>
                    </a:lnTo>
                    <a:lnTo>
                      <a:pt x="927" y="1256"/>
                    </a:lnTo>
                    <a:lnTo>
                      <a:pt x="964" y="1226"/>
                    </a:lnTo>
                    <a:lnTo>
                      <a:pt x="989" y="1206"/>
                    </a:lnTo>
                    <a:lnTo>
                      <a:pt x="1027" y="1166"/>
                    </a:lnTo>
                    <a:lnTo>
                      <a:pt x="1064" y="1146"/>
                    </a:lnTo>
                    <a:lnTo>
                      <a:pt x="1102" y="1106"/>
                    </a:lnTo>
                    <a:lnTo>
                      <a:pt x="1140" y="1086"/>
                    </a:lnTo>
                    <a:lnTo>
                      <a:pt x="1177" y="1057"/>
                    </a:lnTo>
                    <a:lnTo>
                      <a:pt x="1227" y="1027"/>
                    </a:lnTo>
                    <a:lnTo>
                      <a:pt x="1265" y="997"/>
                    </a:lnTo>
                    <a:lnTo>
                      <a:pt x="1315" y="967"/>
                    </a:lnTo>
                    <a:lnTo>
                      <a:pt x="1365" y="947"/>
                    </a:lnTo>
                    <a:lnTo>
                      <a:pt x="1415" y="917"/>
                    </a:lnTo>
                    <a:lnTo>
                      <a:pt x="1465" y="887"/>
                    </a:lnTo>
                    <a:lnTo>
                      <a:pt x="1528" y="857"/>
                    </a:lnTo>
                    <a:lnTo>
                      <a:pt x="1578" y="827"/>
                    </a:lnTo>
                    <a:lnTo>
                      <a:pt x="1641" y="807"/>
                    </a:lnTo>
                    <a:lnTo>
                      <a:pt x="1703" y="788"/>
                    </a:lnTo>
                    <a:lnTo>
                      <a:pt x="1778" y="758"/>
                    </a:lnTo>
                    <a:lnTo>
                      <a:pt x="1841" y="738"/>
                    </a:lnTo>
                    <a:lnTo>
                      <a:pt x="1904" y="708"/>
                    </a:lnTo>
                    <a:lnTo>
                      <a:pt x="1979" y="688"/>
                    </a:lnTo>
                    <a:lnTo>
                      <a:pt x="2054" y="668"/>
                    </a:lnTo>
                    <a:lnTo>
                      <a:pt x="2117" y="638"/>
                    </a:lnTo>
                    <a:lnTo>
                      <a:pt x="2204" y="628"/>
                    </a:lnTo>
                    <a:lnTo>
                      <a:pt x="2279" y="608"/>
                    </a:lnTo>
                    <a:lnTo>
                      <a:pt x="2367" y="588"/>
                    </a:lnTo>
                    <a:lnTo>
                      <a:pt x="2442" y="568"/>
                    </a:lnTo>
                    <a:lnTo>
                      <a:pt x="2530" y="558"/>
                    </a:lnTo>
                    <a:lnTo>
                      <a:pt x="2630" y="538"/>
                    </a:lnTo>
                    <a:lnTo>
                      <a:pt x="2718" y="528"/>
                    </a:lnTo>
                    <a:lnTo>
                      <a:pt x="2818" y="518"/>
                    </a:lnTo>
                    <a:lnTo>
                      <a:pt x="2906" y="508"/>
                    </a:lnTo>
                    <a:lnTo>
                      <a:pt x="3018" y="499"/>
                    </a:lnTo>
                    <a:lnTo>
                      <a:pt x="3118" y="499"/>
                    </a:lnTo>
                    <a:lnTo>
                      <a:pt x="3219" y="479"/>
                    </a:lnTo>
                    <a:lnTo>
                      <a:pt x="3319" y="479"/>
                    </a:lnTo>
                    <a:lnTo>
                      <a:pt x="3419" y="469"/>
                    </a:lnTo>
                    <a:lnTo>
                      <a:pt x="3519" y="469"/>
                    </a:lnTo>
                    <a:lnTo>
                      <a:pt x="3607" y="469"/>
                    </a:lnTo>
                    <a:lnTo>
                      <a:pt x="3707" y="469"/>
                    </a:lnTo>
                    <a:lnTo>
                      <a:pt x="3795" y="469"/>
                    </a:lnTo>
                    <a:lnTo>
                      <a:pt x="3895" y="469"/>
                    </a:lnTo>
                    <a:lnTo>
                      <a:pt x="3983" y="469"/>
                    </a:lnTo>
                    <a:lnTo>
                      <a:pt x="4070" y="469"/>
                    </a:lnTo>
                    <a:lnTo>
                      <a:pt x="4158" y="479"/>
                    </a:lnTo>
                    <a:lnTo>
                      <a:pt x="4246" y="489"/>
                    </a:lnTo>
                    <a:lnTo>
                      <a:pt x="4333" y="489"/>
                    </a:lnTo>
                    <a:lnTo>
                      <a:pt x="4408" y="499"/>
                    </a:lnTo>
                    <a:lnTo>
                      <a:pt x="4484" y="508"/>
                    </a:lnTo>
                    <a:lnTo>
                      <a:pt x="4571" y="518"/>
                    </a:lnTo>
                    <a:lnTo>
                      <a:pt x="4646" y="528"/>
                    </a:lnTo>
                    <a:lnTo>
                      <a:pt x="4722" y="538"/>
                    </a:lnTo>
                    <a:lnTo>
                      <a:pt x="4784" y="548"/>
                    </a:lnTo>
                    <a:lnTo>
                      <a:pt x="4859" y="568"/>
                    </a:lnTo>
                    <a:lnTo>
                      <a:pt x="4934" y="578"/>
                    </a:lnTo>
                    <a:lnTo>
                      <a:pt x="4997" y="588"/>
                    </a:lnTo>
                    <a:lnTo>
                      <a:pt x="5072" y="608"/>
                    </a:lnTo>
                    <a:lnTo>
                      <a:pt x="5135" y="628"/>
                    </a:lnTo>
                    <a:lnTo>
                      <a:pt x="5197" y="638"/>
                    </a:lnTo>
                    <a:lnTo>
                      <a:pt x="5260" y="648"/>
                    </a:lnTo>
                    <a:lnTo>
                      <a:pt x="5323" y="668"/>
                    </a:lnTo>
                    <a:lnTo>
                      <a:pt x="5385" y="688"/>
                    </a:lnTo>
                    <a:lnTo>
                      <a:pt x="5448" y="708"/>
                    </a:lnTo>
                    <a:lnTo>
                      <a:pt x="5498" y="728"/>
                    </a:lnTo>
                    <a:lnTo>
                      <a:pt x="5548" y="748"/>
                    </a:lnTo>
                    <a:lnTo>
                      <a:pt x="5611" y="768"/>
                    </a:lnTo>
                    <a:lnTo>
                      <a:pt x="5661" y="778"/>
                    </a:lnTo>
                    <a:lnTo>
                      <a:pt x="5711" y="807"/>
                    </a:lnTo>
                    <a:lnTo>
                      <a:pt x="5761" y="817"/>
                    </a:lnTo>
                    <a:lnTo>
                      <a:pt x="5799" y="837"/>
                    </a:lnTo>
                    <a:lnTo>
                      <a:pt x="5836" y="857"/>
                    </a:lnTo>
                    <a:lnTo>
                      <a:pt x="5886" y="887"/>
                    </a:lnTo>
                    <a:lnTo>
                      <a:pt x="5936" y="897"/>
                    </a:lnTo>
                    <a:lnTo>
                      <a:pt x="5986" y="927"/>
                    </a:lnTo>
                    <a:lnTo>
                      <a:pt x="6012" y="937"/>
                    </a:lnTo>
                    <a:lnTo>
                      <a:pt x="6062" y="957"/>
                    </a:lnTo>
                    <a:lnTo>
                      <a:pt x="6087" y="977"/>
                    </a:lnTo>
                    <a:lnTo>
                      <a:pt x="6137" y="1007"/>
                    </a:lnTo>
                    <a:lnTo>
                      <a:pt x="6162" y="1017"/>
                    </a:lnTo>
                    <a:lnTo>
                      <a:pt x="6199" y="1047"/>
                    </a:lnTo>
                    <a:lnTo>
                      <a:pt x="6237" y="1067"/>
                    </a:lnTo>
                    <a:lnTo>
                      <a:pt x="6262" y="1086"/>
                    </a:lnTo>
                    <a:lnTo>
                      <a:pt x="6312" y="1126"/>
                    </a:lnTo>
                    <a:lnTo>
                      <a:pt x="6375" y="1166"/>
                    </a:lnTo>
                    <a:lnTo>
                      <a:pt x="6412" y="1206"/>
                    </a:lnTo>
                    <a:lnTo>
                      <a:pt x="6462" y="1236"/>
                    </a:lnTo>
                    <a:lnTo>
                      <a:pt x="6487" y="1276"/>
                    </a:lnTo>
                    <a:lnTo>
                      <a:pt x="6525" y="1306"/>
                    </a:lnTo>
                    <a:lnTo>
                      <a:pt x="6550" y="1336"/>
                    </a:lnTo>
                    <a:lnTo>
                      <a:pt x="6575" y="1365"/>
                    </a:lnTo>
                    <a:lnTo>
                      <a:pt x="6588" y="1395"/>
                    </a:lnTo>
                    <a:lnTo>
                      <a:pt x="6600" y="1415"/>
                    </a:lnTo>
                    <a:lnTo>
                      <a:pt x="6625" y="1445"/>
                    </a:lnTo>
                    <a:lnTo>
                      <a:pt x="6638" y="1475"/>
                    </a:lnTo>
                    <a:lnTo>
                      <a:pt x="6650" y="1505"/>
                    </a:lnTo>
                    <a:lnTo>
                      <a:pt x="6675" y="1535"/>
                    </a:lnTo>
                    <a:lnTo>
                      <a:pt x="6688" y="1555"/>
                    </a:lnTo>
                    <a:lnTo>
                      <a:pt x="6700" y="1585"/>
                    </a:lnTo>
                    <a:lnTo>
                      <a:pt x="6713" y="1615"/>
                    </a:lnTo>
                    <a:lnTo>
                      <a:pt x="6725" y="1644"/>
                    </a:lnTo>
                    <a:lnTo>
                      <a:pt x="6738" y="1664"/>
                    </a:lnTo>
                    <a:lnTo>
                      <a:pt x="6750" y="1704"/>
                    </a:lnTo>
                    <a:lnTo>
                      <a:pt x="6763" y="1724"/>
                    </a:lnTo>
                    <a:lnTo>
                      <a:pt x="6775" y="1764"/>
                    </a:lnTo>
                    <a:lnTo>
                      <a:pt x="6788" y="1794"/>
                    </a:lnTo>
                    <a:lnTo>
                      <a:pt x="6801" y="1834"/>
                    </a:lnTo>
                    <a:lnTo>
                      <a:pt x="6813" y="1854"/>
                    </a:lnTo>
                    <a:lnTo>
                      <a:pt x="6813" y="1894"/>
                    </a:lnTo>
                    <a:lnTo>
                      <a:pt x="6826" y="1923"/>
                    </a:lnTo>
                    <a:lnTo>
                      <a:pt x="6826" y="1963"/>
                    </a:lnTo>
                    <a:lnTo>
                      <a:pt x="6826" y="1993"/>
                    </a:lnTo>
                    <a:lnTo>
                      <a:pt x="6838" y="2033"/>
                    </a:lnTo>
                    <a:lnTo>
                      <a:pt x="6838" y="2073"/>
                    </a:lnTo>
                    <a:lnTo>
                      <a:pt x="6851" y="2113"/>
                    </a:lnTo>
                    <a:lnTo>
                      <a:pt x="6838" y="2153"/>
                    </a:lnTo>
                    <a:lnTo>
                      <a:pt x="6838" y="2193"/>
                    </a:lnTo>
                    <a:lnTo>
                      <a:pt x="6838" y="2232"/>
                    </a:lnTo>
                    <a:lnTo>
                      <a:pt x="6838" y="2282"/>
                    </a:lnTo>
                    <a:lnTo>
                      <a:pt x="6838" y="2322"/>
                    </a:lnTo>
                    <a:lnTo>
                      <a:pt x="6826" y="2372"/>
                    </a:lnTo>
                    <a:lnTo>
                      <a:pt x="6826" y="2392"/>
                    </a:lnTo>
                    <a:lnTo>
                      <a:pt x="6826" y="2422"/>
                    </a:lnTo>
                    <a:lnTo>
                      <a:pt x="6813" y="2442"/>
                    </a:lnTo>
                    <a:lnTo>
                      <a:pt x="6813" y="2472"/>
                    </a:lnTo>
                    <a:lnTo>
                      <a:pt x="7377" y="2472"/>
                    </a:lnTo>
                    <a:lnTo>
                      <a:pt x="7377" y="2472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906480" y="3659760"/>
                <a:ext cx="299160" cy="558000"/>
              </a:xfrm>
              <a:custGeom>
                <a:avLst/>
                <a:gdLst/>
                <a:ahLst/>
                <a:rect l="l" t="t" r="r" b="b"/>
                <a:pathLst>
                  <a:path w="601" h="1206">
                    <a:moveTo>
                      <a:pt x="438" y="0"/>
                    </a:moveTo>
                    <a:lnTo>
                      <a:pt x="426" y="0"/>
                    </a:lnTo>
                    <a:lnTo>
                      <a:pt x="401" y="20"/>
                    </a:lnTo>
                    <a:lnTo>
                      <a:pt x="376" y="50"/>
                    </a:lnTo>
                    <a:lnTo>
                      <a:pt x="351" y="90"/>
                    </a:lnTo>
                    <a:lnTo>
                      <a:pt x="326" y="110"/>
                    </a:lnTo>
                    <a:lnTo>
                      <a:pt x="300" y="129"/>
                    </a:lnTo>
                    <a:lnTo>
                      <a:pt x="288" y="159"/>
                    </a:lnTo>
                    <a:lnTo>
                      <a:pt x="263" y="189"/>
                    </a:lnTo>
                    <a:lnTo>
                      <a:pt x="238" y="219"/>
                    </a:lnTo>
                    <a:lnTo>
                      <a:pt x="225" y="259"/>
                    </a:lnTo>
                    <a:lnTo>
                      <a:pt x="200" y="299"/>
                    </a:lnTo>
                    <a:lnTo>
                      <a:pt x="175" y="339"/>
                    </a:lnTo>
                    <a:lnTo>
                      <a:pt x="150" y="379"/>
                    </a:lnTo>
                    <a:lnTo>
                      <a:pt x="138" y="418"/>
                    </a:lnTo>
                    <a:lnTo>
                      <a:pt x="113" y="458"/>
                    </a:lnTo>
                    <a:lnTo>
                      <a:pt x="88" y="508"/>
                    </a:lnTo>
                    <a:lnTo>
                      <a:pt x="75" y="558"/>
                    </a:lnTo>
                    <a:lnTo>
                      <a:pt x="62" y="608"/>
                    </a:lnTo>
                    <a:lnTo>
                      <a:pt x="50" y="638"/>
                    </a:lnTo>
                    <a:lnTo>
                      <a:pt x="37" y="658"/>
                    </a:lnTo>
                    <a:lnTo>
                      <a:pt x="37" y="687"/>
                    </a:lnTo>
                    <a:lnTo>
                      <a:pt x="37" y="717"/>
                    </a:lnTo>
                    <a:lnTo>
                      <a:pt x="25" y="737"/>
                    </a:lnTo>
                    <a:lnTo>
                      <a:pt x="12" y="767"/>
                    </a:lnTo>
                    <a:lnTo>
                      <a:pt x="12" y="797"/>
                    </a:lnTo>
                    <a:lnTo>
                      <a:pt x="12" y="827"/>
                    </a:lnTo>
                    <a:lnTo>
                      <a:pt x="0" y="847"/>
                    </a:lnTo>
                    <a:lnTo>
                      <a:pt x="0" y="887"/>
                    </a:lnTo>
                    <a:lnTo>
                      <a:pt x="0" y="907"/>
                    </a:lnTo>
                    <a:lnTo>
                      <a:pt x="0" y="947"/>
                    </a:lnTo>
                    <a:lnTo>
                      <a:pt x="0" y="966"/>
                    </a:lnTo>
                    <a:lnTo>
                      <a:pt x="0" y="1006"/>
                    </a:lnTo>
                    <a:lnTo>
                      <a:pt x="0" y="1036"/>
                    </a:lnTo>
                    <a:lnTo>
                      <a:pt x="12" y="1066"/>
                    </a:lnTo>
                    <a:lnTo>
                      <a:pt x="12" y="1096"/>
                    </a:lnTo>
                    <a:lnTo>
                      <a:pt x="12" y="1136"/>
                    </a:lnTo>
                    <a:lnTo>
                      <a:pt x="25" y="1166"/>
                    </a:lnTo>
                    <a:lnTo>
                      <a:pt x="37" y="1206"/>
                    </a:lnTo>
                    <a:lnTo>
                      <a:pt x="37" y="1196"/>
                    </a:lnTo>
                    <a:lnTo>
                      <a:pt x="37" y="1186"/>
                    </a:lnTo>
                    <a:lnTo>
                      <a:pt x="37" y="1166"/>
                    </a:lnTo>
                    <a:lnTo>
                      <a:pt x="50" y="1146"/>
                    </a:lnTo>
                    <a:lnTo>
                      <a:pt x="62" y="1106"/>
                    </a:lnTo>
                    <a:lnTo>
                      <a:pt x="75" y="1076"/>
                    </a:lnTo>
                    <a:lnTo>
                      <a:pt x="100" y="1026"/>
                    </a:lnTo>
                    <a:lnTo>
                      <a:pt x="138" y="986"/>
                    </a:lnTo>
                    <a:lnTo>
                      <a:pt x="150" y="966"/>
                    </a:lnTo>
                    <a:lnTo>
                      <a:pt x="163" y="937"/>
                    </a:lnTo>
                    <a:lnTo>
                      <a:pt x="175" y="907"/>
                    </a:lnTo>
                    <a:lnTo>
                      <a:pt x="200" y="887"/>
                    </a:lnTo>
                    <a:lnTo>
                      <a:pt x="225" y="857"/>
                    </a:lnTo>
                    <a:lnTo>
                      <a:pt x="250" y="827"/>
                    </a:lnTo>
                    <a:lnTo>
                      <a:pt x="275" y="797"/>
                    </a:lnTo>
                    <a:lnTo>
                      <a:pt x="300" y="777"/>
                    </a:lnTo>
                    <a:lnTo>
                      <a:pt x="326" y="737"/>
                    </a:lnTo>
                    <a:lnTo>
                      <a:pt x="363" y="707"/>
                    </a:lnTo>
                    <a:lnTo>
                      <a:pt x="401" y="678"/>
                    </a:lnTo>
                    <a:lnTo>
                      <a:pt x="438" y="648"/>
                    </a:lnTo>
                    <a:lnTo>
                      <a:pt x="463" y="618"/>
                    </a:lnTo>
                    <a:lnTo>
                      <a:pt x="513" y="588"/>
                    </a:lnTo>
                    <a:lnTo>
                      <a:pt x="551" y="558"/>
                    </a:lnTo>
                    <a:lnTo>
                      <a:pt x="601" y="528"/>
                    </a:lnTo>
                    <a:lnTo>
                      <a:pt x="438" y="0"/>
                    </a:lnTo>
                    <a:lnTo>
                      <a:pt x="438" y="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018440" y="4019040"/>
                <a:ext cx="411840" cy="506880"/>
              </a:xfrm>
              <a:custGeom>
                <a:avLst/>
                <a:gdLst/>
                <a:ahLst/>
                <a:rect l="l" t="t" r="r" b="b"/>
                <a:pathLst>
                  <a:path w="827" h="1096">
                    <a:moveTo>
                      <a:pt x="564" y="0"/>
                    </a:moveTo>
                    <a:lnTo>
                      <a:pt x="551" y="0"/>
                    </a:lnTo>
                    <a:lnTo>
                      <a:pt x="539" y="10"/>
                    </a:lnTo>
                    <a:lnTo>
                      <a:pt x="514" y="20"/>
                    </a:lnTo>
                    <a:lnTo>
                      <a:pt x="476" y="50"/>
                    </a:lnTo>
                    <a:lnTo>
                      <a:pt x="439" y="80"/>
                    </a:lnTo>
                    <a:lnTo>
                      <a:pt x="401" y="120"/>
                    </a:lnTo>
                    <a:lnTo>
                      <a:pt x="376" y="130"/>
                    </a:lnTo>
                    <a:lnTo>
                      <a:pt x="351" y="160"/>
                    </a:lnTo>
                    <a:lnTo>
                      <a:pt x="326" y="189"/>
                    </a:lnTo>
                    <a:lnTo>
                      <a:pt x="313" y="209"/>
                    </a:lnTo>
                    <a:lnTo>
                      <a:pt x="288" y="239"/>
                    </a:lnTo>
                    <a:lnTo>
                      <a:pt x="263" y="259"/>
                    </a:lnTo>
                    <a:lnTo>
                      <a:pt x="238" y="289"/>
                    </a:lnTo>
                    <a:lnTo>
                      <a:pt x="213" y="319"/>
                    </a:lnTo>
                    <a:lnTo>
                      <a:pt x="176" y="349"/>
                    </a:lnTo>
                    <a:lnTo>
                      <a:pt x="151" y="389"/>
                    </a:lnTo>
                    <a:lnTo>
                      <a:pt x="138" y="419"/>
                    </a:lnTo>
                    <a:lnTo>
                      <a:pt x="126" y="459"/>
                    </a:lnTo>
                    <a:lnTo>
                      <a:pt x="101" y="498"/>
                    </a:lnTo>
                    <a:lnTo>
                      <a:pt x="75" y="528"/>
                    </a:lnTo>
                    <a:lnTo>
                      <a:pt x="63" y="578"/>
                    </a:lnTo>
                    <a:lnTo>
                      <a:pt x="38" y="618"/>
                    </a:lnTo>
                    <a:lnTo>
                      <a:pt x="25" y="658"/>
                    </a:lnTo>
                    <a:lnTo>
                      <a:pt x="13" y="698"/>
                    </a:lnTo>
                    <a:lnTo>
                      <a:pt x="0" y="748"/>
                    </a:lnTo>
                    <a:lnTo>
                      <a:pt x="0" y="797"/>
                    </a:lnTo>
                    <a:lnTo>
                      <a:pt x="276" y="1096"/>
                    </a:lnTo>
                    <a:lnTo>
                      <a:pt x="276" y="1086"/>
                    </a:lnTo>
                    <a:lnTo>
                      <a:pt x="276" y="1076"/>
                    </a:lnTo>
                    <a:lnTo>
                      <a:pt x="288" y="1046"/>
                    </a:lnTo>
                    <a:lnTo>
                      <a:pt x="301" y="1027"/>
                    </a:lnTo>
                    <a:lnTo>
                      <a:pt x="313" y="977"/>
                    </a:lnTo>
                    <a:lnTo>
                      <a:pt x="338" y="937"/>
                    </a:lnTo>
                    <a:lnTo>
                      <a:pt x="338" y="917"/>
                    </a:lnTo>
                    <a:lnTo>
                      <a:pt x="364" y="897"/>
                    </a:lnTo>
                    <a:lnTo>
                      <a:pt x="376" y="867"/>
                    </a:lnTo>
                    <a:lnTo>
                      <a:pt x="389" y="837"/>
                    </a:lnTo>
                    <a:lnTo>
                      <a:pt x="401" y="807"/>
                    </a:lnTo>
                    <a:lnTo>
                      <a:pt x="426" y="777"/>
                    </a:lnTo>
                    <a:lnTo>
                      <a:pt x="439" y="748"/>
                    </a:lnTo>
                    <a:lnTo>
                      <a:pt x="464" y="718"/>
                    </a:lnTo>
                    <a:lnTo>
                      <a:pt x="476" y="678"/>
                    </a:lnTo>
                    <a:lnTo>
                      <a:pt x="514" y="648"/>
                    </a:lnTo>
                    <a:lnTo>
                      <a:pt x="539" y="618"/>
                    </a:lnTo>
                    <a:lnTo>
                      <a:pt x="564" y="588"/>
                    </a:lnTo>
                    <a:lnTo>
                      <a:pt x="589" y="548"/>
                    </a:lnTo>
                    <a:lnTo>
                      <a:pt x="614" y="518"/>
                    </a:lnTo>
                    <a:lnTo>
                      <a:pt x="652" y="478"/>
                    </a:lnTo>
                    <a:lnTo>
                      <a:pt x="689" y="449"/>
                    </a:lnTo>
                    <a:lnTo>
                      <a:pt x="714" y="409"/>
                    </a:lnTo>
                    <a:lnTo>
                      <a:pt x="752" y="379"/>
                    </a:lnTo>
                    <a:lnTo>
                      <a:pt x="789" y="339"/>
                    </a:lnTo>
                    <a:lnTo>
                      <a:pt x="827" y="309"/>
                    </a:lnTo>
                    <a:lnTo>
                      <a:pt x="564" y="0"/>
                    </a:lnTo>
                    <a:lnTo>
                      <a:pt x="564" y="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243080" y="4268160"/>
                <a:ext cx="536400" cy="396360"/>
              </a:xfrm>
              <a:custGeom>
                <a:avLst/>
                <a:gdLst/>
                <a:ahLst/>
                <a:rect l="l" t="t" r="r" b="b"/>
                <a:pathLst>
                  <a:path w="1077" h="857">
                    <a:moveTo>
                      <a:pt x="714" y="0"/>
                    </a:moveTo>
                    <a:lnTo>
                      <a:pt x="714" y="0"/>
                    </a:lnTo>
                    <a:lnTo>
                      <a:pt x="702" y="10"/>
                    </a:lnTo>
                    <a:lnTo>
                      <a:pt x="676" y="30"/>
                    </a:lnTo>
                    <a:lnTo>
                      <a:pt x="664" y="60"/>
                    </a:lnTo>
                    <a:lnTo>
                      <a:pt x="626" y="90"/>
                    </a:lnTo>
                    <a:lnTo>
                      <a:pt x="589" y="130"/>
                    </a:lnTo>
                    <a:lnTo>
                      <a:pt x="564" y="150"/>
                    </a:lnTo>
                    <a:lnTo>
                      <a:pt x="551" y="170"/>
                    </a:lnTo>
                    <a:lnTo>
                      <a:pt x="526" y="200"/>
                    </a:lnTo>
                    <a:lnTo>
                      <a:pt x="501" y="229"/>
                    </a:lnTo>
                    <a:lnTo>
                      <a:pt x="476" y="249"/>
                    </a:lnTo>
                    <a:lnTo>
                      <a:pt x="451" y="279"/>
                    </a:lnTo>
                    <a:lnTo>
                      <a:pt x="426" y="299"/>
                    </a:lnTo>
                    <a:lnTo>
                      <a:pt x="401" y="329"/>
                    </a:lnTo>
                    <a:lnTo>
                      <a:pt x="363" y="359"/>
                    </a:lnTo>
                    <a:lnTo>
                      <a:pt x="338" y="389"/>
                    </a:lnTo>
                    <a:lnTo>
                      <a:pt x="313" y="419"/>
                    </a:lnTo>
                    <a:lnTo>
                      <a:pt x="276" y="449"/>
                    </a:lnTo>
                    <a:lnTo>
                      <a:pt x="251" y="479"/>
                    </a:lnTo>
                    <a:lnTo>
                      <a:pt x="213" y="498"/>
                    </a:lnTo>
                    <a:lnTo>
                      <a:pt x="176" y="528"/>
                    </a:lnTo>
                    <a:lnTo>
                      <a:pt x="138" y="558"/>
                    </a:lnTo>
                    <a:lnTo>
                      <a:pt x="113" y="588"/>
                    </a:lnTo>
                    <a:lnTo>
                      <a:pt x="75" y="618"/>
                    </a:lnTo>
                    <a:lnTo>
                      <a:pt x="38" y="648"/>
                    </a:lnTo>
                    <a:lnTo>
                      <a:pt x="0" y="678"/>
                    </a:lnTo>
                    <a:lnTo>
                      <a:pt x="363" y="857"/>
                    </a:lnTo>
                    <a:lnTo>
                      <a:pt x="363" y="857"/>
                    </a:lnTo>
                    <a:lnTo>
                      <a:pt x="388" y="847"/>
                    </a:lnTo>
                    <a:lnTo>
                      <a:pt x="401" y="827"/>
                    </a:lnTo>
                    <a:lnTo>
                      <a:pt x="439" y="807"/>
                    </a:lnTo>
                    <a:lnTo>
                      <a:pt x="476" y="787"/>
                    </a:lnTo>
                    <a:lnTo>
                      <a:pt x="514" y="758"/>
                    </a:lnTo>
                    <a:lnTo>
                      <a:pt x="576" y="728"/>
                    </a:lnTo>
                    <a:lnTo>
                      <a:pt x="626" y="688"/>
                    </a:lnTo>
                    <a:lnTo>
                      <a:pt x="651" y="668"/>
                    </a:lnTo>
                    <a:lnTo>
                      <a:pt x="676" y="638"/>
                    </a:lnTo>
                    <a:lnTo>
                      <a:pt x="702" y="618"/>
                    </a:lnTo>
                    <a:lnTo>
                      <a:pt x="739" y="588"/>
                    </a:lnTo>
                    <a:lnTo>
                      <a:pt x="764" y="558"/>
                    </a:lnTo>
                    <a:lnTo>
                      <a:pt x="802" y="538"/>
                    </a:lnTo>
                    <a:lnTo>
                      <a:pt x="827" y="508"/>
                    </a:lnTo>
                    <a:lnTo>
                      <a:pt x="864" y="479"/>
                    </a:lnTo>
                    <a:lnTo>
                      <a:pt x="889" y="439"/>
                    </a:lnTo>
                    <a:lnTo>
                      <a:pt x="914" y="409"/>
                    </a:lnTo>
                    <a:lnTo>
                      <a:pt x="939" y="369"/>
                    </a:lnTo>
                    <a:lnTo>
                      <a:pt x="977" y="339"/>
                    </a:lnTo>
                    <a:lnTo>
                      <a:pt x="990" y="299"/>
                    </a:lnTo>
                    <a:lnTo>
                      <a:pt x="1027" y="269"/>
                    </a:lnTo>
                    <a:lnTo>
                      <a:pt x="1052" y="229"/>
                    </a:lnTo>
                    <a:lnTo>
                      <a:pt x="1077" y="190"/>
                    </a:lnTo>
                    <a:lnTo>
                      <a:pt x="714" y="0"/>
                    </a:lnTo>
                    <a:lnTo>
                      <a:pt x="714" y="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684160" y="3996000"/>
                <a:ext cx="268200" cy="502200"/>
              </a:xfrm>
              <a:custGeom>
                <a:avLst/>
                <a:gdLst/>
                <a:ahLst/>
                <a:rect l="l" t="t" r="r" b="b"/>
                <a:pathLst>
                  <a:path w="539" h="1086">
                    <a:moveTo>
                      <a:pt x="25" y="0"/>
                    </a:moveTo>
                    <a:lnTo>
                      <a:pt x="25" y="10"/>
                    </a:lnTo>
                    <a:lnTo>
                      <a:pt x="13" y="30"/>
                    </a:lnTo>
                    <a:lnTo>
                      <a:pt x="13" y="50"/>
                    </a:lnTo>
                    <a:lnTo>
                      <a:pt x="13" y="70"/>
                    </a:lnTo>
                    <a:lnTo>
                      <a:pt x="13" y="90"/>
                    </a:lnTo>
                    <a:lnTo>
                      <a:pt x="13" y="120"/>
                    </a:lnTo>
                    <a:lnTo>
                      <a:pt x="0" y="150"/>
                    </a:lnTo>
                    <a:lnTo>
                      <a:pt x="0" y="180"/>
                    </a:lnTo>
                    <a:lnTo>
                      <a:pt x="0" y="210"/>
                    </a:lnTo>
                    <a:lnTo>
                      <a:pt x="0" y="249"/>
                    </a:lnTo>
                    <a:lnTo>
                      <a:pt x="0" y="289"/>
                    </a:lnTo>
                    <a:lnTo>
                      <a:pt x="13" y="329"/>
                    </a:lnTo>
                    <a:lnTo>
                      <a:pt x="13" y="369"/>
                    </a:lnTo>
                    <a:lnTo>
                      <a:pt x="25" y="419"/>
                    </a:lnTo>
                    <a:lnTo>
                      <a:pt x="38" y="459"/>
                    </a:lnTo>
                    <a:lnTo>
                      <a:pt x="50" y="499"/>
                    </a:lnTo>
                    <a:lnTo>
                      <a:pt x="63" y="538"/>
                    </a:lnTo>
                    <a:lnTo>
                      <a:pt x="75" y="588"/>
                    </a:lnTo>
                    <a:lnTo>
                      <a:pt x="88" y="628"/>
                    </a:lnTo>
                    <a:lnTo>
                      <a:pt x="113" y="678"/>
                    </a:lnTo>
                    <a:lnTo>
                      <a:pt x="138" y="718"/>
                    </a:lnTo>
                    <a:lnTo>
                      <a:pt x="163" y="768"/>
                    </a:lnTo>
                    <a:lnTo>
                      <a:pt x="188" y="817"/>
                    </a:lnTo>
                    <a:lnTo>
                      <a:pt x="226" y="857"/>
                    </a:lnTo>
                    <a:lnTo>
                      <a:pt x="251" y="897"/>
                    </a:lnTo>
                    <a:lnTo>
                      <a:pt x="301" y="937"/>
                    </a:lnTo>
                    <a:lnTo>
                      <a:pt x="338" y="977"/>
                    </a:lnTo>
                    <a:lnTo>
                      <a:pt x="401" y="1017"/>
                    </a:lnTo>
                    <a:lnTo>
                      <a:pt x="439" y="1057"/>
                    </a:lnTo>
                    <a:lnTo>
                      <a:pt x="501" y="1086"/>
                    </a:lnTo>
                    <a:lnTo>
                      <a:pt x="489" y="1047"/>
                    </a:lnTo>
                    <a:lnTo>
                      <a:pt x="489" y="1007"/>
                    </a:lnTo>
                    <a:lnTo>
                      <a:pt x="476" y="957"/>
                    </a:lnTo>
                    <a:lnTo>
                      <a:pt x="476" y="917"/>
                    </a:lnTo>
                    <a:lnTo>
                      <a:pt x="476" y="877"/>
                    </a:lnTo>
                    <a:lnTo>
                      <a:pt x="476" y="847"/>
                    </a:lnTo>
                    <a:lnTo>
                      <a:pt x="476" y="807"/>
                    </a:lnTo>
                    <a:lnTo>
                      <a:pt x="476" y="778"/>
                    </a:lnTo>
                    <a:lnTo>
                      <a:pt x="476" y="738"/>
                    </a:lnTo>
                    <a:lnTo>
                      <a:pt x="476" y="708"/>
                    </a:lnTo>
                    <a:lnTo>
                      <a:pt x="476" y="678"/>
                    </a:lnTo>
                    <a:lnTo>
                      <a:pt x="476" y="648"/>
                    </a:lnTo>
                    <a:lnTo>
                      <a:pt x="476" y="628"/>
                    </a:lnTo>
                    <a:lnTo>
                      <a:pt x="489" y="598"/>
                    </a:lnTo>
                    <a:lnTo>
                      <a:pt x="489" y="568"/>
                    </a:lnTo>
                    <a:lnTo>
                      <a:pt x="489" y="558"/>
                    </a:lnTo>
                    <a:lnTo>
                      <a:pt x="489" y="509"/>
                    </a:lnTo>
                    <a:lnTo>
                      <a:pt x="501" y="469"/>
                    </a:lnTo>
                    <a:lnTo>
                      <a:pt x="514" y="429"/>
                    </a:lnTo>
                    <a:lnTo>
                      <a:pt x="526" y="409"/>
                    </a:lnTo>
                    <a:lnTo>
                      <a:pt x="526" y="379"/>
                    </a:lnTo>
                    <a:lnTo>
                      <a:pt x="539" y="36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096000" y="4222440"/>
                <a:ext cx="280080" cy="396360"/>
              </a:xfrm>
              <a:custGeom>
                <a:avLst/>
                <a:gdLst/>
                <a:ahLst/>
                <a:rect l="l" t="t" r="r" b="b"/>
                <a:pathLst>
                  <a:path w="563" h="857">
                    <a:moveTo>
                      <a:pt x="50" y="0"/>
                    </a:moveTo>
                    <a:lnTo>
                      <a:pt x="50" y="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7" y="59"/>
                    </a:lnTo>
                    <a:lnTo>
                      <a:pt x="25" y="89"/>
                    </a:lnTo>
                    <a:lnTo>
                      <a:pt x="25" y="139"/>
                    </a:lnTo>
                    <a:lnTo>
                      <a:pt x="12" y="149"/>
                    </a:lnTo>
                    <a:lnTo>
                      <a:pt x="12" y="179"/>
                    </a:lnTo>
                    <a:lnTo>
                      <a:pt x="12" y="209"/>
                    </a:lnTo>
                    <a:lnTo>
                      <a:pt x="12" y="239"/>
                    </a:lnTo>
                    <a:lnTo>
                      <a:pt x="0" y="259"/>
                    </a:lnTo>
                    <a:lnTo>
                      <a:pt x="0" y="289"/>
                    </a:lnTo>
                    <a:lnTo>
                      <a:pt x="0" y="318"/>
                    </a:lnTo>
                    <a:lnTo>
                      <a:pt x="0" y="348"/>
                    </a:lnTo>
                    <a:lnTo>
                      <a:pt x="0" y="378"/>
                    </a:lnTo>
                    <a:lnTo>
                      <a:pt x="0" y="408"/>
                    </a:lnTo>
                    <a:lnTo>
                      <a:pt x="0" y="448"/>
                    </a:lnTo>
                    <a:lnTo>
                      <a:pt x="0" y="478"/>
                    </a:lnTo>
                    <a:lnTo>
                      <a:pt x="0" y="508"/>
                    </a:lnTo>
                    <a:lnTo>
                      <a:pt x="0" y="548"/>
                    </a:lnTo>
                    <a:lnTo>
                      <a:pt x="12" y="578"/>
                    </a:lnTo>
                    <a:lnTo>
                      <a:pt x="25" y="617"/>
                    </a:lnTo>
                    <a:lnTo>
                      <a:pt x="25" y="647"/>
                    </a:lnTo>
                    <a:lnTo>
                      <a:pt x="37" y="687"/>
                    </a:lnTo>
                    <a:lnTo>
                      <a:pt x="37" y="717"/>
                    </a:lnTo>
                    <a:lnTo>
                      <a:pt x="50" y="767"/>
                    </a:lnTo>
                    <a:lnTo>
                      <a:pt x="501" y="857"/>
                    </a:lnTo>
                    <a:lnTo>
                      <a:pt x="488" y="847"/>
                    </a:lnTo>
                    <a:lnTo>
                      <a:pt x="488" y="837"/>
                    </a:lnTo>
                    <a:lnTo>
                      <a:pt x="488" y="817"/>
                    </a:lnTo>
                    <a:lnTo>
                      <a:pt x="488" y="787"/>
                    </a:lnTo>
                    <a:lnTo>
                      <a:pt x="476" y="747"/>
                    </a:lnTo>
                    <a:lnTo>
                      <a:pt x="476" y="707"/>
                    </a:lnTo>
                    <a:lnTo>
                      <a:pt x="476" y="677"/>
                    </a:lnTo>
                    <a:lnTo>
                      <a:pt x="476" y="657"/>
                    </a:lnTo>
                    <a:lnTo>
                      <a:pt x="476" y="627"/>
                    </a:lnTo>
                    <a:lnTo>
                      <a:pt x="476" y="597"/>
                    </a:lnTo>
                    <a:lnTo>
                      <a:pt x="476" y="568"/>
                    </a:lnTo>
                    <a:lnTo>
                      <a:pt x="476" y="538"/>
                    </a:lnTo>
                    <a:lnTo>
                      <a:pt x="476" y="508"/>
                    </a:lnTo>
                    <a:lnTo>
                      <a:pt x="476" y="478"/>
                    </a:lnTo>
                    <a:lnTo>
                      <a:pt x="476" y="448"/>
                    </a:lnTo>
                    <a:lnTo>
                      <a:pt x="476" y="418"/>
                    </a:lnTo>
                    <a:lnTo>
                      <a:pt x="476" y="388"/>
                    </a:lnTo>
                    <a:lnTo>
                      <a:pt x="488" y="358"/>
                    </a:lnTo>
                    <a:lnTo>
                      <a:pt x="488" y="318"/>
                    </a:lnTo>
                    <a:lnTo>
                      <a:pt x="501" y="289"/>
                    </a:lnTo>
                    <a:lnTo>
                      <a:pt x="501" y="259"/>
                    </a:lnTo>
                    <a:lnTo>
                      <a:pt x="513" y="219"/>
                    </a:lnTo>
                    <a:lnTo>
                      <a:pt x="513" y="189"/>
                    </a:lnTo>
                    <a:lnTo>
                      <a:pt x="526" y="159"/>
                    </a:lnTo>
                    <a:lnTo>
                      <a:pt x="551" y="129"/>
                    </a:lnTo>
                    <a:lnTo>
                      <a:pt x="563" y="99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533040" y="4286520"/>
                <a:ext cx="261720" cy="354600"/>
              </a:xfrm>
              <a:custGeom>
                <a:avLst/>
                <a:gdLst/>
                <a:ahLst/>
                <a:rect l="l" t="t" r="r" b="b"/>
                <a:pathLst>
                  <a:path w="526" h="767">
                    <a:moveTo>
                      <a:pt x="50" y="0"/>
                    </a:moveTo>
                    <a:lnTo>
                      <a:pt x="50" y="10"/>
                    </a:lnTo>
                    <a:lnTo>
                      <a:pt x="37" y="40"/>
                    </a:lnTo>
                    <a:lnTo>
                      <a:pt x="25" y="70"/>
                    </a:lnTo>
                    <a:lnTo>
                      <a:pt x="25" y="100"/>
                    </a:lnTo>
                    <a:lnTo>
                      <a:pt x="12" y="140"/>
                    </a:lnTo>
                    <a:lnTo>
                      <a:pt x="12" y="189"/>
                    </a:lnTo>
                    <a:lnTo>
                      <a:pt x="12" y="199"/>
                    </a:lnTo>
                    <a:lnTo>
                      <a:pt x="12" y="229"/>
                    </a:lnTo>
                    <a:lnTo>
                      <a:pt x="0" y="259"/>
                    </a:lnTo>
                    <a:lnTo>
                      <a:pt x="0" y="289"/>
                    </a:lnTo>
                    <a:lnTo>
                      <a:pt x="0" y="319"/>
                    </a:lnTo>
                    <a:lnTo>
                      <a:pt x="0" y="349"/>
                    </a:lnTo>
                    <a:lnTo>
                      <a:pt x="0" y="379"/>
                    </a:lnTo>
                    <a:lnTo>
                      <a:pt x="0" y="419"/>
                    </a:lnTo>
                    <a:lnTo>
                      <a:pt x="0" y="449"/>
                    </a:lnTo>
                    <a:lnTo>
                      <a:pt x="0" y="488"/>
                    </a:lnTo>
                    <a:lnTo>
                      <a:pt x="0" y="518"/>
                    </a:lnTo>
                    <a:lnTo>
                      <a:pt x="0" y="568"/>
                    </a:lnTo>
                    <a:lnTo>
                      <a:pt x="0" y="608"/>
                    </a:lnTo>
                    <a:lnTo>
                      <a:pt x="0" y="648"/>
                    </a:lnTo>
                    <a:lnTo>
                      <a:pt x="12" y="698"/>
                    </a:lnTo>
                    <a:lnTo>
                      <a:pt x="25" y="738"/>
                    </a:lnTo>
                    <a:lnTo>
                      <a:pt x="475" y="767"/>
                    </a:lnTo>
                    <a:lnTo>
                      <a:pt x="475" y="747"/>
                    </a:lnTo>
                    <a:lnTo>
                      <a:pt x="463" y="708"/>
                    </a:lnTo>
                    <a:lnTo>
                      <a:pt x="463" y="678"/>
                    </a:lnTo>
                    <a:lnTo>
                      <a:pt x="450" y="638"/>
                    </a:lnTo>
                    <a:lnTo>
                      <a:pt x="450" y="598"/>
                    </a:lnTo>
                    <a:lnTo>
                      <a:pt x="450" y="558"/>
                    </a:lnTo>
                    <a:lnTo>
                      <a:pt x="450" y="518"/>
                    </a:lnTo>
                    <a:lnTo>
                      <a:pt x="450" y="498"/>
                    </a:lnTo>
                    <a:lnTo>
                      <a:pt x="450" y="468"/>
                    </a:lnTo>
                    <a:lnTo>
                      <a:pt x="450" y="439"/>
                    </a:lnTo>
                    <a:lnTo>
                      <a:pt x="450" y="409"/>
                    </a:lnTo>
                    <a:lnTo>
                      <a:pt x="450" y="379"/>
                    </a:lnTo>
                    <a:lnTo>
                      <a:pt x="463" y="349"/>
                    </a:lnTo>
                    <a:lnTo>
                      <a:pt x="463" y="319"/>
                    </a:lnTo>
                    <a:lnTo>
                      <a:pt x="463" y="279"/>
                    </a:lnTo>
                    <a:lnTo>
                      <a:pt x="475" y="239"/>
                    </a:lnTo>
                    <a:lnTo>
                      <a:pt x="475" y="199"/>
                    </a:lnTo>
                    <a:lnTo>
                      <a:pt x="488" y="170"/>
                    </a:lnTo>
                    <a:lnTo>
                      <a:pt x="488" y="130"/>
                    </a:lnTo>
                    <a:lnTo>
                      <a:pt x="500" y="80"/>
                    </a:lnTo>
                    <a:lnTo>
                      <a:pt x="513" y="40"/>
                    </a:lnTo>
                    <a:lnTo>
                      <a:pt x="526" y="10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944160" y="4254120"/>
                <a:ext cx="305640" cy="373680"/>
              </a:xfrm>
              <a:custGeom>
                <a:avLst/>
                <a:gdLst/>
                <a:ahLst/>
                <a:rect l="l" t="t" r="r" b="b"/>
                <a:pathLst>
                  <a:path w="614" h="808">
                    <a:moveTo>
                      <a:pt x="125" y="60"/>
                    </a:moveTo>
                    <a:lnTo>
                      <a:pt x="125" y="60"/>
                    </a:lnTo>
                    <a:lnTo>
                      <a:pt x="125" y="80"/>
                    </a:lnTo>
                    <a:lnTo>
                      <a:pt x="125" y="100"/>
                    </a:lnTo>
                    <a:lnTo>
                      <a:pt x="125" y="130"/>
                    </a:lnTo>
                    <a:lnTo>
                      <a:pt x="113" y="170"/>
                    </a:lnTo>
                    <a:lnTo>
                      <a:pt x="113" y="210"/>
                    </a:lnTo>
                    <a:lnTo>
                      <a:pt x="100" y="230"/>
                    </a:lnTo>
                    <a:lnTo>
                      <a:pt x="100" y="259"/>
                    </a:lnTo>
                    <a:lnTo>
                      <a:pt x="100" y="289"/>
                    </a:lnTo>
                    <a:lnTo>
                      <a:pt x="100" y="319"/>
                    </a:lnTo>
                    <a:lnTo>
                      <a:pt x="100" y="339"/>
                    </a:lnTo>
                    <a:lnTo>
                      <a:pt x="88" y="369"/>
                    </a:lnTo>
                    <a:lnTo>
                      <a:pt x="88" y="399"/>
                    </a:lnTo>
                    <a:lnTo>
                      <a:pt x="88" y="429"/>
                    </a:lnTo>
                    <a:lnTo>
                      <a:pt x="75" y="459"/>
                    </a:lnTo>
                    <a:lnTo>
                      <a:pt x="75" y="489"/>
                    </a:lnTo>
                    <a:lnTo>
                      <a:pt x="63" y="519"/>
                    </a:lnTo>
                    <a:lnTo>
                      <a:pt x="63" y="558"/>
                    </a:lnTo>
                    <a:lnTo>
                      <a:pt x="50" y="588"/>
                    </a:lnTo>
                    <a:lnTo>
                      <a:pt x="50" y="618"/>
                    </a:lnTo>
                    <a:lnTo>
                      <a:pt x="38" y="648"/>
                    </a:lnTo>
                    <a:lnTo>
                      <a:pt x="38" y="688"/>
                    </a:lnTo>
                    <a:lnTo>
                      <a:pt x="25" y="708"/>
                    </a:lnTo>
                    <a:lnTo>
                      <a:pt x="13" y="748"/>
                    </a:lnTo>
                    <a:lnTo>
                      <a:pt x="13" y="778"/>
                    </a:lnTo>
                    <a:lnTo>
                      <a:pt x="0" y="808"/>
                    </a:lnTo>
                    <a:lnTo>
                      <a:pt x="476" y="768"/>
                    </a:lnTo>
                    <a:lnTo>
                      <a:pt x="476" y="758"/>
                    </a:lnTo>
                    <a:lnTo>
                      <a:pt x="476" y="748"/>
                    </a:lnTo>
                    <a:lnTo>
                      <a:pt x="476" y="718"/>
                    </a:lnTo>
                    <a:lnTo>
                      <a:pt x="489" y="698"/>
                    </a:lnTo>
                    <a:lnTo>
                      <a:pt x="489" y="658"/>
                    </a:lnTo>
                    <a:lnTo>
                      <a:pt x="501" y="618"/>
                    </a:lnTo>
                    <a:lnTo>
                      <a:pt x="514" y="578"/>
                    </a:lnTo>
                    <a:lnTo>
                      <a:pt x="539" y="528"/>
                    </a:lnTo>
                    <a:lnTo>
                      <a:pt x="539" y="499"/>
                    </a:lnTo>
                    <a:lnTo>
                      <a:pt x="539" y="469"/>
                    </a:lnTo>
                    <a:lnTo>
                      <a:pt x="551" y="439"/>
                    </a:lnTo>
                    <a:lnTo>
                      <a:pt x="551" y="409"/>
                    </a:lnTo>
                    <a:lnTo>
                      <a:pt x="551" y="379"/>
                    </a:lnTo>
                    <a:lnTo>
                      <a:pt x="564" y="339"/>
                    </a:lnTo>
                    <a:lnTo>
                      <a:pt x="564" y="309"/>
                    </a:lnTo>
                    <a:lnTo>
                      <a:pt x="576" y="279"/>
                    </a:lnTo>
                    <a:lnTo>
                      <a:pt x="576" y="249"/>
                    </a:lnTo>
                    <a:lnTo>
                      <a:pt x="589" y="210"/>
                    </a:lnTo>
                    <a:lnTo>
                      <a:pt x="589" y="170"/>
                    </a:lnTo>
                    <a:lnTo>
                      <a:pt x="601" y="140"/>
                    </a:lnTo>
                    <a:lnTo>
                      <a:pt x="601" y="100"/>
                    </a:lnTo>
                    <a:lnTo>
                      <a:pt x="601" y="70"/>
                    </a:lnTo>
                    <a:lnTo>
                      <a:pt x="614" y="30"/>
                    </a:lnTo>
                    <a:lnTo>
                      <a:pt x="614" y="0"/>
                    </a:lnTo>
                    <a:lnTo>
                      <a:pt x="125" y="60"/>
                    </a:lnTo>
                    <a:lnTo>
                      <a:pt x="125" y="6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356360" y="4167000"/>
                <a:ext cx="311760" cy="410400"/>
              </a:xfrm>
              <a:custGeom>
                <a:avLst/>
                <a:gdLst/>
                <a:ahLst/>
                <a:rect l="l" t="t" r="r" b="b"/>
                <a:pathLst>
                  <a:path w="626" h="887">
                    <a:moveTo>
                      <a:pt x="150" y="110"/>
                    </a:moveTo>
                    <a:lnTo>
                      <a:pt x="150" y="120"/>
                    </a:lnTo>
                    <a:lnTo>
                      <a:pt x="150" y="140"/>
                    </a:lnTo>
                    <a:lnTo>
                      <a:pt x="150" y="169"/>
                    </a:lnTo>
                    <a:lnTo>
                      <a:pt x="150" y="199"/>
                    </a:lnTo>
                    <a:lnTo>
                      <a:pt x="150" y="239"/>
                    </a:lnTo>
                    <a:lnTo>
                      <a:pt x="137" y="259"/>
                    </a:lnTo>
                    <a:lnTo>
                      <a:pt x="137" y="279"/>
                    </a:lnTo>
                    <a:lnTo>
                      <a:pt x="137" y="309"/>
                    </a:lnTo>
                    <a:lnTo>
                      <a:pt x="137" y="329"/>
                    </a:lnTo>
                    <a:lnTo>
                      <a:pt x="137" y="359"/>
                    </a:lnTo>
                    <a:lnTo>
                      <a:pt x="137" y="389"/>
                    </a:lnTo>
                    <a:lnTo>
                      <a:pt x="125" y="409"/>
                    </a:lnTo>
                    <a:lnTo>
                      <a:pt x="125" y="448"/>
                    </a:lnTo>
                    <a:lnTo>
                      <a:pt x="112" y="468"/>
                    </a:lnTo>
                    <a:lnTo>
                      <a:pt x="112" y="508"/>
                    </a:lnTo>
                    <a:lnTo>
                      <a:pt x="100" y="538"/>
                    </a:lnTo>
                    <a:lnTo>
                      <a:pt x="100" y="578"/>
                    </a:lnTo>
                    <a:lnTo>
                      <a:pt x="87" y="608"/>
                    </a:lnTo>
                    <a:lnTo>
                      <a:pt x="75" y="648"/>
                    </a:lnTo>
                    <a:lnTo>
                      <a:pt x="62" y="688"/>
                    </a:lnTo>
                    <a:lnTo>
                      <a:pt x="50" y="727"/>
                    </a:lnTo>
                    <a:lnTo>
                      <a:pt x="37" y="767"/>
                    </a:lnTo>
                    <a:lnTo>
                      <a:pt x="25" y="797"/>
                    </a:lnTo>
                    <a:lnTo>
                      <a:pt x="12" y="837"/>
                    </a:lnTo>
                    <a:lnTo>
                      <a:pt x="0" y="887"/>
                    </a:lnTo>
                    <a:lnTo>
                      <a:pt x="426" y="777"/>
                    </a:lnTo>
                    <a:lnTo>
                      <a:pt x="426" y="767"/>
                    </a:lnTo>
                    <a:lnTo>
                      <a:pt x="451" y="727"/>
                    </a:lnTo>
                    <a:lnTo>
                      <a:pt x="463" y="698"/>
                    </a:lnTo>
                    <a:lnTo>
                      <a:pt x="476" y="668"/>
                    </a:lnTo>
                    <a:lnTo>
                      <a:pt x="501" y="628"/>
                    </a:lnTo>
                    <a:lnTo>
                      <a:pt x="526" y="588"/>
                    </a:lnTo>
                    <a:lnTo>
                      <a:pt x="526" y="558"/>
                    </a:lnTo>
                    <a:lnTo>
                      <a:pt x="538" y="528"/>
                    </a:lnTo>
                    <a:lnTo>
                      <a:pt x="538" y="498"/>
                    </a:lnTo>
                    <a:lnTo>
                      <a:pt x="551" y="468"/>
                    </a:lnTo>
                    <a:lnTo>
                      <a:pt x="563" y="438"/>
                    </a:lnTo>
                    <a:lnTo>
                      <a:pt x="576" y="399"/>
                    </a:lnTo>
                    <a:lnTo>
                      <a:pt x="576" y="369"/>
                    </a:lnTo>
                    <a:lnTo>
                      <a:pt x="588" y="339"/>
                    </a:lnTo>
                    <a:lnTo>
                      <a:pt x="601" y="299"/>
                    </a:lnTo>
                    <a:lnTo>
                      <a:pt x="601" y="259"/>
                    </a:lnTo>
                    <a:lnTo>
                      <a:pt x="613" y="219"/>
                    </a:lnTo>
                    <a:lnTo>
                      <a:pt x="613" y="179"/>
                    </a:lnTo>
                    <a:lnTo>
                      <a:pt x="613" y="140"/>
                    </a:lnTo>
                    <a:lnTo>
                      <a:pt x="613" y="90"/>
                    </a:lnTo>
                    <a:lnTo>
                      <a:pt x="626" y="50"/>
                    </a:lnTo>
                    <a:lnTo>
                      <a:pt x="626" y="0"/>
                    </a:lnTo>
                    <a:lnTo>
                      <a:pt x="150" y="110"/>
                    </a:lnTo>
                    <a:lnTo>
                      <a:pt x="150" y="11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699440" y="4258800"/>
                <a:ext cx="3443400" cy="866880"/>
              </a:xfrm>
              <a:custGeom>
                <a:avLst/>
                <a:gdLst/>
                <a:ahLst/>
                <a:rect l="l" t="t" r="r" b="b"/>
                <a:pathLst>
                  <a:path w="6913" h="1874">
                    <a:moveTo>
                      <a:pt x="0" y="638"/>
                    </a:moveTo>
                    <a:lnTo>
                      <a:pt x="0" y="648"/>
                    </a:lnTo>
                    <a:lnTo>
                      <a:pt x="12" y="688"/>
                    </a:lnTo>
                    <a:lnTo>
                      <a:pt x="25" y="708"/>
                    </a:lnTo>
                    <a:lnTo>
                      <a:pt x="37" y="738"/>
                    </a:lnTo>
                    <a:lnTo>
                      <a:pt x="62" y="768"/>
                    </a:lnTo>
                    <a:lnTo>
                      <a:pt x="87" y="807"/>
                    </a:lnTo>
                    <a:lnTo>
                      <a:pt x="112" y="847"/>
                    </a:lnTo>
                    <a:lnTo>
                      <a:pt x="150" y="897"/>
                    </a:lnTo>
                    <a:lnTo>
                      <a:pt x="187" y="937"/>
                    </a:lnTo>
                    <a:lnTo>
                      <a:pt x="237" y="987"/>
                    </a:lnTo>
                    <a:lnTo>
                      <a:pt x="263" y="1017"/>
                    </a:lnTo>
                    <a:lnTo>
                      <a:pt x="300" y="1037"/>
                    </a:lnTo>
                    <a:lnTo>
                      <a:pt x="325" y="1067"/>
                    </a:lnTo>
                    <a:lnTo>
                      <a:pt x="363" y="1096"/>
                    </a:lnTo>
                    <a:lnTo>
                      <a:pt x="388" y="1126"/>
                    </a:lnTo>
                    <a:lnTo>
                      <a:pt x="425" y="1156"/>
                    </a:lnTo>
                    <a:lnTo>
                      <a:pt x="475" y="1176"/>
                    </a:lnTo>
                    <a:lnTo>
                      <a:pt x="513" y="1206"/>
                    </a:lnTo>
                    <a:lnTo>
                      <a:pt x="551" y="1226"/>
                    </a:lnTo>
                    <a:lnTo>
                      <a:pt x="601" y="1256"/>
                    </a:lnTo>
                    <a:lnTo>
                      <a:pt x="638" y="1286"/>
                    </a:lnTo>
                    <a:lnTo>
                      <a:pt x="701" y="1316"/>
                    </a:lnTo>
                    <a:lnTo>
                      <a:pt x="751" y="1346"/>
                    </a:lnTo>
                    <a:lnTo>
                      <a:pt x="801" y="1366"/>
                    </a:lnTo>
                    <a:lnTo>
                      <a:pt x="851" y="1395"/>
                    </a:lnTo>
                    <a:lnTo>
                      <a:pt x="914" y="1425"/>
                    </a:lnTo>
                    <a:lnTo>
                      <a:pt x="976" y="1445"/>
                    </a:lnTo>
                    <a:lnTo>
                      <a:pt x="1039" y="1475"/>
                    </a:lnTo>
                    <a:lnTo>
                      <a:pt x="1114" y="1495"/>
                    </a:lnTo>
                    <a:lnTo>
                      <a:pt x="1177" y="1525"/>
                    </a:lnTo>
                    <a:lnTo>
                      <a:pt x="1252" y="1545"/>
                    </a:lnTo>
                    <a:lnTo>
                      <a:pt x="1327" y="1575"/>
                    </a:lnTo>
                    <a:lnTo>
                      <a:pt x="1402" y="1605"/>
                    </a:lnTo>
                    <a:lnTo>
                      <a:pt x="1490" y="1625"/>
                    </a:lnTo>
                    <a:lnTo>
                      <a:pt x="1565" y="1645"/>
                    </a:lnTo>
                    <a:lnTo>
                      <a:pt x="1653" y="1664"/>
                    </a:lnTo>
                    <a:lnTo>
                      <a:pt x="1740" y="1684"/>
                    </a:lnTo>
                    <a:lnTo>
                      <a:pt x="1828" y="1714"/>
                    </a:lnTo>
                    <a:lnTo>
                      <a:pt x="1928" y="1724"/>
                    </a:lnTo>
                    <a:lnTo>
                      <a:pt x="2028" y="1744"/>
                    </a:lnTo>
                    <a:lnTo>
                      <a:pt x="2129" y="1764"/>
                    </a:lnTo>
                    <a:lnTo>
                      <a:pt x="2241" y="1784"/>
                    </a:lnTo>
                    <a:lnTo>
                      <a:pt x="2342" y="1794"/>
                    </a:lnTo>
                    <a:lnTo>
                      <a:pt x="2467" y="1804"/>
                    </a:lnTo>
                    <a:lnTo>
                      <a:pt x="2580" y="1824"/>
                    </a:lnTo>
                    <a:lnTo>
                      <a:pt x="2705" y="1834"/>
                    </a:lnTo>
                    <a:lnTo>
                      <a:pt x="2817" y="1844"/>
                    </a:lnTo>
                    <a:lnTo>
                      <a:pt x="2943" y="1864"/>
                    </a:lnTo>
                    <a:lnTo>
                      <a:pt x="3080" y="1864"/>
                    </a:lnTo>
                    <a:lnTo>
                      <a:pt x="3218" y="1874"/>
                    </a:lnTo>
                    <a:lnTo>
                      <a:pt x="3331" y="1874"/>
                    </a:lnTo>
                    <a:lnTo>
                      <a:pt x="3444" y="1874"/>
                    </a:lnTo>
                    <a:lnTo>
                      <a:pt x="3556" y="1874"/>
                    </a:lnTo>
                    <a:lnTo>
                      <a:pt x="3669" y="1874"/>
                    </a:lnTo>
                    <a:lnTo>
                      <a:pt x="3782" y="1864"/>
                    </a:lnTo>
                    <a:lnTo>
                      <a:pt x="3895" y="1864"/>
                    </a:lnTo>
                    <a:lnTo>
                      <a:pt x="4007" y="1854"/>
                    </a:lnTo>
                    <a:lnTo>
                      <a:pt x="4120" y="1854"/>
                    </a:lnTo>
                    <a:lnTo>
                      <a:pt x="4220" y="1834"/>
                    </a:lnTo>
                    <a:lnTo>
                      <a:pt x="4320" y="1824"/>
                    </a:lnTo>
                    <a:lnTo>
                      <a:pt x="4421" y="1804"/>
                    </a:lnTo>
                    <a:lnTo>
                      <a:pt x="4521" y="1794"/>
                    </a:lnTo>
                    <a:lnTo>
                      <a:pt x="4608" y="1774"/>
                    </a:lnTo>
                    <a:lnTo>
                      <a:pt x="4709" y="1754"/>
                    </a:lnTo>
                    <a:lnTo>
                      <a:pt x="4796" y="1734"/>
                    </a:lnTo>
                    <a:lnTo>
                      <a:pt x="4896" y="1714"/>
                    </a:lnTo>
                    <a:lnTo>
                      <a:pt x="4984" y="1684"/>
                    </a:lnTo>
                    <a:lnTo>
                      <a:pt x="5072" y="1664"/>
                    </a:lnTo>
                    <a:lnTo>
                      <a:pt x="5159" y="1635"/>
                    </a:lnTo>
                    <a:lnTo>
                      <a:pt x="5247" y="1615"/>
                    </a:lnTo>
                    <a:lnTo>
                      <a:pt x="5322" y="1585"/>
                    </a:lnTo>
                    <a:lnTo>
                      <a:pt x="5397" y="1555"/>
                    </a:lnTo>
                    <a:lnTo>
                      <a:pt x="5473" y="1525"/>
                    </a:lnTo>
                    <a:lnTo>
                      <a:pt x="5560" y="1495"/>
                    </a:lnTo>
                    <a:lnTo>
                      <a:pt x="5623" y="1455"/>
                    </a:lnTo>
                    <a:lnTo>
                      <a:pt x="5698" y="1425"/>
                    </a:lnTo>
                    <a:lnTo>
                      <a:pt x="5761" y="1395"/>
                    </a:lnTo>
                    <a:lnTo>
                      <a:pt x="5836" y="1356"/>
                    </a:lnTo>
                    <a:lnTo>
                      <a:pt x="5898" y="1326"/>
                    </a:lnTo>
                    <a:lnTo>
                      <a:pt x="5961" y="1286"/>
                    </a:lnTo>
                    <a:lnTo>
                      <a:pt x="6024" y="1256"/>
                    </a:lnTo>
                    <a:lnTo>
                      <a:pt x="6086" y="1226"/>
                    </a:lnTo>
                    <a:lnTo>
                      <a:pt x="6136" y="1176"/>
                    </a:lnTo>
                    <a:lnTo>
                      <a:pt x="6199" y="1146"/>
                    </a:lnTo>
                    <a:lnTo>
                      <a:pt x="6249" y="1096"/>
                    </a:lnTo>
                    <a:lnTo>
                      <a:pt x="6299" y="1067"/>
                    </a:lnTo>
                    <a:lnTo>
                      <a:pt x="6349" y="1017"/>
                    </a:lnTo>
                    <a:lnTo>
                      <a:pt x="6387" y="977"/>
                    </a:lnTo>
                    <a:lnTo>
                      <a:pt x="6437" y="937"/>
                    </a:lnTo>
                    <a:lnTo>
                      <a:pt x="6487" y="897"/>
                    </a:lnTo>
                    <a:lnTo>
                      <a:pt x="6512" y="857"/>
                    </a:lnTo>
                    <a:lnTo>
                      <a:pt x="6562" y="817"/>
                    </a:lnTo>
                    <a:lnTo>
                      <a:pt x="6600" y="778"/>
                    </a:lnTo>
                    <a:lnTo>
                      <a:pt x="6637" y="738"/>
                    </a:lnTo>
                    <a:lnTo>
                      <a:pt x="6662" y="698"/>
                    </a:lnTo>
                    <a:lnTo>
                      <a:pt x="6700" y="658"/>
                    </a:lnTo>
                    <a:lnTo>
                      <a:pt x="6725" y="618"/>
                    </a:lnTo>
                    <a:lnTo>
                      <a:pt x="6763" y="578"/>
                    </a:lnTo>
                    <a:lnTo>
                      <a:pt x="6775" y="538"/>
                    </a:lnTo>
                    <a:lnTo>
                      <a:pt x="6800" y="499"/>
                    </a:lnTo>
                    <a:lnTo>
                      <a:pt x="6825" y="449"/>
                    </a:lnTo>
                    <a:lnTo>
                      <a:pt x="6838" y="419"/>
                    </a:lnTo>
                    <a:lnTo>
                      <a:pt x="6850" y="379"/>
                    </a:lnTo>
                    <a:lnTo>
                      <a:pt x="6875" y="339"/>
                    </a:lnTo>
                    <a:lnTo>
                      <a:pt x="6888" y="299"/>
                    </a:lnTo>
                    <a:lnTo>
                      <a:pt x="6900" y="269"/>
                    </a:lnTo>
                    <a:lnTo>
                      <a:pt x="6900" y="230"/>
                    </a:lnTo>
                    <a:lnTo>
                      <a:pt x="6913" y="190"/>
                    </a:lnTo>
                    <a:lnTo>
                      <a:pt x="6913" y="160"/>
                    </a:lnTo>
                    <a:lnTo>
                      <a:pt x="6913" y="130"/>
                    </a:lnTo>
                    <a:lnTo>
                      <a:pt x="6913" y="90"/>
                    </a:lnTo>
                    <a:lnTo>
                      <a:pt x="6913" y="60"/>
                    </a:lnTo>
                    <a:lnTo>
                      <a:pt x="6900" y="30"/>
                    </a:lnTo>
                    <a:lnTo>
                      <a:pt x="6900" y="0"/>
                    </a:lnTo>
                    <a:lnTo>
                      <a:pt x="6224" y="259"/>
                    </a:lnTo>
                    <a:lnTo>
                      <a:pt x="6212" y="259"/>
                    </a:lnTo>
                    <a:lnTo>
                      <a:pt x="6212" y="279"/>
                    </a:lnTo>
                    <a:lnTo>
                      <a:pt x="6212" y="319"/>
                    </a:lnTo>
                    <a:lnTo>
                      <a:pt x="6199" y="359"/>
                    </a:lnTo>
                    <a:lnTo>
                      <a:pt x="6199" y="379"/>
                    </a:lnTo>
                    <a:lnTo>
                      <a:pt x="6186" y="409"/>
                    </a:lnTo>
                    <a:lnTo>
                      <a:pt x="6161" y="439"/>
                    </a:lnTo>
                    <a:lnTo>
                      <a:pt x="6149" y="469"/>
                    </a:lnTo>
                    <a:lnTo>
                      <a:pt x="6124" y="499"/>
                    </a:lnTo>
                    <a:lnTo>
                      <a:pt x="6111" y="538"/>
                    </a:lnTo>
                    <a:lnTo>
                      <a:pt x="6074" y="578"/>
                    </a:lnTo>
                    <a:lnTo>
                      <a:pt x="6049" y="618"/>
                    </a:lnTo>
                    <a:lnTo>
                      <a:pt x="6011" y="648"/>
                    </a:lnTo>
                    <a:lnTo>
                      <a:pt x="5961" y="688"/>
                    </a:lnTo>
                    <a:lnTo>
                      <a:pt x="5911" y="728"/>
                    </a:lnTo>
                    <a:lnTo>
                      <a:pt x="5861" y="768"/>
                    </a:lnTo>
                    <a:lnTo>
                      <a:pt x="5823" y="788"/>
                    </a:lnTo>
                    <a:lnTo>
                      <a:pt x="5798" y="817"/>
                    </a:lnTo>
                    <a:lnTo>
                      <a:pt x="5761" y="827"/>
                    </a:lnTo>
                    <a:lnTo>
                      <a:pt x="5736" y="857"/>
                    </a:lnTo>
                    <a:lnTo>
                      <a:pt x="5698" y="877"/>
                    </a:lnTo>
                    <a:lnTo>
                      <a:pt x="5660" y="897"/>
                    </a:lnTo>
                    <a:lnTo>
                      <a:pt x="5623" y="917"/>
                    </a:lnTo>
                    <a:lnTo>
                      <a:pt x="5585" y="947"/>
                    </a:lnTo>
                    <a:lnTo>
                      <a:pt x="5548" y="957"/>
                    </a:lnTo>
                    <a:lnTo>
                      <a:pt x="5498" y="987"/>
                    </a:lnTo>
                    <a:lnTo>
                      <a:pt x="5448" y="1007"/>
                    </a:lnTo>
                    <a:lnTo>
                      <a:pt x="5410" y="1027"/>
                    </a:lnTo>
                    <a:lnTo>
                      <a:pt x="5347" y="1047"/>
                    </a:lnTo>
                    <a:lnTo>
                      <a:pt x="5297" y="1067"/>
                    </a:lnTo>
                    <a:lnTo>
                      <a:pt x="5247" y="1086"/>
                    </a:lnTo>
                    <a:lnTo>
                      <a:pt x="5197" y="1106"/>
                    </a:lnTo>
                    <a:lnTo>
                      <a:pt x="5134" y="1126"/>
                    </a:lnTo>
                    <a:lnTo>
                      <a:pt x="5072" y="1146"/>
                    </a:lnTo>
                    <a:lnTo>
                      <a:pt x="5009" y="1166"/>
                    </a:lnTo>
                    <a:lnTo>
                      <a:pt x="4947" y="1186"/>
                    </a:lnTo>
                    <a:lnTo>
                      <a:pt x="4884" y="1206"/>
                    </a:lnTo>
                    <a:lnTo>
                      <a:pt x="4821" y="1226"/>
                    </a:lnTo>
                    <a:lnTo>
                      <a:pt x="4746" y="1246"/>
                    </a:lnTo>
                    <a:lnTo>
                      <a:pt x="4684" y="1266"/>
                    </a:lnTo>
                    <a:lnTo>
                      <a:pt x="4596" y="1286"/>
                    </a:lnTo>
                    <a:lnTo>
                      <a:pt x="4521" y="1296"/>
                    </a:lnTo>
                    <a:lnTo>
                      <a:pt x="4446" y="1306"/>
                    </a:lnTo>
                    <a:lnTo>
                      <a:pt x="4370" y="1326"/>
                    </a:lnTo>
                    <a:lnTo>
                      <a:pt x="4283" y="1336"/>
                    </a:lnTo>
                    <a:lnTo>
                      <a:pt x="4208" y="1356"/>
                    </a:lnTo>
                    <a:lnTo>
                      <a:pt x="4132" y="1356"/>
                    </a:lnTo>
                    <a:lnTo>
                      <a:pt x="4057" y="1375"/>
                    </a:lnTo>
                    <a:lnTo>
                      <a:pt x="3970" y="1375"/>
                    </a:lnTo>
                    <a:lnTo>
                      <a:pt x="3895" y="1385"/>
                    </a:lnTo>
                    <a:lnTo>
                      <a:pt x="3807" y="1385"/>
                    </a:lnTo>
                    <a:lnTo>
                      <a:pt x="3732" y="1395"/>
                    </a:lnTo>
                    <a:lnTo>
                      <a:pt x="3657" y="1395"/>
                    </a:lnTo>
                    <a:lnTo>
                      <a:pt x="3581" y="1405"/>
                    </a:lnTo>
                    <a:lnTo>
                      <a:pt x="3494" y="1405"/>
                    </a:lnTo>
                    <a:lnTo>
                      <a:pt x="3419" y="1405"/>
                    </a:lnTo>
                    <a:lnTo>
                      <a:pt x="3331" y="1405"/>
                    </a:lnTo>
                    <a:lnTo>
                      <a:pt x="3256" y="1405"/>
                    </a:lnTo>
                    <a:lnTo>
                      <a:pt x="3181" y="1395"/>
                    </a:lnTo>
                    <a:lnTo>
                      <a:pt x="3093" y="1395"/>
                    </a:lnTo>
                    <a:lnTo>
                      <a:pt x="3018" y="1385"/>
                    </a:lnTo>
                    <a:lnTo>
                      <a:pt x="2943" y="1375"/>
                    </a:lnTo>
                    <a:lnTo>
                      <a:pt x="2868" y="1375"/>
                    </a:lnTo>
                    <a:lnTo>
                      <a:pt x="2792" y="1366"/>
                    </a:lnTo>
                    <a:lnTo>
                      <a:pt x="2705" y="1356"/>
                    </a:lnTo>
                    <a:lnTo>
                      <a:pt x="2630" y="1356"/>
                    </a:lnTo>
                    <a:lnTo>
                      <a:pt x="2554" y="1346"/>
                    </a:lnTo>
                    <a:lnTo>
                      <a:pt x="2479" y="1336"/>
                    </a:lnTo>
                    <a:lnTo>
                      <a:pt x="2404" y="1316"/>
                    </a:lnTo>
                    <a:lnTo>
                      <a:pt x="2342" y="1306"/>
                    </a:lnTo>
                    <a:lnTo>
                      <a:pt x="2266" y="1286"/>
                    </a:lnTo>
                    <a:lnTo>
                      <a:pt x="2204" y="1286"/>
                    </a:lnTo>
                    <a:lnTo>
                      <a:pt x="2129" y="1266"/>
                    </a:lnTo>
                    <a:lnTo>
                      <a:pt x="2053" y="1246"/>
                    </a:lnTo>
                    <a:lnTo>
                      <a:pt x="1978" y="1226"/>
                    </a:lnTo>
                    <a:lnTo>
                      <a:pt x="1916" y="1216"/>
                    </a:lnTo>
                    <a:lnTo>
                      <a:pt x="1853" y="1186"/>
                    </a:lnTo>
                    <a:lnTo>
                      <a:pt x="1790" y="1166"/>
                    </a:lnTo>
                    <a:lnTo>
                      <a:pt x="1728" y="1156"/>
                    </a:lnTo>
                    <a:lnTo>
                      <a:pt x="1665" y="1136"/>
                    </a:lnTo>
                    <a:lnTo>
                      <a:pt x="1603" y="1106"/>
                    </a:lnTo>
                    <a:lnTo>
                      <a:pt x="1553" y="1086"/>
                    </a:lnTo>
                    <a:lnTo>
                      <a:pt x="1490" y="1067"/>
                    </a:lnTo>
                    <a:lnTo>
                      <a:pt x="1440" y="1047"/>
                    </a:lnTo>
                    <a:lnTo>
                      <a:pt x="1377" y="1017"/>
                    </a:lnTo>
                    <a:lnTo>
                      <a:pt x="1327" y="997"/>
                    </a:lnTo>
                    <a:lnTo>
                      <a:pt x="1277" y="967"/>
                    </a:lnTo>
                    <a:lnTo>
                      <a:pt x="1239" y="947"/>
                    </a:lnTo>
                    <a:lnTo>
                      <a:pt x="1189" y="917"/>
                    </a:lnTo>
                    <a:lnTo>
                      <a:pt x="1139" y="897"/>
                    </a:lnTo>
                    <a:lnTo>
                      <a:pt x="1089" y="867"/>
                    </a:lnTo>
                    <a:lnTo>
                      <a:pt x="1052" y="837"/>
                    </a:lnTo>
                    <a:lnTo>
                      <a:pt x="1014" y="807"/>
                    </a:lnTo>
                    <a:lnTo>
                      <a:pt x="976" y="778"/>
                    </a:lnTo>
                    <a:lnTo>
                      <a:pt x="951" y="758"/>
                    </a:lnTo>
                    <a:lnTo>
                      <a:pt x="914" y="728"/>
                    </a:lnTo>
                    <a:lnTo>
                      <a:pt x="876" y="698"/>
                    </a:lnTo>
                    <a:lnTo>
                      <a:pt x="851" y="658"/>
                    </a:lnTo>
                    <a:lnTo>
                      <a:pt x="826" y="628"/>
                    </a:lnTo>
                    <a:lnTo>
                      <a:pt x="801" y="598"/>
                    </a:lnTo>
                    <a:lnTo>
                      <a:pt x="789" y="568"/>
                    </a:lnTo>
                    <a:lnTo>
                      <a:pt x="764" y="538"/>
                    </a:lnTo>
                    <a:lnTo>
                      <a:pt x="751" y="509"/>
                    </a:lnTo>
                    <a:lnTo>
                      <a:pt x="738" y="479"/>
                    </a:lnTo>
                    <a:lnTo>
                      <a:pt x="0" y="638"/>
                    </a:lnTo>
                    <a:lnTo>
                      <a:pt x="0" y="638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304240" y="4489920"/>
                <a:ext cx="492840" cy="253440"/>
              </a:xfrm>
              <a:custGeom>
                <a:avLst/>
                <a:gdLst/>
                <a:ahLst/>
                <a:rect l="l" t="t" r="r" b="b"/>
                <a:pathLst>
                  <a:path w="990" h="548">
                    <a:moveTo>
                      <a:pt x="551" y="0"/>
                    </a:moveTo>
                    <a:lnTo>
                      <a:pt x="539" y="10"/>
                    </a:lnTo>
                    <a:lnTo>
                      <a:pt x="514" y="39"/>
                    </a:lnTo>
                    <a:lnTo>
                      <a:pt x="476" y="49"/>
                    </a:lnTo>
                    <a:lnTo>
                      <a:pt x="451" y="79"/>
                    </a:lnTo>
                    <a:lnTo>
                      <a:pt x="426" y="109"/>
                    </a:lnTo>
                    <a:lnTo>
                      <a:pt x="389" y="139"/>
                    </a:lnTo>
                    <a:lnTo>
                      <a:pt x="339" y="159"/>
                    </a:lnTo>
                    <a:lnTo>
                      <a:pt x="301" y="189"/>
                    </a:lnTo>
                    <a:lnTo>
                      <a:pt x="251" y="219"/>
                    </a:lnTo>
                    <a:lnTo>
                      <a:pt x="213" y="249"/>
                    </a:lnTo>
                    <a:lnTo>
                      <a:pt x="163" y="269"/>
                    </a:lnTo>
                    <a:lnTo>
                      <a:pt x="113" y="299"/>
                    </a:lnTo>
                    <a:lnTo>
                      <a:pt x="63" y="328"/>
                    </a:lnTo>
                    <a:lnTo>
                      <a:pt x="0" y="348"/>
                    </a:lnTo>
                    <a:lnTo>
                      <a:pt x="389" y="548"/>
                    </a:lnTo>
                    <a:lnTo>
                      <a:pt x="401" y="538"/>
                    </a:lnTo>
                    <a:lnTo>
                      <a:pt x="451" y="518"/>
                    </a:lnTo>
                    <a:lnTo>
                      <a:pt x="476" y="508"/>
                    </a:lnTo>
                    <a:lnTo>
                      <a:pt x="514" y="488"/>
                    </a:lnTo>
                    <a:lnTo>
                      <a:pt x="551" y="468"/>
                    </a:lnTo>
                    <a:lnTo>
                      <a:pt x="602" y="448"/>
                    </a:lnTo>
                    <a:lnTo>
                      <a:pt x="639" y="418"/>
                    </a:lnTo>
                    <a:lnTo>
                      <a:pt x="689" y="388"/>
                    </a:lnTo>
                    <a:lnTo>
                      <a:pt x="739" y="348"/>
                    </a:lnTo>
                    <a:lnTo>
                      <a:pt x="789" y="318"/>
                    </a:lnTo>
                    <a:lnTo>
                      <a:pt x="839" y="269"/>
                    </a:lnTo>
                    <a:lnTo>
                      <a:pt x="890" y="219"/>
                    </a:lnTo>
                    <a:lnTo>
                      <a:pt x="915" y="199"/>
                    </a:lnTo>
                    <a:lnTo>
                      <a:pt x="940" y="169"/>
                    </a:lnTo>
                    <a:lnTo>
                      <a:pt x="965" y="139"/>
                    </a:lnTo>
                    <a:lnTo>
                      <a:pt x="990" y="119"/>
                    </a:lnTo>
                    <a:lnTo>
                      <a:pt x="551" y="0"/>
                    </a:lnTo>
                    <a:lnTo>
                      <a:pt x="551" y="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703840" y="4554360"/>
                <a:ext cx="542880" cy="299520"/>
              </a:xfrm>
              <a:custGeom>
                <a:avLst/>
                <a:gdLst/>
                <a:ahLst/>
                <a:rect l="l" t="t" r="r" b="b"/>
                <a:pathLst>
                  <a:path w="1090" h="648">
                    <a:moveTo>
                      <a:pt x="551" y="10"/>
                    </a:moveTo>
                    <a:lnTo>
                      <a:pt x="551" y="10"/>
                    </a:lnTo>
                    <a:lnTo>
                      <a:pt x="538" y="20"/>
                    </a:lnTo>
                    <a:lnTo>
                      <a:pt x="526" y="40"/>
                    </a:lnTo>
                    <a:lnTo>
                      <a:pt x="526" y="60"/>
                    </a:lnTo>
                    <a:lnTo>
                      <a:pt x="501" y="90"/>
                    </a:lnTo>
                    <a:lnTo>
                      <a:pt x="476" y="130"/>
                    </a:lnTo>
                    <a:lnTo>
                      <a:pt x="451" y="160"/>
                    </a:lnTo>
                    <a:lnTo>
                      <a:pt x="413" y="199"/>
                    </a:lnTo>
                    <a:lnTo>
                      <a:pt x="376" y="239"/>
                    </a:lnTo>
                    <a:lnTo>
                      <a:pt x="338" y="279"/>
                    </a:lnTo>
                    <a:lnTo>
                      <a:pt x="288" y="329"/>
                    </a:lnTo>
                    <a:lnTo>
                      <a:pt x="238" y="379"/>
                    </a:lnTo>
                    <a:lnTo>
                      <a:pt x="188" y="409"/>
                    </a:lnTo>
                    <a:lnTo>
                      <a:pt x="125" y="458"/>
                    </a:lnTo>
                    <a:lnTo>
                      <a:pt x="88" y="468"/>
                    </a:lnTo>
                    <a:lnTo>
                      <a:pt x="63" y="488"/>
                    </a:lnTo>
                    <a:lnTo>
                      <a:pt x="25" y="508"/>
                    </a:lnTo>
                    <a:lnTo>
                      <a:pt x="0" y="528"/>
                    </a:lnTo>
                    <a:lnTo>
                      <a:pt x="526" y="648"/>
                    </a:lnTo>
                    <a:lnTo>
                      <a:pt x="538" y="638"/>
                    </a:lnTo>
                    <a:lnTo>
                      <a:pt x="601" y="598"/>
                    </a:lnTo>
                    <a:lnTo>
                      <a:pt x="626" y="578"/>
                    </a:lnTo>
                    <a:lnTo>
                      <a:pt x="664" y="548"/>
                    </a:lnTo>
                    <a:lnTo>
                      <a:pt x="701" y="518"/>
                    </a:lnTo>
                    <a:lnTo>
                      <a:pt x="764" y="478"/>
                    </a:lnTo>
                    <a:lnTo>
                      <a:pt x="801" y="429"/>
                    </a:lnTo>
                    <a:lnTo>
                      <a:pt x="852" y="379"/>
                    </a:lnTo>
                    <a:lnTo>
                      <a:pt x="864" y="359"/>
                    </a:lnTo>
                    <a:lnTo>
                      <a:pt x="889" y="329"/>
                    </a:lnTo>
                    <a:lnTo>
                      <a:pt x="914" y="299"/>
                    </a:lnTo>
                    <a:lnTo>
                      <a:pt x="939" y="269"/>
                    </a:lnTo>
                    <a:lnTo>
                      <a:pt x="952" y="239"/>
                    </a:lnTo>
                    <a:lnTo>
                      <a:pt x="977" y="209"/>
                    </a:lnTo>
                    <a:lnTo>
                      <a:pt x="1002" y="179"/>
                    </a:lnTo>
                    <a:lnTo>
                      <a:pt x="1014" y="140"/>
                    </a:lnTo>
                    <a:lnTo>
                      <a:pt x="1039" y="110"/>
                    </a:lnTo>
                    <a:lnTo>
                      <a:pt x="1052" y="70"/>
                    </a:lnTo>
                    <a:lnTo>
                      <a:pt x="1077" y="30"/>
                    </a:lnTo>
                    <a:lnTo>
                      <a:pt x="1090" y="0"/>
                    </a:lnTo>
                    <a:lnTo>
                      <a:pt x="551" y="10"/>
                    </a:lnTo>
                    <a:lnTo>
                      <a:pt x="551" y="1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190560" y="4494600"/>
                <a:ext cx="542160" cy="391680"/>
              </a:xfrm>
              <a:custGeom>
                <a:avLst/>
                <a:gdLst/>
                <a:ahLst/>
                <a:rect l="l" t="t" r="r" b="b"/>
                <a:pathLst>
                  <a:path w="1089" h="847">
                    <a:moveTo>
                      <a:pt x="526" y="129"/>
                    </a:moveTo>
                    <a:lnTo>
                      <a:pt x="526" y="129"/>
                    </a:lnTo>
                    <a:lnTo>
                      <a:pt x="513" y="139"/>
                    </a:lnTo>
                    <a:lnTo>
                      <a:pt x="501" y="159"/>
                    </a:lnTo>
                    <a:lnTo>
                      <a:pt x="501" y="189"/>
                    </a:lnTo>
                    <a:lnTo>
                      <a:pt x="488" y="229"/>
                    </a:lnTo>
                    <a:lnTo>
                      <a:pt x="463" y="269"/>
                    </a:lnTo>
                    <a:lnTo>
                      <a:pt x="451" y="289"/>
                    </a:lnTo>
                    <a:lnTo>
                      <a:pt x="438" y="318"/>
                    </a:lnTo>
                    <a:lnTo>
                      <a:pt x="426" y="338"/>
                    </a:lnTo>
                    <a:lnTo>
                      <a:pt x="413" y="368"/>
                    </a:lnTo>
                    <a:lnTo>
                      <a:pt x="401" y="388"/>
                    </a:lnTo>
                    <a:lnTo>
                      <a:pt x="376" y="418"/>
                    </a:lnTo>
                    <a:lnTo>
                      <a:pt x="363" y="448"/>
                    </a:lnTo>
                    <a:lnTo>
                      <a:pt x="338" y="478"/>
                    </a:lnTo>
                    <a:lnTo>
                      <a:pt x="325" y="508"/>
                    </a:lnTo>
                    <a:lnTo>
                      <a:pt x="300" y="528"/>
                    </a:lnTo>
                    <a:lnTo>
                      <a:pt x="275" y="558"/>
                    </a:lnTo>
                    <a:lnTo>
                      <a:pt x="263" y="587"/>
                    </a:lnTo>
                    <a:lnTo>
                      <a:pt x="225" y="617"/>
                    </a:lnTo>
                    <a:lnTo>
                      <a:pt x="200" y="647"/>
                    </a:lnTo>
                    <a:lnTo>
                      <a:pt x="175" y="677"/>
                    </a:lnTo>
                    <a:lnTo>
                      <a:pt x="138" y="707"/>
                    </a:lnTo>
                    <a:lnTo>
                      <a:pt x="100" y="737"/>
                    </a:lnTo>
                    <a:lnTo>
                      <a:pt x="75" y="767"/>
                    </a:lnTo>
                    <a:lnTo>
                      <a:pt x="37" y="787"/>
                    </a:lnTo>
                    <a:lnTo>
                      <a:pt x="0" y="817"/>
                    </a:lnTo>
                    <a:lnTo>
                      <a:pt x="576" y="847"/>
                    </a:lnTo>
                    <a:lnTo>
                      <a:pt x="576" y="847"/>
                    </a:lnTo>
                    <a:lnTo>
                      <a:pt x="588" y="837"/>
                    </a:lnTo>
                    <a:lnTo>
                      <a:pt x="601" y="817"/>
                    </a:lnTo>
                    <a:lnTo>
                      <a:pt x="639" y="787"/>
                    </a:lnTo>
                    <a:lnTo>
                      <a:pt x="676" y="757"/>
                    </a:lnTo>
                    <a:lnTo>
                      <a:pt x="714" y="717"/>
                    </a:lnTo>
                    <a:lnTo>
                      <a:pt x="751" y="677"/>
                    </a:lnTo>
                    <a:lnTo>
                      <a:pt x="801" y="637"/>
                    </a:lnTo>
                    <a:lnTo>
                      <a:pt x="814" y="597"/>
                    </a:lnTo>
                    <a:lnTo>
                      <a:pt x="839" y="577"/>
                    </a:lnTo>
                    <a:lnTo>
                      <a:pt x="851" y="538"/>
                    </a:lnTo>
                    <a:lnTo>
                      <a:pt x="876" y="508"/>
                    </a:lnTo>
                    <a:lnTo>
                      <a:pt x="902" y="468"/>
                    </a:lnTo>
                    <a:lnTo>
                      <a:pt x="914" y="438"/>
                    </a:lnTo>
                    <a:lnTo>
                      <a:pt x="939" y="398"/>
                    </a:lnTo>
                    <a:lnTo>
                      <a:pt x="964" y="368"/>
                    </a:lnTo>
                    <a:lnTo>
                      <a:pt x="989" y="318"/>
                    </a:lnTo>
                    <a:lnTo>
                      <a:pt x="1002" y="279"/>
                    </a:lnTo>
                    <a:lnTo>
                      <a:pt x="1014" y="239"/>
                    </a:lnTo>
                    <a:lnTo>
                      <a:pt x="1039" y="189"/>
                    </a:lnTo>
                    <a:lnTo>
                      <a:pt x="1052" y="139"/>
                    </a:lnTo>
                    <a:lnTo>
                      <a:pt x="1064" y="99"/>
                    </a:lnTo>
                    <a:lnTo>
                      <a:pt x="1077" y="49"/>
                    </a:lnTo>
                    <a:lnTo>
                      <a:pt x="1089" y="0"/>
                    </a:lnTo>
                    <a:lnTo>
                      <a:pt x="526" y="129"/>
                    </a:lnTo>
                    <a:lnTo>
                      <a:pt x="526" y="129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732720" y="4369320"/>
                <a:ext cx="474120" cy="498240"/>
              </a:xfrm>
              <a:custGeom>
                <a:avLst/>
                <a:gdLst/>
                <a:ahLst/>
                <a:rect l="l" t="t" r="r" b="b"/>
                <a:pathLst>
                  <a:path w="952" h="1077">
                    <a:moveTo>
                      <a:pt x="464" y="180"/>
                    </a:moveTo>
                    <a:lnTo>
                      <a:pt x="451" y="180"/>
                    </a:lnTo>
                    <a:lnTo>
                      <a:pt x="451" y="190"/>
                    </a:lnTo>
                    <a:lnTo>
                      <a:pt x="451" y="210"/>
                    </a:lnTo>
                    <a:lnTo>
                      <a:pt x="451" y="250"/>
                    </a:lnTo>
                    <a:lnTo>
                      <a:pt x="439" y="279"/>
                    </a:lnTo>
                    <a:lnTo>
                      <a:pt x="439" y="329"/>
                    </a:lnTo>
                    <a:lnTo>
                      <a:pt x="426" y="359"/>
                    </a:lnTo>
                    <a:lnTo>
                      <a:pt x="414" y="389"/>
                    </a:lnTo>
                    <a:lnTo>
                      <a:pt x="414" y="409"/>
                    </a:lnTo>
                    <a:lnTo>
                      <a:pt x="401" y="449"/>
                    </a:lnTo>
                    <a:lnTo>
                      <a:pt x="389" y="469"/>
                    </a:lnTo>
                    <a:lnTo>
                      <a:pt x="376" y="509"/>
                    </a:lnTo>
                    <a:lnTo>
                      <a:pt x="364" y="539"/>
                    </a:lnTo>
                    <a:lnTo>
                      <a:pt x="351" y="578"/>
                    </a:lnTo>
                    <a:lnTo>
                      <a:pt x="326" y="608"/>
                    </a:lnTo>
                    <a:lnTo>
                      <a:pt x="301" y="648"/>
                    </a:lnTo>
                    <a:lnTo>
                      <a:pt x="288" y="688"/>
                    </a:lnTo>
                    <a:lnTo>
                      <a:pt x="263" y="728"/>
                    </a:lnTo>
                    <a:lnTo>
                      <a:pt x="238" y="768"/>
                    </a:lnTo>
                    <a:lnTo>
                      <a:pt x="213" y="808"/>
                    </a:lnTo>
                    <a:lnTo>
                      <a:pt x="176" y="857"/>
                    </a:lnTo>
                    <a:lnTo>
                      <a:pt x="151" y="897"/>
                    </a:lnTo>
                    <a:lnTo>
                      <a:pt x="113" y="937"/>
                    </a:lnTo>
                    <a:lnTo>
                      <a:pt x="76" y="987"/>
                    </a:lnTo>
                    <a:lnTo>
                      <a:pt x="38" y="1037"/>
                    </a:lnTo>
                    <a:lnTo>
                      <a:pt x="0" y="1077"/>
                    </a:lnTo>
                    <a:lnTo>
                      <a:pt x="614" y="947"/>
                    </a:lnTo>
                    <a:lnTo>
                      <a:pt x="627" y="937"/>
                    </a:lnTo>
                    <a:lnTo>
                      <a:pt x="652" y="917"/>
                    </a:lnTo>
                    <a:lnTo>
                      <a:pt x="664" y="897"/>
                    </a:lnTo>
                    <a:lnTo>
                      <a:pt x="677" y="877"/>
                    </a:lnTo>
                    <a:lnTo>
                      <a:pt x="702" y="847"/>
                    </a:lnTo>
                    <a:lnTo>
                      <a:pt x="727" y="828"/>
                    </a:lnTo>
                    <a:lnTo>
                      <a:pt x="752" y="778"/>
                    </a:lnTo>
                    <a:lnTo>
                      <a:pt x="764" y="748"/>
                    </a:lnTo>
                    <a:lnTo>
                      <a:pt x="789" y="698"/>
                    </a:lnTo>
                    <a:lnTo>
                      <a:pt x="827" y="658"/>
                    </a:lnTo>
                    <a:lnTo>
                      <a:pt x="827" y="618"/>
                    </a:lnTo>
                    <a:lnTo>
                      <a:pt x="840" y="588"/>
                    </a:lnTo>
                    <a:lnTo>
                      <a:pt x="852" y="568"/>
                    </a:lnTo>
                    <a:lnTo>
                      <a:pt x="865" y="539"/>
                    </a:lnTo>
                    <a:lnTo>
                      <a:pt x="877" y="499"/>
                    </a:lnTo>
                    <a:lnTo>
                      <a:pt x="890" y="469"/>
                    </a:lnTo>
                    <a:lnTo>
                      <a:pt x="902" y="429"/>
                    </a:lnTo>
                    <a:lnTo>
                      <a:pt x="915" y="399"/>
                    </a:lnTo>
                    <a:lnTo>
                      <a:pt x="915" y="359"/>
                    </a:lnTo>
                    <a:lnTo>
                      <a:pt x="915" y="319"/>
                    </a:lnTo>
                    <a:lnTo>
                      <a:pt x="927" y="270"/>
                    </a:lnTo>
                    <a:lnTo>
                      <a:pt x="940" y="240"/>
                    </a:lnTo>
                    <a:lnTo>
                      <a:pt x="940" y="200"/>
                    </a:lnTo>
                    <a:lnTo>
                      <a:pt x="940" y="170"/>
                    </a:lnTo>
                    <a:lnTo>
                      <a:pt x="940" y="140"/>
                    </a:lnTo>
                    <a:lnTo>
                      <a:pt x="952" y="120"/>
                    </a:lnTo>
                    <a:lnTo>
                      <a:pt x="952" y="90"/>
                    </a:lnTo>
                    <a:lnTo>
                      <a:pt x="952" y="70"/>
                    </a:lnTo>
                    <a:lnTo>
                      <a:pt x="952" y="40"/>
                    </a:lnTo>
                    <a:lnTo>
                      <a:pt x="952" y="30"/>
                    </a:lnTo>
                    <a:lnTo>
                      <a:pt x="952" y="10"/>
                    </a:lnTo>
                    <a:lnTo>
                      <a:pt x="952" y="0"/>
                    </a:lnTo>
                    <a:lnTo>
                      <a:pt x="464" y="180"/>
                    </a:lnTo>
                    <a:lnTo>
                      <a:pt x="464" y="18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132320" y="3723840"/>
                <a:ext cx="361440" cy="355320"/>
              </a:xfrm>
              <a:custGeom>
                <a:avLst/>
                <a:gdLst/>
                <a:ahLst/>
                <a:rect l="l" t="t" r="r" b="b"/>
                <a:pathLst>
                  <a:path w="726" h="768">
                    <a:moveTo>
                      <a:pt x="0" y="0"/>
                    </a:moveTo>
                    <a:lnTo>
                      <a:pt x="0" y="20"/>
                    </a:lnTo>
                    <a:lnTo>
                      <a:pt x="12" y="40"/>
                    </a:lnTo>
                    <a:lnTo>
                      <a:pt x="25" y="80"/>
                    </a:lnTo>
                    <a:lnTo>
                      <a:pt x="38" y="120"/>
                    </a:lnTo>
                    <a:lnTo>
                      <a:pt x="63" y="170"/>
                    </a:lnTo>
                    <a:lnTo>
                      <a:pt x="75" y="190"/>
                    </a:lnTo>
                    <a:lnTo>
                      <a:pt x="88" y="220"/>
                    </a:lnTo>
                    <a:lnTo>
                      <a:pt x="113" y="250"/>
                    </a:lnTo>
                    <a:lnTo>
                      <a:pt x="125" y="279"/>
                    </a:lnTo>
                    <a:lnTo>
                      <a:pt x="150" y="309"/>
                    </a:lnTo>
                    <a:lnTo>
                      <a:pt x="163" y="329"/>
                    </a:lnTo>
                    <a:lnTo>
                      <a:pt x="188" y="369"/>
                    </a:lnTo>
                    <a:lnTo>
                      <a:pt x="225" y="399"/>
                    </a:lnTo>
                    <a:lnTo>
                      <a:pt x="250" y="429"/>
                    </a:lnTo>
                    <a:lnTo>
                      <a:pt x="275" y="459"/>
                    </a:lnTo>
                    <a:lnTo>
                      <a:pt x="313" y="489"/>
                    </a:lnTo>
                    <a:lnTo>
                      <a:pt x="351" y="529"/>
                    </a:lnTo>
                    <a:lnTo>
                      <a:pt x="388" y="558"/>
                    </a:lnTo>
                    <a:lnTo>
                      <a:pt x="426" y="588"/>
                    </a:lnTo>
                    <a:lnTo>
                      <a:pt x="463" y="618"/>
                    </a:lnTo>
                    <a:lnTo>
                      <a:pt x="513" y="648"/>
                    </a:lnTo>
                    <a:lnTo>
                      <a:pt x="564" y="678"/>
                    </a:lnTo>
                    <a:lnTo>
                      <a:pt x="614" y="698"/>
                    </a:lnTo>
                    <a:lnTo>
                      <a:pt x="664" y="728"/>
                    </a:lnTo>
                    <a:lnTo>
                      <a:pt x="726" y="768"/>
                    </a:lnTo>
                    <a:lnTo>
                      <a:pt x="726" y="758"/>
                    </a:lnTo>
                    <a:lnTo>
                      <a:pt x="714" y="728"/>
                    </a:lnTo>
                    <a:lnTo>
                      <a:pt x="714" y="708"/>
                    </a:lnTo>
                    <a:lnTo>
                      <a:pt x="701" y="698"/>
                    </a:lnTo>
                    <a:lnTo>
                      <a:pt x="701" y="668"/>
                    </a:lnTo>
                    <a:lnTo>
                      <a:pt x="701" y="638"/>
                    </a:lnTo>
                    <a:lnTo>
                      <a:pt x="689" y="598"/>
                    </a:lnTo>
                    <a:lnTo>
                      <a:pt x="689" y="568"/>
                    </a:lnTo>
                    <a:lnTo>
                      <a:pt x="689" y="519"/>
                    </a:lnTo>
                    <a:lnTo>
                      <a:pt x="689" y="469"/>
                    </a:lnTo>
                    <a:lnTo>
                      <a:pt x="689" y="439"/>
                    </a:lnTo>
                    <a:lnTo>
                      <a:pt x="689" y="409"/>
                    </a:lnTo>
                    <a:lnTo>
                      <a:pt x="689" y="379"/>
                    </a:lnTo>
                    <a:lnTo>
                      <a:pt x="689" y="349"/>
                    </a:lnTo>
                    <a:lnTo>
                      <a:pt x="689" y="319"/>
                    </a:lnTo>
                    <a:lnTo>
                      <a:pt x="689" y="279"/>
                    </a:lnTo>
                    <a:lnTo>
                      <a:pt x="689" y="250"/>
                    </a:lnTo>
                    <a:lnTo>
                      <a:pt x="689" y="2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656480" y="3843720"/>
                <a:ext cx="249480" cy="313560"/>
              </a:xfrm>
              <a:custGeom>
                <a:avLst/>
                <a:gdLst/>
                <a:ahLst/>
                <a:rect l="l" t="t" r="r" b="b"/>
                <a:pathLst>
                  <a:path w="501" h="678">
                    <a:moveTo>
                      <a:pt x="12" y="0"/>
                    </a:moveTo>
                    <a:lnTo>
                      <a:pt x="0" y="10"/>
                    </a:lnTo>
                    <a:lnTo>
                      <a:pt x="0" y="40"/>
                    </a:lnTo>
                    <a:lnTo>
                      <a:pt x="0" y="60"/>
                    </a:lnTo>
                    <a:lnTo>
                      <a:pt x="0" y="90"/>
                    </a:lnTo>
                    <a:lnTo>
                      <a:pt x="0" y="120"/>
                    </a:lnTo>
                    <a:lnTo>
                      <a:pt x="0" y="160"/>
                    </a:lnTo>
                    <a:lnTo>
                      <a:pt x="0" y="200"/>
                    </a:lnTo>
                    <a:lnTo>
                      <a:pt x="0" y="250"/>
                    </a:lnTo>
                    <a:lnTo>
                      <a:pt x="0" y="270"/>
                    </a:lnTo>
                    <a:lnTo>
                      <a:pt x="12" y="299"/>
                    </a:lnTo>
                    <a:lnTo>
                      <a:pt x="12" y="329"/>
                    </a:lnTo>
                    <a:lnTo>
                      <a:pt x="25" y="359"/>
                    </a:lnTo>
                    <a:lnTo>
                      <a:pt x="25" y="389"/>
                    </a:lnTo>
                    <a:lnTo>
                      <a:pt x="25" y="419"/>
                    </a:lnTo>
                    <a:lnTo>
                      <a:pt x="25" y="449"/>
                    </a:lnTo>
                    <a:lnTo>
                      <a:pt x="38" y="489"/>
                    </a:lnTo>
                    <a:lnTo>
                      <a:pt x="50" y="519"/>
                    </a:lnTo>
                    <a:lnTo>
                      <a:pt x="63" y="559"/>
                    </a:lnTo>
                    <a:lnTo>
                      <a:pt x="63" y="588"/>
                    </a:lnTo>
                    <a:lnTo>
                      <a:pt x="88" y="628"/>
                    </a:lnTo>
                    <a:lnTo>
                      <a:pt x="501" y="678"/>
                    </a:lnTo>
                    <a:lnTo>
                      <a:pt x="501" y="668"/>
                    </a:lnTo>
                    <a:lnTo>
                      <a:pt x="501" y="638"/>
                    </a:lnTo>
                    <a:lnTo>
                      <a:pt x="488" y="618"/>
                    </a:lnTo>
                    <a:lnTo>
                      <a:pt x="488" y="588"/>
                    </a:lnTo>
                    <a:lnTo>
                      <a:pt x="476" y="559"/>
                    </a:lnTo>
                    <a:lnTo>
                      <a:pt x="476" y="519"/>
                    </a:lnTo>
                    <a:lnTo>
                      <a:pt x="476" y="479"/>
                    </a:lnTo>
                    <a:lnTo>
                      <a:pt x="463" y="429"/>
                    </a:lnTo>
                    <a:lnTo>
                      <a:pt x="463" y="399"/>
                    </a:lnTo>
                    <a:lnTo>
                      <a:pt x="463" y="379"/>
                    </a:lnTo>
                    <a:lnTo>
                      <a:pt x="463" y="349"/>
                    </a:lnTo>
                    <a:lnTo>
                      <a:pt x="463" y="319"/>
                    </a:lnTo>
                    <a:lnTo>
                      <a:pt x="451" y="289"/>
                    </a:lnTo>
                    <a:lnTo>
                      <a:pt x="451" y="250"/>
                    </a:lnTo>
                    <a:lnTo>
                      <a:pt x="451" y="220"/>
                    </a:lnTo>
                    <a:lnTo>
                      <a:pt x="451" y="190"/>
                    </a:lnTo>
                    <a:lnTo>
                      <a:pt x="451" y="150"/>
                    </a:lnTo>
                    <a:lnTo>
                      <a:pt x="451" y="120"/>
                    </a:lnTo>
                    <a:lnTo>
                      <a:pt x="451" y="80"/>
                    </a:lnTo>
                    <a:lnTo>
                      <a:pt x="451" y="4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080920" y="3830400"/>
                <a:ext cx="243000" cy="317520"/>
              </a:xfrm>
              <a:custGeom>
                <a:avLst/>
                <a:gdLst/>
                <a:ahLst/>
                <a:rect l="l" t="t" r="r" b="b"/>
                <a:pathLst>
                  <a:path w="488" h="687">
                    <a:moveTo>
                      <a:pt x="25" y="69"/>
                    </a:moveTo>
                    <a:lnTo>
                      <a:pt x="25" y="79"/>
                    </a:lnTo>
                    <a:lnTo>
                      <a:pt x="25" y="119"/>
                    </a:lnTo>
                    <a:lnTo>
                      <a:pt x="25" y="139"/>
                    </a:lnTo>
                    <a:lnTo>
                      <a:pt x="25" y="169"/>
                    </a:lnTo>
                    <a:lnTo>
                      <a:pt x="25" y="209"/>
                    </a:lnTo>
                    <a:lnTo>
                      <a:pt x="37" y="249"/>
                    </a:lnTo>
                    <a:lnTo>
                      <a:pt x="25" y="269"/>
                    </a:lnTo>
                    <a:lnTo>
                      <a:pt x="25" y="289"/>
                    </a:lnTo>
                    <a:lnTo>
                      <a:pt x="25" y="318"/>
                    </a:lnTo>
                    <a:lnTo>
                      <a:pt x="25" y="348"/>
                    </a:lnTo>
                    <a:lnTo>
                      <a:pt x="25" y="368"/>
                    </a:lnTo>
                    <a:lnTo>
                      <a:pt x="25" y="398"/>
                    </a:lnTo>
                    <a:lnTo>
                      <a:pt x="25" y="418"/>
                    </a:lnTo>
                    <a:lnTo>
                      <a:pt x="25" y="448"/>
                    </a:lnTo>
                    <a:lnTo>
                      <a:pt x="25" y="478"/>
                    </a:lnTo>
                    <a:lnTo>
                      <a:pt x="25" y="508"/>
                    </a:lnTo>
                    <a:lnTo>
                      <a:pt x="12" y="538"/>
                    </a:lnTo>
                    <a:lnTo>
                      <a:pt x="12" y="558"/>
                    </a:lnTo>
                    <a:lnTo>
                      <a:pt x="12" y="588"/>
                    </a:lnTo>
                    <a:lnTo>
                      <a:pt x="0" y="617"/>
                    </a:lnTo>
                    <a:lnTo>
                      <a:pt x="0" y="657"/>
                    </a:lnTo>
                    <a:lnTo>
                      <a:pt x="0" y="687"/>
                    </a:lnTo>
                    <a:lnTo>
                      <a:pt x="363" y="597"/>
                    </a:lnTo>
                    <a:lnTo>
                      <a:pt x="363" y="588"/>
                    </a:lnTo>
                    <a:lnTo>
                      <a:pt x="375" y="568"/>
                    </a:lnTo>
                    <a:lnTo>
                      <a:pt x="388" y="538"/>
                    </a:lnTo>
                    <a:lnTo>
                      <a:pt x="400" y="518"/>
                    </a:lnTo>
                    <a:lnTo>
                      <a:pt x="400" y="488"/>
                    </a:lnTo>
                    <a:lnTo>
                      <a:pt x="425" y="458"/>
                    </a:lnTo>
                    <a:lnTo>
                      <a:pt x="425" y="408"/>
                    </a:lnTo>
                    <a:lnTo>
                      <a:pt x="438" y="368"/>
                    </a:lnTo>
                    <a:lnTo>
                      <a:pt x="438" y="348"/>
                    </a:lnTo>
                    <a:lnTo>
                      <a:pt x="450" y="318"/>
                    </a:lnTo>
                    <a:lnTo>
                      <a:pt x="450" y="289"/>
                    </a:lnTo>
                    <a:lnTo>
                      <a:pt x="463" y="269"/>
                    </a:lnTo>
                    <a:lnTo>
                      <a:pt x="463" y="239"/>
                    </a:lnTo>
                    <a:lnTo>
                      <a:pt x="463" y="209"/>
                    </a:lnTo>
                    <a:lnTo>
                      <a:pt x="463" y="169"/>
                    </a:lnTo>
                    <a:lnTo>
                      <a:pt x="476" y="139"/>
                    </a:lnTo>
                    <a:lnTo>
                      <a:pt x="476" y="99"/>
                    </a:lnTo>
                    <a:lnTo>
                      <a:pt x="476" y="69"/>
                    </a:lnTo>
                    <a:lnTo>
                      <a:pt x="476" y="29"/>
                    </a:lnTo>
                    <a:lnTo>
                      <a:pt x="488" y="0"/>
                    </a:lnTo>
                    <a:lnTo>
                      <a:pt x="25" y="69"/>
                    </a:lnTo>
                    <a:lnTo>
                      <a:pt x="25" y="69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435880" y="3594960"/>
                <a:ext cx="293040" cy="442800"/>
              </a:xfrm>
              <a:custGeom>
                <a:avLst/>
                <a:gdLst/>
                <a:ahLst/>
                <a:rect l="l" t="t" r="r" b="b"/>
                <a:pathLst>
                  <a:path w="589" h="957">
                    <a:moveTo>
                      <a:pt x="113" y="409"/>
                    </a:moveTo>
                    <a:lnTo>
                      <a:pt x="101" y="409"/>
                    </a:lnTo>
                    <a:lnTo>
                      <a:pt x="101" y="449"/>
                    </a:lnTo>
                    <a:lnTo>
                      <a:pt x="101" y="469"/>
                    </a:lnTo>
                    <a:lnTo>
                      <a:pt x="101" y="499"/>
                    </a:lnTo>
                    <a:lnTo>
                      <a:pt x="101" y="538"/>
                    </a:lnTo>
                    <a:lnTo>
                      <a:pt x="101" y="578"/>
                    </a:lnTo>
                    <a:lnTo>
                      <a:pt x="88" y="608"/>
                    </a:lnTo>
                    <a:lnTo>
                      <a:pt x="88" y="658"/>
                    </a:lnTo>
                    <a:lnTo>
                      <a:pt x="76" y="698"/>
                    </a:lnTo>
                    <a:lnTo>
                      <a:pt x="63" y="748"/>
                    </a:lnTo>
                    <a:lnTo>
                      <a:pt x="51" y="778"/>
                    </a:lnTo>
                    <a:lnTo>
                      <a:pt x="51" y="798"/>
                    </a:lnTo>
                    <a:lnTo>
                      <a:pt x="51" y="827"/>
                    </a:lnTo>
                    <a:lnTo>
                      <a:pt x="38" y="857"/>
                    </a:lnTo>
                    <a:lnTo>
                      <a:pt x="26" y="877"/>
                    </a:lnTo>
                    <a:lnTo>
                      <a:pt x="26" y="907"/>
                    </a:lnTo>
                    <a:lnTo>
                      <a:pt x="13" y="927"/>
                    </a:lnTo>
                    <a:lnTo>
                      <a:pt x="0" y="957"/>
                    </a:lnTo>
                    <a:lnTo>
                      <a:pt x="38" y="917"/>
                    </a:lnTo>
                    <a:lnTo>
                      <a:pt x="88" y="887"/>
                    </a:lnTo>
                    <a:lnTo>
                      <a:pt x="126" y="857"/>
                    </a:lnTo>
                    <a:lnTo>
                      <a:pt x="188" y="818"/>
                    </a:lnTo>
                    <a:lnTo>
                      <a:pt x="226" y="768"/>
                    </a:lnTo>
                    <a:lnTo>
                      <a:pt x="276" y="728"/>
                    </a:lnTo>
                    <a:lnTo>
                      <a:pt x="301" y="698"/>
                    </a:lnTo>
                    <a:lnTo>
                      <a:pt x="326" y="668"/>
                    </a:lnTo>
                    <a:lnTo>
                      <a:pt x="351" y="648"/>
                    </a:lnTo>
                    <a:lnTo>
                      <a:pt x="376" y="618"/>
                    </a:lnTo>
                    <a:lnTo>
                      <a:pt x="389" y="588"/>
                    </a:lnTo>
                    <a:lnTo>
                      <a:pt x="414" y="558"/>
                    </a:lnTo>
                    <a:lnTo>
                      <a:pt x="439" y="529"/>
                    </a:lnTo>
                    <a:lnTo>
                      <a:pt x="451" y="499"/>
                    </a:lnTo>
                    <a:lnTo>
                      <a:pt x="464" y="459"/>
                    </a:lnTo>
                    <a:lnTo>
                      <a:pt x="489" y="429"/>
                    </a:lnTo>
                    <a:lnTo>
                      <a:pt x="501" y="389"/>
                    </a:lnTo>
                    <a:lnTo>
                      <a:pt x="526" y="349"/>
                    </a:lnTo>
                    <a:lnTo>
                      <a:pt x="539" y="309"/>
                    </a:lnTo>
                    <a:lnTo>
                      <a:pt x="539" y="269"/>
                    </a:lnTo>
                    <a:lnTo>
                      <a:pt x="552" y="230"/>
                    </a:lnTo>
                    <a:lnTo>
                      <a:pt x="564" y="190"/>
                    </a:lnTo>
                    <a:lnTo>
                      <a:pt x="577" y="140"/>
                    </a:lnTo>
                    <a:lnTo>
                      <a:pt x="577" y="90"/>
                    </a:lnTo>
                    <a:lnTo>
                      <a:pt x="577" y="40"/>
                    </a:lnTo>
                    <a:lnTo>
                      <a:pt x="589" y="0"/>
                    </a:lnTo>
                    <a:lnTo>
                      <a:pt x="539" y="40"/>
                    </a:lnTo>
                    <a:lnTo>
                      <a:pt x="514" y="80"/>
                    </a:lnTo>
                    <a:lnTo>
                      <a:pt x="464" y="120"/>
                    </a:lnTo>
                    <a:lnTo>
                      <a:pt x="439" y="160"/>
                    </a:lnTo>
                    <a:lnTo>
                      <a:pt x="389" y="190"/>
                    </a:lnTo>
                    <a:lnTo>
                      <a:pt x="351" y="230"/>
                    </a:lnTo>
                    <a:lnTo>
                      <a:pt x="314" y="259"/>
                    </a:lnTo>
                    <a:lnTo>
                      <a:pt x="289" y="289"/>
                    </a:lnTo>
                    <a:lnTo>
                      <a:pt x="238" y="309"/>
                    </a:lnTo>
                    <a:lnTo>
                      <a:pt x="201" y="339"/>
                    </a:lnTo>
                    <a:lnTo>
                      <a:pt x="176" y="349"/>
                    </a:lnTo>
                    <a:lnTo>
                      <a:pt x="151" y="369"/>
                    </a:lnTo>
                    <a:lnTo>
                      <a:pt x="126" y="399"/>
                    </a:lnTo>
                    <a:lnTo>
                      <a:pt x="113" y="409"/>
                    </a:lnTo>
                    <a:lnTo>
                      <a:pt x="113" y="409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24840" y="3083040"/>
                <a:ext cx="2283120" cy="825480"/>
              </a:xfrm>
              <a:custGeom>
                <a:avLst/>
                <a:gdLst/>
                <a:ahLst/>
                <a:rect l="l" t="t" r="r" b="b"/>
                <a:pathLst>
                  <a:path w="4584" h="1784">
                    <a:moveTo>
                      <a:pt x="12" y="10"/>
                    </a:moveTo>
                    <a:lnTo>
                      <a:pt x="12" y="20"/>
                    </a:lnTo>
                    <a:lnTo>
                      <a:pt x="12" y="50"/>
                    </a:lnTo>
                    <a:lnTo>
                      <a:pt x="0" y="70"/>
                    </a:lnTo>
                    <a:lnTo>
                      <a:pt x="0" y="100"/>
                    </a:lnTo>
                    <a:lnTo>
                      <a:pt x="0" y="130"/>
                    </a:lnTo>
                    <a:lnTo>
                      <a:pt x="12" y="170"/>
                    </a:lnTo>
                    <a:lnTo>
                      <a:pt x="12" y="210"/>
                    </a:lnTo>
                    <a:lnTo>
                      <a:pt x="25" y="259"/>
                    </a:lnTo>
                    <a:lnTo>
                      <a:pt x="25" y="279"/>
                    </a:lnTo>
                    <a:lnTo>
                      <a:pt x="25" y="299"/>
                    </a:lnTo>
                    <a:lnTo>
                      <a:pt x="37" y="329"/>
                    </a:lnTo>
                    <a:lnTo>
                      <a:pt x="37" y="359"/>
                    </a:lnTo>
                    <a:lnTo>
                      <a:pt x="50" y="379"/>
                    </a:lnTo>
                    <a:lnTo>
                      <a:pt x="62" y="409"/>
                    </a:lnTo>
                    <a:lnTo>
                      <a:pt x="62" y="439"/>
                    </a:lnTo>
                    <a:lnTo>
                      <a:pt x="88" y="469"/>
                    </a:lnTo>
                    <a:lnTo>
                      <a:pt x="100" y="489"/>
                    </a:lnTo>
                    <a:lnTo>
                      <a:pt x="113" y="528"/>
                    </a:lnTo>
                    <a:lnTo>
                      <a:pt x="125" y="558"/>
                    </a:lnTo>
                    <a:lnTo>
                      <a:pt x="150" y="588"/>
                    </a:lnTo>
                    <a:lnTo>
                      <a:pt x="163" y="618"/>
                    </a:lnTo>
                    <a:lnTo>
                      <a:pt x="188" y="648"/>
                    </a:lnTo>
                    <a:lnTo>
                      <a:pt x="200" y="678"/>
                    </a:lnTo>
                    <a:lnTo>
                      <a:pt x="225" y="708"/>
                    </a:lnTo>
                    <a:lnTo>
                      <a:pt x="238" y="738"/>
                    </a:lnTo>
                    <a:lnTo>
                      <a:pt x="275" y="778"/>
                    </a:lnTo>
                    <a:lnTo>
                      <a:pt x="288" y="797"/>
                    </a:lnTo>
                    <a:lnTo>
                      <a:pt x="325" y="837"/>
                    </a:lnTo>
                    <a:lnTo>
                      <a:pt x="351" y="867"/>
                    </a:lnTo>
                    <a:lnTo>
                      <a:pt x="388" y="907"/>
                    </a:lnTo>
                    <a:lnTo>
                      <a:pt x="426" y="937"/>
                    </a:lnTo>
                    <a:lnTo>
                      <a:pt x="463" y="977"/>
                    </a:lnTo>
                    <a:lnTo>
                      <a:pt x="501" y="997"/>
                    </a:lnTo>
                    <a:lnTo>
                      <a:pt x="538" y="1037"/>
                    </a:lnTo>
                    <a:lnTo>
                      <a:pt x="576" y="1067"/>
                    </a:lnTo>
                    <a:lnTo>
                      <a:pt x="626" y="1106"/>
                    </a:lnTo>
                    <a:lnTo>
                      <a:pt x="664" y="1136"/>
                    </a:lnTo>
                    <a:lnTo>
                      <a:pt x="714" y="1166"/>
                    </a:lnTo>
                    <a:lnTo>
                      <a:pt x="764" y="1196"/>
                    </a:lnTo>
                    <a:lnTo>
                      <a:pt x="826" y="1236"/>
                    </a:lnTo>
                    <a:lnTo>
                      <a:pt x="877" y="1266"/>
                    </a:lnTo>
                    <a:lnTo>
                      <a:pt x="939" y="1296"/>
                    </a:lnTo>
                    <a:lnTo>
                      <a:pt x="989" y="1326"/>
                    </a:lnTo>
                    <a:lnTo>
                      <a:pt x="1064" y="1365"/>
                    </a:lnTo>
                    <a:lnTo>
                      <a:pt x="1127" y="1385"/>
                    </a:lnTo>
                    <a:lnTo>
                      <a:pt x="1190" y="1425"/>
                    </a:lnTo>
                    <a:lnTo>
                      <a:pt x="1265" y="1445"/>
                    </a:lnTo>
                    <a:lnTo>
                      <a:pt x="1340" y="1485"/>
                    </a:lnTo>
                    <a:lnTo>
                      <a:pt x="1415" y="1515"/>
                    </a:lnTo>
                    <a:lnTo>
                      <a:pt x="1490" y="1535"/>
                    </a:lnTo>
                    <a:lnTo>
                      <a:pt x="1578" y="1565"/>
                    </a:lnTo>
                    <a:lnTo>
                      <a:pt x="1666" y="1595"/>
                    </a:lnTo>
                    <a:lnTo>
                      <a:pt x="1741" y="1615"/>
                    </a:lnTo>
                    <a:lnTo>
                      <a:pt x="1828" y="1644"/>
                    </a:lnTo>
                    <a:lnTo>
                      <a:pt x="1904" y="1654"/>
                    </a:lnTo>
                    <a:lnTo>
                      <a:pt x="1979" y="1684"/>
                    </a:lnTo>
                    <a:lnTo>
                      <a:pt x="2054" y="1694"/>
                    </a:lnTo>
                    <a:lnTo>
                      <a:pt x="2129" y="1704"/>
                    </a:lnTo>
                    <a:lnTo>
                      <a:pt x="2204" y="1724"/>
                    </a:lnTo>
                    <a:lnTo>
                      <a:pt x="2292" y="1734"/>
                    </a:lnTo>
                    <a:lnTo>
                      <a:pt x="2354" y="1744"/>
                    </a:lnTo>
                    <a:lnTo>
                      <a:pt x="2430" y="1754"/>
                    </a:lnTo>
                    <a:lnTo>
                      <a:pt x="2505" y="1764"/>
                    </a:lnTo>
                    <a:lnTo>
                      <a:pt x="2580" y="1764"/>
                    </a:lnTo>
                    <a:lnTo>
                      <a:pt x="2642" y="1774"/>
                    </a:lnTo>
                    <a:lnTo>
                      <a:pt x="2705" y="1774"/>
                    </a:lnTo>
                    <a:lnTo>
                      <a:pt x="2780" y="1774"/>
                    </a:lnTo>
                    <a:lnTo>
                      <a:pt x="2843" y="1784"/>
                    </a:lnTo>
                    <a:lnTo>
                      <a:pt x="2905" y="1774"/>
                    </a:lnTo>
                    <a:lnTo>
                      <a:pt x="2968" y="1774"/>
                    </a:lnTo>
                    <a:lnTo>
                      <a:pt x="3031" y="1774"/>
                    </a:lnTo>
                    <a:lnTo>
                      <a:pt x="3093" y="1774"/>
                    </a:lnTo>
                    <a:lnTo>
                      <a:pt x="3156" y="1764"/>
                    </a:lnTo>
                    <a:lnTo>
                      <a:pt x="3219" y="1764"/>
                    </a:lnTo>
                    <a:lnTo>
                      <a:pt x="3269" y="1754"/>
                    </a:lnTo>
                    <a:lnTo>
                      <a:pt x="3331" y="1754"/>
                    </a:lnTo>
                    <a:lnTo>
                      <a:pt x="3381" y="1744"/>
                    </a:lnTo>
                    <a:lnTo>
                      <a:pt x="3431" y="1734"/>
                    </a:lnTo>
                    <a:lnTo>
                      <a:pt x="3482" y="1724"/>
                    </a:lnTo>
                    <a:lnTo>
                      <a:pt x="3544" y="1714"/>
                    </a:lnTo>
                    <a:lnTo>
                      <a:pt x="3594" y="1704"/>
                    </a:lnTo>
                    <a:lnTo>
                      <a:pt x="3644" y="1684"/>
                    </a:lnTo>
                    <a:lnTo>
                      <a:pt x="3694" y="1674"/>
                    </a:lnTo>
                    <a:lnTo>
                      <a:pt x="3745" y="1664"/>
                    </a:lnTo>
                    <a:lnTo>
                      <a:pt x="3782" y="1644"/>
                    </a:lnTo>
                    <a:lnTo>
                      <a:pt x="3832" y="1625"/>
                    </a:lnTo>
                    <a:lnTo>
                      <a:pt x="3870" y="1605"/>
                    </a:lnTo>
                    <a:lnTo>
                      <a:pt x="3920" y="1595"/>
                    </a:lnTo>
                    <a:lnTo>
                      <a:pt x="3957" y="1575"/>
                    </a:lnTo>
                    <a:lnTo>
                      <a:pt x="4008" y="1555"/>
                    </a:lnTo>
                    <a:lnTo>
                      <a:pt x="4045" y="1535"/>
                    </a:lnTo>
                    <a:lnTo>
                      <a:pt x="4083" y="1525"/>
                    </a:lnTo>
                    <a:lnTo>
                      <a:pt x="4108" y="1505"/>
                    </a:lnTo>
                    <a:lnTo>
                      <a:pt x="4145" y="1485"/>
                    </a:lnTo>
                    <a:lnTo>
                      <a:pt x="4183" y="1455"/>
                    </a:lnTo>
                    <a:lnTo>
                      <a:pt x="4220" y="1445"/>
                    </a:lnTo>
                    <a:lnTo>
                      <a:pt x="4246" y="1415"/>
                    </a:lnTo>
                    <a:lnTo>
                      <a:pt x="4283" y="1395"/>
                    </a:lnTo>
                    <a:lnTo>
                      <a:pt x="4308" y="1375"/>
                    </a:lnTo>
                    <a:lnTo>
                      <a:pt x="4333" y="1356"/>
                    </a:lnTo>
                    <a:lnTo>
                      <a:pt x="4383" y="1316"/>
                    </a:lnTo>
                    <a:lnTo>
                      <a:pt x="4433" y="1266"/>
                    </a:lnTo>
                    <a:lnTo>
                      <a:pt x="4471" y="1226"/>
                    </a:lnTo>
                    <a:lnTo>
                      <a:pt x="4509" y="1186"/>
                    </a:lnTo>
                    <a:lnTo>
                      <a:pt x="4534" y="1136"/>
                    </a:lnTo>
                    <a:lnTo>
                      <a:pt x="4559" y="1096"/>
                    </a:lnTo>
                    <a:lnTo>
                      <a:pt x="4571" y="1057"/>
                    </a:lnTo>
                    <a:lnTo>
                      <a:pt x="4584" y="1017"/>
                    </a:lnTo>
                    <a:lnTo>
                      <a:pt x="4158" y="847"/>
                    </a:lnTo>
                    <a:lnTo>
                      <a:pt x="4145" y="847"/>
                    </a:lnTo>
                    <a:lnTo>
                      <a:pt x="4133" y="867"/>
                    </a:lnTo>
                    <a:lnTo>
                      <a:pt x="4120" y="897"/>
                    </a:lnTo>
                    <a:lnTo>
                      <a:pt x="4095" y="927"/>
                    </a:lnTo>
                    <a:lnTo>
                      <a:pt x="4058" y="967"/>
                    </a:lnTo>
                    <a:lnTo>
                      <a:pt x="4020" y="1017"/>
                    </a:lnTo>
                    <a:lnTo>
                      <a:pt x="3983" y="1037"/>
                    </a:lnTo>
                    <a:lnTo>
                      <a:pt x="3957" y="1067"/>
                    </a:lnTo>
                    <a:lnTo>
                      <a:pt x="3920" y="1086"/>
                    </a:lnTo>
                    <a:lnTo>
                      <a:pt x="3882" y="1116"/>
                    </a:lnTo>
                    <a:lnTo>
                      <a:pt x="3845" y="1136"/>
                    </a:lnTo>
                    <a:lnTo>
                      <a:pt x="3795" y="1166"/>
                    </a:lnTo>
                    <a:lnTo>
                      <a:pt x="3745" y="1186"/>
                    </a:lnTo>
                    <a:lnTo>
                      <a:pt x="3682" y="1206"/>
                    </a:lnTo>
                    <a:lnTo>
                      <a:pt x="3619" y="1226"/>
                    </a:lnTo>
                    <a:lnTo>
                      <a:pt x="3569" y="1246"/>
                    </a:lnTo>
                    <a:lnTo>
                      <a:pt x="3532" y="1256"/>
                    </a:lnTo>
                    <a:lnTo>
                      <a:pt x="3494" y="1266"/>
                    </a:lnTo>
                    <a:lnTo>
                      <a:pt x="3457" y="1276"/>
                    </a:lnTo>
                    <a:lnTo>
                      <a:pt x="3431" y="1286"/>
                    </a:lnTo>
                    <a:lnTo>
                      <a:pt x="3394" y="1296"/>
                    </a:lnTo>
                    <a:lnTo>
                      <a:pt x="3356" y="1296"/>
                    </a:lnTo>
                    <a:lnTo>
                      <a:pt x="3306" y="1306"/>
                    </a:lnTo>
                    <a:lnTo>
                      <a:pt x="3269" y="1316"/>
                    </a:lnTo>
                    <a:lnTo>
                      <a:pt x="3219" y="1316"/>
                    </a:lnTo>
                    <a:lnTo>
                      <a:pt x="3181" y="1326"/>
                    </a:lnTo>
                    <a:lnTo>
                      <a:pt x="3131" y="1326"/>
                    </a:lnTo>
                    <a:lnTo>
                      <a:pt x="3093" y="1336"/>
                    </a:lnTo>
                    <a:lnTo>
                      <a:pt x="3043" y="1336"/>
                    </a:lnTo>
                    <a:lnTo>
                      <a:pt x="2993" y="1336"/>
                    </a:lnTo>
                    <a:lnTo>
                      <a:pt x="2943" y="1336"/>
                    </a:lnTo>
                    <a:lnTo>
                      <a:pt x="2893" y="1346"/>
                    </a:lnTo>
                    <a:lnTo>
                      <a:pt x="2843" y="1346"/>
                    </a:lnTo>
                    <a:lnTo>
                      <a:pt x="2793" y="1346"/>
                    </a:lnTo>
                    <a:lnTo>
                      <a:pt x="2730" y="1346"/>
                    </a:lnTo>
                    <a:lnTo>
                      <a:pt x="2680" y="1346"/>
                    </a:lnTo>
                    <a:lnTo>
                      <a:pt x="2617" y="1336"/>
                    </a:lnTo>
                    <a:lnTo>
                      <a:pt x="2555" y="1326"/>
                    </a:lnTo>
                    <a:lnTo>
                      <a:pt x="2492" y="1326"/>
                    </a:lnTo>
                    <a:lnTo>
                      <a:pt x="2442" y="1326"/>
                    </a:lnTo>
                    <a:lnTo>
                      <a:pt x="2379" y="1316"/>
                    </a:lnTo>
                    <a:lnTo>
                      <a:pt x="2329" y="1306"/>
                    </a:lnTo>
                    <a:lnTo>
                      <a:pt x="2267" y="1296"/>
                    </a:lnTo>
                    <a:lnTo>
                      <a:pt x="2217" y="1286"/>
                    </a:lnTo>
                    <a:lnTo>
                      <a:pt x="2167" y="1276"/>
                    </a:lnTo>
                    <a:lnTo>
                      <a:pt x="2104" y="1266"/>
                    </a:lnTo>
                    <a:lnTo>
                      <a:pt x="2054" y="1256"/>
                    </a:lnTo>
                    <a:lnTo>
                      <a:pt x="2004" y="1246"/>
                    </a:lnTo>
                    <a:lnTo>
                      <a:pt x="1954" y="1226"/>
                    </a:lnTo>
                    <a:lnTo>
                      <a:pt x="1904" y="1216"/>
                    </a:lnTo>
                    <a:lnTo>
                      <a:pt x="1853" y="1196"/>
                    </a:lnTo>
                    <a:lnTo>
                      <a:pt x="1803" y="1186"/>
                    </a:lnTo>
                    <a:lnTo>
                      <a:pt x="1753" y="1176"/>
                    </a:lnTo>
                    <a:lnTo>
                      <a:pt x="1703" y="1156"/>
                    </a:lnTo>
                    <a:lnTo>
                      <a:pt x="1666" y="1136"/>
                    </a:lnTo>
                    <a:lnTo>
                      <a:pt x="1615" y="1116"/>
                    </a:lnTo>
                    <a:lnTo>
                      <a:pt x="1565" y="1096"/>
                    </a:lnTo>
                    <a:lnTo>
                      <a:pt x="1528" y="1077"/>
                    </a:lnTo>
                    <a:lnTo>
                      <a:pt x="1478" y="1057"/>
                    </a:lnTo>
                    <a:lnTo>
                      <a:pt x="1453" y="1047"/>
                    </a:lnTo>
                    <a:lnTo>
                      <a:pt x="1403" y="1017"/>
                    </a:lnTo>
                    <a:lnTo>
                      <a:pt x="1365" y="997"/>
                    </a:lnTo>
                    <a:lnTo>
                      <a:pt x="1315" y="977"/>
                    </a:lnTo>
                    <a:lnTo>
                      <a:pt x="1290" y="957"/>
                    </a:lnTo>
                    <a:lnTo>
                      <a:pt x="1240" y="937"/>
                    </a:lnTo>
                    <a:lnTo>
                      <a:pt x="1215" y="917"/>
                    </a:lnTo>
                    <a:lnTo>
                      <a:pt x="1177" y="887"/>
                    </a:lnTo>
                    <a:lnTo>
                      <a:pt x="1140" y="867"/>
                    </a:lnTo>
                    <a:lnTo>
                      <a:pt x="1102" y="847"/>
                    </a:lnTo>
                    <a:lnTo>
                      <a:pt x="1064" y="817"/>
                    </a:lnTo>
                    <a:lnTo>
                      <a:pt x="1027" y="797"/>
                    </a:lnTo>
                    <a:lnTo>
                      <a:pt x="1002" y="768"/>
                    </a:lnTo>
                    <a:lnTo>
                      <a:pt x="964" y="738"/>
                    </a:lnTo>
                    <a:lnTo>
                      <a:pt x="939" y="718"/>
                    </a:lnTo>
                    <a:lnTo>
                      <a:pt x="902" y="688"/>
                    </a:lnTo>
                    <a:lnTo>
                      <a:pt x="889" y="668"/>
                    </a:lnTo>
                    <a:lnTo>
                      <a:pt x="852" y="638"/>
                    </a:lnTo>
                    <a:lnTo>
                      <a:pt x="826" y="608"/>
                    </a:lnTo>
                    <a:lnTo>
                      <a:pt x="801" y="588"/>
                    </a:lnTo>
                    <a:lnTo>
                      <a:pt x="776" y="558"/>
                    </a:lnTo>
                    <a:lnTo>
                      <a:pt x="751" y="538"/>
                    </a:lnTo>
                    <a:lnTo>
                      <a:pt x="739" y="509"/>
                    </a:lnTo>
                    <a:lnTo>
                      <a:pt x="714" y="479"/>
                    </a:lnTo>
                    <a:lnTo>
                      <a:pt x="701" y="459"/>
                    </a:lnTo>
                    <a:lnTo>
                      <a:pt x="676" y="419"/>
                    </a:lnTo>
                    <a:lnTo>
                      <a:pt x="664" y="399"/>
                    </a:lnTo>
                    <a:lnTo>
                      <a:pt x="639" y="369"/>
                    </a:lnTo>
                    <a:lnTo>
                      <a:pt x="626" y="339"/>
                    </a:lnTo>
                    <a:lnTo>
                      <a:pt x="614" y="309"/>
                    </a:lnTo>
                    <a:lnTo>
                      <a:pt x="588" y="279"/>
                    </a:lnTo>
                    <a:lnTo>
                      <a:pt x="588" y="249"/>
                    </a:lnTo>
                    <a:lnTo>
                      <a:pt x="576" y="229"/>
                    </a:lnTo>
                    <a:lnTo>
                      <a:pt x="563" y="190"/>
                    </a:lnTo>
                    <a:lnTo>
                      <a:pt x="563" y="160"/>
                    </a:lnTo>
                    <a:lnTo>
                      <a:pt x="551" y="140"/>
                    </a:lnTo>
                    <a:lnTo>
                      <a:pt x="551" y="110"/>
                    </a:lnTo>
                    <a:lnTo>
                      <a:pt x="538" y="80"/>
                    </a:lnTo>
                    <a:lnTo>
                      <a:pt x="538" y="50"/>
                    </a:lnTo>
                    <a:lnTo>
                      <a:pt x="538" y="20"/>
                    </a:lnTo>
                    <a:lnTo>
                      <a:pt x="538" y="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228760" y="2667960"/>
                <a:ext cx="1915200" cy="857880"/>
              </a:xfrm>
              <a:custGeom>
                <a:avLst/>
                <a:gdLst/>
                <a:ahLst/>
                <a:rect l="l" t="t" r="r" b="b"/>
                <a:pathLst>
                  <a:path w="3845" h="1854">
                    <a:moveTo>
                      <a:pt x="0" y="1386"/>
                    </a:moveTo>
                    <a:lnTo>
                      <a:pt x="0" y="1396"/>
                    </a:lnTo>
                    <a:lnTo>
                      <a:pt x="13" y="1415"/>
                    </a:lnTo>
                    <a:lnTo>
                      <a:pt x="38" y="1445"/>
                    </a:lnTo>
                    <a:lnTo>
                      <a:pt x="75" y="1485"/>
                    </a:lnTo>
                    <a:lnTo>
                      <a:pt x="100" y="1505"/>
                    </a:lnTo>
                    <a:lnTo>
                      <a:pt x="125" y="1525"/>
                    </a:lnTo>
                    <a:lnTo>
                      <a:pt x="150" y="1555"/>
                    </a:lnTo>
                    <a:lnTo>
                      <a:pt x="188" y="1585"/>
                    </a:lnTo>
                    <a:lnTo>
                      <a:pt x="225" y="1605"/>
                    </a:lnTo>
                    <a:lnTo>
                      <a:pt x="276" y="1635"/>
                    </a:lnTo>
                    <a:lnTo>
                      <a:pt x="313" y="1665"/>
                    </a:lnTo>
                    <a:lnTo>
                      <a:pt x="376" y="1694"/>
                    </a:lnTo>
                    <a:lnTo>
                      <a:pt x="426" y="1714"/>
                    </a:lnTo>
                    <a:lnTo>
                      <a:pt x="488" y="1734"/>
                    </a:lnTo>
                    <a:lnTo>
                      <a:pt x="513" y="1744"/>
                    </a:lnTo>
                    <a:lnTo>
                      <a:pt x="551" y="1754"/>
                    </a:lnTo>
                    <a:lnTo>
                      <a:pt x="589" y="1764"/>
                    </a:lnTo>
                    <a:lnTo>
                      <a:pt x="614" y="1774"/>
                    </a:lnTo>
                    <a:lnTo>
                      <a:pt x="651" y="1784"/>
                    </a:lnTo>
                    <a:lnTo>
                      <a:pt x="689" y="1794"/>
                    </a:lnTo>
                    <a:lnTo>
                      <a:pt x="726" y="1804"/>
                    </a:lnTo>
                    <a:lnTo>
                      <a:pt x="776" y="1814"/>
                    </a:lnTo>
                    <a:lnTo>
                      <a:pt x="814" y="1824"/>
                    </a:lnTo>
                    <a:lnTo>
                      <a:pt x="852" y="1824"/>
                    </a:lnTo>
                    <a:lnTo>
                      <a:pt x="902" y="1834"/>
                    </a:lnTo>
                    <a:lnTo>
                      <a:pt x="952" y="1844"/>
                    </a:lnTo>
                    <a:lnTo>
                      <a:pt x="989" y="1844"/>
                    </a:lnTo>
                    <a:lnTo>
                      <a:pt x="1039" y="1844"/>
                    </a:lnTo>
                    <a:lnTo>
                      <a:pt x="1090" y="1844"/>
                    </a:lnTo>
                    <a:lnTo>
                      <a:pt x="1152" y="1854"/>
                    </a:lnTo>
                    <a:lnTo>
                      <a:pt x="1202" y="1844"/>
                    </a:lnTo>
                    <a:lnTo>
                      <a:pt x="1252" y="1844"/>
                    </a:lnTo>
                    <a:lnTo>
                      <a:pt x="1315" y="1844"/>
                    </a:lnTo>
                    <a:lnTo>
                      <a:pt x="1378" y="1844"/>
                    </a:lnTo>
                    <a:lnTo>
                      <a:pt x="1428" y="1834"/>
                    </a:lnTo>
                    <a:lnTo>
                      <a:pt x="1490" y="1834"/>
                    </a:lnTo>
                    <a:lnTo>
                      <a:pt x="1553" y="1824"/>
                    </a:lnTo>
                    <a:lnTo>
                      <a:pt x="1616" y="1824"/>
                    </a:lnTo>
                    <a:lnTo>
                      <a:pt x="1678" y="1814"/>
                    </a:lnTo>
                    <a:lnTo>
                      <a:pt x="1753" y="1804"/>
                    </a:lnTo>
                    <a:lnTo>
                      <a:pt x="1816" y="1794"/>
                    </a:lnTo>
                    <a:lnTo>
                      <a:pt x="1891" y="1784"/>
                    </a:lnTo>
                    <a:lnTo>
                      <a:pt x="1954" y="1774"/>
                    </a:lnTo>
                    <a:lnTo>
                      <a:pt x="2016" y="1764"/>
                    </a:lnTo>
                    <a:lnTo>
                      <a:pt x="2066" y="1744"/>
                    </a:lnTo>
                    <a:lnTo>
                      <a:pt x="2129" y="1734"/>
                    </a:lnTo>
                    <a:lnTo>
                      <a:pt x="2179" y="1714"/>
                    </a:lnTo>
                    <a:lnTo>
                      <a:pt x="2242" y="1694"/>
                    </a:lnTo>
                    <a:lnTo>
                      <a:pt x="2304" y="1675"/>
                    </a:lnTo>
                    <a:lnTo>
                      <a:pt x="2355" y="1665"/>
                    </a:lnTo>
                    <a:lnTo>
                      <a:pt x="2417" y="1635"/>
                    </a:lnTo>
                    <a:lnTo>
                      <a:pt x="2467" y="1625"/>
                    </a:lnTo>
                    <a:lnTo>
                      <a:pt x="2517" y="1605"/>
                    </a:lnTo>
                    <a:lnTo>
                      <a:pt x="2567" y="1585"/>
                    </a:lnTo>
                    <a:lnTo>
                      <a:pt x="2618" y="1565"/>
                    </a:lnTo>
                    <a:lnTo>
                      <a:pt x="2668" y="1545"/>
                    </a:lnTo>
                    <a:lnTo>
                      <a:pt x="2718" y="1515"/>
                    </a:lnTo>
                    <a:lnTo>
                      <a:pt x="2768" y="1505"/>
                    </a:lnTo>
                    <a:lnTo>
                      <a:pt x="2805" y="1475"/>
                    </a:lnTo>
                    <a:lnTo>
                      <a:pt x="2855" y="1445"/>
                    </a:lnTo>
                    <a:lnTo>
                      <a:pt x="2906" y="1425"/>
                    </a:lnTo>
                    <a:lnTo>
                      <a:pt x="2943" y="1396"/>
                    </a:lnTo>
                    <a:lnTo>
                      <a:pt x="2981" y="1376"/>
                    </a:lnTo>
                    <a:lnTo>
                      <a:pt x="3031" y="1346"/>
                    </a:lnTo>
                    <a:lnTo>
                      <a:pt x="3068" y="1316"/>
                    </a:lnTo>
                    <a:lnTo>
                      <a:pt x="3118" y="1296"/>
                    </a:lnTo>
                    <a:lnTo>
                      <a:pt x="3144" y="1266"/>
                    </a:lnTo>
                    <a:lnTo>
                      <a:pt x="3181" y="1246"/>
                    </a:lnTo>
                    <a:lnTo>
                      <a:pt x="3219" y="1216"/>
                    </a:lnTo>
                    <a:lnTo>
                      <a:pt x="3256" y="1186"/>
                    </a:lnTo>
                    <a:lnTo>
                      <a:pt x="3294" y="1156"/>
                    </a:lnTo>
                    <a:lnTo>
                      <a:pt x="3331" y="1126"/>
                    </a:lnTo>
                    <a:lnTo>
                      <a:pt x="3369" y="1097"/>
                    </a:lnTo>
                    <a:lnTo>
                      <a:pt x="3394" y="1067"/>
                    </a:lnTo>
                    <a:lnTo>
                      <a:pt x="3419" y="1037"/>
                    </a:lnTo>
                    <a:lnTo>
                      <a:pt x="3444" y="1007"/>
                    </a:lnTo>
                    <a:lnTo>
                      <a:pt x="3482" y="977"/>
                    </a:lnTo>
                    <a:lnTo>
                      <a:pt x="3507" y="937"/>
                    </a:lnTo>
                    <a:lnTo>
                      <a:pt x="3532" y="907"/>
                    </a:lnTo>
                    <a:lnTo>
                      <a:pt x="3557" y="877"/>
                    </a:lnTo>
                    <a:lnTo>
                      <a:pt x="3582" y="847"/>
                    </a:lnTo>
                    <a:lnTo>
                      <a:pt x="3607" y="818"/>
                    </a:lnTo>
                    <a:lnTo>
                      <a:pt x="3619" y="778"/>
                    </a:lnTo>
                    <a:lnTo>
                      <a:pt x="3645" y="748"/>
                    </a:lnTo>
                    <a:lnTo>
                      <a:pt x="3670" y="708"/>
                    </a:lnTo>
                    <a:lnTo>
                      <a:pt x="3682" y="678"/>
                    </a:lnTo>
                    <a:lnTo>
                      <a:pt x="3707" y="648"/>
                    </a:lnTo>
                    <a:lnTo>
                      <a:pt x="3720" y="608"/>
                    </a:lnTo>
                    <a:lnTo>
                      <a:pt x="3745" y="578"/>
                    </a:lnTo>
                    <a:lnTo>
                      <a:pt x="3757" y="549"/>
                    </a:lnTo>
                    <a:lnTo>
                      <a:pt x="3770" y="509"/>
                    </a:lnTo>
                    <a:lnTo>
                      <a:pt x="3782" y="479"/>
                    </a:lnTo>
                    <a:lnTo>
                      <a:pt x="3782" y="439"/>
                    </a:lnTo>
                    <a:lnTo>
                      <a:pt x="3807" y="409"/>
                    </a:lnTo>
                    <a:lnTo>
                      <a:pt x="3807" y="369"/>
                    </a:lnTo>
                    <a:lnTo>
                      <a:pt x="3820" y="339"/>
                    </a:lnTo>
                    <a:lnTo>
                      <a:pt x="3820" y="299"/>
                    </a:lnTo>
                    <a:lnTo>
                      <a:pt x="3832" y="279"/>
                    </a:lnTo>
                    <a:lnTo>
                      <a:pt x="3832" y="240"/>
                    </a:lnTo>
                    <a:lnTo>
                      <a:pt x="3845" y="210"/>
                    </a:lnTo>
                    <a:lnTo>
                      <a:pt x="3845" y="170"/>
                    </a:lnTo>
                    <a:lnTo>
                      <a:pt x="3845" y="140"/>
                    </a:lnTo>
                    <a:lnTo>
                      <a:pt x="3845" y="100"/>
                    </a:lnTo>
                    <a:lnTo>
                      <a:pt x="3845" y="70"/>
                    </a:lnTo>
                    <a:lnTo>
                      <a:pt x="3845" y="30"/>
                    </a:lnTo>
                    <a:lnTo>
                      <a:pt x="3845" y="0"/>
                    </a:lnTo>
                    <a:lnTo>
                      <a:pt x="3369" y="0"/>
                    </a:lnTo>
                    <a:lnTo>
                      <a:pt x="3369" y="10"/>
                    </a:lnTo>
                    <a:lnTo>
                      <a:pt x="3369" y="30"/>
                    </a:lnTo>
                    <a:lnTo>
                      <a:pt x="3356" y="60"/>
                    </a:lnTo>
                    <a:lnTo>
                      <a:pt x="3344" y="100"/>
                    </a:lnTo>
                    <a:lnTo>
                      <a:pt x="3331" y="130"/>
                    </a:lnTo>
                    <a:lnTo>
                      <a:pt x="3331" y="160"/>
                    </a:lnTo>
                    <a:lnTo>
                      <a:pt x="3319" y="190"/>
                    </a:lnTo>
                    <a:lnTo>
                      <a:pt x="3306" y="220"/>
                    </a:lnTo>
                    <a:lnTo>
                      <a:pt x="3294" y="250"/>
                    </a:lnTo>
                    <a:lnTo>
                      <a:pt x="3294" y="289"/>
                    </a:lnTo>
                    <a:lnTo>
                      <a:pt x="3269" y="329"/>
                    </a:lnTo>
                    <a:lnTo>
                      <a:pt x="3256" y="369"/>
                    </a:lnTo>
                    <a:lnTo>
                      <a:pt x="3231" y="409"/>
                    </a:lnTo>
                    <a:lnTo>
                      <a:pt x="3219" y="449"/>
                    </a:lnTo>
                    <a:lnTo>
                      <a:pt x="3181" y="489"/>
                    </a:lnTo>
                    <a:lnTo>
                      <a:pt x="3156" y="539"/>
                    </a:lnTo>
                    <a:lnTo>
                      <a:pt x="3131" y="578"/>
                    </a:lnTo>
                    <a:lnTo>
                      <a:pt x="3093" y="628"/>
                    </a:lnTo>
                    <a:lnTo>
                      <a:pt x="3056" y="668"/>
                    </a:lnTo>
                    <a:lnTo>
                      <a:pt x="3018" y="728"/>
                    </a:lnTo>
                    <a:lnTo>
                      <a:pt x="2981" y="768"/>
                    </a:lnTo>
                    <a:lnTo>
                      <a:pt x="2931" y="808"/>
                    </a:lnTo>
                    <a:lnTo>
                      <a:pt x="2881" y="857"/>
                    </a:lnTo>
                    <a:lnTo>
                      <a:pt x="2818" y="907"/>
                    </a:lnTo>
                    <a:lnTo>
                      <a:pt x="2768" y="947"/>
                    </a:lnTo>
                    <a:lnTo>
                      <a:pt x="2705" y="997"/>
                    </a:lnTo>
                    <a:lnTo>
                      <a:pt x="2668" y="1017"/>
                    </a:lnTo>
                    <a:lnTo>
                      <a:pt x="2643" y="1047"/>
                    </a:lnTo>
                    <a:lnTo>
                      <a:pt x="2605" y="1057"/>
                    </a:lnTo>
                    <a:lnTo>
                      <a:pt x="2580" y="1087"/>
                    </a:lnTo>
                    <a:lnTo>
                      <a:pt x="2530" y="1107"/>
                    </a:lnTo>
                    <a:lnTo>
                      <a:pt x="2492" y="1126"/>
                    </a:lnTo>
                    <a:lnTo>
                      <a:pt x="2455" y="1146"/>
                    </a:lnTo>
                    <a:lnTo>
                      <a:pt x="2417" y="1166"/>
                    </a:lnTo>
                    <a:lnTo>
                      <a:pt x="2380" y="1186"/>
                    </a:lnTo>
                    <a:lnTo>
                      <a:pt x="2342" y="1196"/>
                    </a:lnTo>
                    <a:lnTo>
                      <a:pt x="2304" y="1216"/>
                    </a:lnTo>
                    <a:lnTo>
                      <a:pt x="2267" y="1236"/>
                    </a:lnTo>
                    <a:lnTo>
                      <a:pt x="2229" y="1256"/>
                    </a:lnTo>
                    <a:lnTo>
                      <a:pt x="2179" y="1266"/>
                    </a:lnTo>
                    <a:lnTo>
                      <a:pt x="2142" y="1276"/>
                    </a:lnTo>
                    <a:lnTo>
                      <a:pt x="2104" y="1296"/>
                    </a:lnTo>
                    <a:lnTo>
                      <a:pt x="2066" y="1306"/>
                    </a:lnTo>
                    <a:lnTo>
                      <a:pt x="2016" y="1316"/>
                    </a:lnTo>
                    <a:lnTo>
                      <a:pt x="1979" y="1336"/>
                    </a:lnTo>
                    <a:lnTo>
                      <a:pt x="1941" y="1346"/>
                    </a:lnTo>
                    <a:lnTo>
                      <a:pt x="1904" y="1356"/>
                    </a:lnTo>
                    <a:lnTo>
                      <a:pt x="1866" y="1366"/>
                    </a:lnTo>
                    <a:lnTo>
                      <a:pt x="1816" y="1376"/>
                    </a:lnTo>
                    <a:lnTo>
                      <a:pt x="1778" y="1386"/>
                    </a:lnTo>
                    <a:lnTo>
                      <a:pt x="1728" y="1386"/>
                    </a:lnTo>
                    <a:lnTo>
                      <a:pt x="1703" y="1396"/>
                    </a:lnTo>
                    <a:lnTo>
                      <a:pt x="1653" y="1406"/>
                    </a:lnTo>
                    <a:lnTo>
                      <a:pt x="1616" y="1415"/>
                    </a:lnTo>
                    <a:lnTo>
                      <a:pt x="1566" y="1415"/>
                    </a:lnTo>
                    <a:lnTo>
                      <a:pt x="1540" y="1425"/>
                    </a:lnTo>
                    <a:lnTo>
                      <a:pt x="1490" y="1425"/>
                    </a:lnTo>
                    <a:lnTo>
                      <a:pt x="1453" y="1435"/>
                    </a:lnTo>
                    <a:lnTo>
                      <a:pt x="1415" y="1435"/>
                    </a:lnTo>
                    <a:lnTo>
                      <a:pt x="1378" y="1435"/>
                    </a:lnTo>
                    <a:lnTo>
                      <a:pt x="1340" y="1445"/>
                    </a:lnTo>
                    <a:lnTo>
                      <a:pt x="1302" y="1445"/>
                    </a:lnTo>
                    <a:lnTo>
                      <a:pt x="1265" y="1445"/>
                    </a:lnTo>
                    <a:lnTo>
                      <a:pt x="1227" y="1445"/>
                    </a:lnTo>
                    <a:lnTo>
                      <a:pt x="1177" y="1445"/>
                    </a:lnTo>
                    <a:lnTo>
                      <a:pt x="1152" y="1445"/>
                    </a:lnTo>
                    <a:lnTo>
                      <a:pt x="1102" y="1435"/>
                    </a:lnTo>
                    <a:lnTo>
                      <a:pt x="1065" y="1435"/>
                    </a:lnTo>
                    <a:lnTo>
                      <a:pt x="1039" y="1435"/>
                    </a:lnTo>
                    <a:lnTo>
                      <a:pt x="1002" y="1435"/>
                    </a:lnTo>
                    <a:lnTo>
                      <a:pt x="964" y="1425"/>
                    </a:lnTo>
                    <a:lnTo>
                      <a:pt x="927" y="1415"/>
                    </a:lnTo>
                    <a:lnTo>
                      <a:pt x="902" y="1415"/>
                    </a:lnTo>
                    <a:lnTo>
                      <a:pt x="864" y="1406"/>
                    </a:lnTo>
                    <a:lnTo>
                      <a:pt x="802" y="1396"/>
                    </a:lnTo>
                    <a:lnTo>
                      <a:pt x="751" y="1376"/>
                    </a:lnTo>
                    <a:lnTo>
                      <a:pt x="689" y="1356"/>
                    </a:lnTo>
                    <a:lnTo>
                      <a:pt x="639" y="1336"/>
                    </a:lnTo>
                    <a:lnTo>
                      <a:pt x="589" y="1316"/>
                    </a:lnTo>
                    <a:lnTo>
                      <a:pt x="551" y="1286"/>
                    </a:lnTo>
                    <a:lnTo>
                      <a:pt x="501" y="1256"/>
                    </a:lnTo>
                    <a:lnTo>
                      <a:pt x="476" y="1226"/>
                    </a:lnTo>
                    <a:lnTo>
                      <a:pt x="438" y="1186"/>
                    </a:lnTo>
                    <a:lnTo>
                      <a:pt x="426" y="1156"/>
                    </a:lnTo>
                    <a:lnTo>
                      <a:pt x="0" y="1386"/>
                    </a:lnTo>
                    <a:lnTo>
                      <a:pt x="0" y="1386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883960" y="3055680"/>
                <a:ext cx="442800" cy="221040"/>
              </a:xfrm>
              <a:custGeom>
                <a:avLst/>
                <a:gdLst/>
                <a:ahLst/>
                <a:rect l="l" t="t" r="r" b="b"/>
                <a:pathLst>
                  <a:path w="889" h="478">
                    <a:moveTo>
                      <a:pt x="0" y="89"/>
                    </a:moveTo>
                    <a:lnTo>
                      <a:pt x="13" y="99"/>
                    </a:lnTo>
                    <a:lnTo>
                      <a:pt x="38" y="139"/>
                    </a:lnTo>
                    <a:lnTo>
                      <a:pt x="50" y="159"/>
                    </a:lnTo>
                    <a:lnTo>
                      <a:pt x="75" y="179"/>
                    </a:lnTo>
                    <a:lnTo>
                      <a:pt x="100" y="219"/>
                    </a:lnTo>
                    <a:lnTo>
                      <a:pt x="138" y="249"/>
                    </a:lnTo>
                    <a:lnTo>
                      <a:pt x="163" y="279"/>
                    </a:lnTo>
                    <a:lnTo>
                      <a:pt x="200" y="308"/>
                    </a:lnTo>
                    <a:lnTo>
                      <a:pt x="238" y="338"/>
                    </a:lnTo>
                    <a:lnTo>
                      <a:pt x="276" y="368"/>
                    </a:lnTo>
                    <a:lnTo>
                      <a:pt x="326" y="398"/>
                    </a:lnTo>
                    <a:lnTo>
                      <a:pt x="376" y="418"/>
                    </a:lnTo>
                    <a:lnTo>
                      <a:pt x="426" y="448"/>
                    </a:lnTo>
                    <a:lnTo>
                      <a:pt x="476" y="478"/>
                    </a:lnTo>
                    <a:lnTo>
                      <a:pt x="889" y="368"/>
                    </a:lnTo>
                    <a:lnTo>
                      <a:pt x="877" y="358"/>
                    </a:lnTo>
                    <a:lnTo>
                      <a:pt x="839" y="338"/>
                    </a:lnTo>
                    <a:lnTo>
                      <a:pt x="814" y="318"/>
                    </a:lnTo>
                    <a:lnTo>
                      <a:pt x="777" y="308"/>
                    </a:lnTo>
                    <a:lnTo>
                      <a:pt x="751" y="288"/>
                    </a:lnTo>
                    <a:lnTo>
                      <a:pt x="714" y="269"/>
                    </a:lnTo>
                    <a:lnTo>
                      <a:pt x="676" y="239"/>
                    </a:lnTo>
                    <a:lnTo>
                      <a:pt x="639" y="209"/>
                    </a:lnTo>
                    <a:lnTo>
                      <a:pt x="614" y="179"/>
                    </a:lnTo>
                    <a:lnTo>
                      <a:pt x="576" y="149"/>
                    </a:lnTo>
                    <a:lnTo>
                      <a:pt x="539" y="109"/>
                    </a:lnTo>
                    <a:lnTo>
                      <a:pt x="501" y="79"/>
                    </a:lnTo>
                    <a:lnTo>
                      <a:pt x="463" y="29"/>
                    </a:lnTo>
                    <a:lnTo>
                      <a:pt x="451" y="0"/>
                    </a:lnTo>
                    <a:lnTo>
                      <a:pt x="0" y="89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905360" y="2972520"/>
                <a:ext cx="199440" cy="415080"/>
              </a:xfrm>
              <a:custGeom>
                <a:avLst/>
                <a:gdLst/>
                <a:ahLst/>
                <a:rect l="l" t="t" r="r" b="b"/>
                <a:pathLst>
                  <a:path w="401" h="897">
                    <a:moveTo>
                      <a:pt x="37" y="0"/>
                    </a:moveTo>
                    <a:lnTo>
                      <a:pt x="37" y="0"/>
                    </a:lnTo>
                    <a:lnTo>
                      <a:pt x="25" y="20"/>
                    </a:lnTo>
                    <a:lnTo>
                      <a:pt x="25" y="40"/>
                    </a:lnTo>
                    <a:lnTo>
                      <a:pt x="12" y="70"/>
                    </a:lnTo>
                    <a:lnTo>
                      <a:pt x="0" y="110"/>
                    </a:lnTo>
                    <a:lnTo>
                      <a:pt x="0" y="160"/>
                    </a:lnTo>
                    <a:lnTo>
                      <a:pt x="0" y="189"/>
                    </a:lnTo>
                    <a:lnTo>
                      <a:pt x="0" y="209"/>
                    </a:lnTo>
                    <a:lnTo>
                      <a:pt x="0" y="249"/>
                    </a:lnTo>
                    <a:lnTo>
                      <a:pt x="0" y="279"/>
                    </a:lnTo>
                    <a:lnTo>
                      <a:pt x="0" y="309"/>
                    </a:lnTo>
                    <a:lnTo>
                      <a:pt x="0" y="339"/>
                    </a:lnTo>
                    <a:lnTo>
                      <a:pt x="0" y="369"/>
                    </a:lnTo>
                    <a:lnTo>
                      <a:pt x="12" y="409"/>
                    </a:lnTo>
                    <a:lnTo>
                      <a:pt x="12" y="449"/>
                    </a:lnTo>
                    <a:lnTo>
                      <a:pt x="25" y="478"/>
                    </a:lnTo>
                    <a:lnTo>
                      <a:pt x="37" y="528"/>
                    </a:lnTo>
                    <a:lnTo>
                      <a:pt x="62" y="568"/>
                    </a:lnTo>
                    <a:lnTo>
                      <a:pt x="62" y="598"/>
                    </a:lnTo>
                    <a:lnTo>
                      <a:pt x="88" y="638"/>
                    </a:lnTo>
                    <a:lnTo>
                      <a:pt x="100" y="678"/>
                    </a:lnTo>
                    <a:lnTo>
                      <a:pt x="125" y="718"/>
                    </a:lnTo>
                    <a:lnTo>
                      <a:pt x="150" y="767"/>
                    </a:lnTo>
                    <a:lnTo>
                      <a:pt x="175" y="807"/>
                    </a:lnTo>
                    <a:lnTo>
                      <a:pt x="213" y="847"/>
                    </a:lnTo>
                    <a:lnTo>
                      <a:pt x="250" y="897"/>
                    </a:lnTo>
                    <a:lnTo>
                      <a:pt x="238" y="877"/>
                    </a:lnTo>
                    <a:lnTo>
                      <a:pt x="238" y="857"/>
                    </a:lnTo>
                    <a:lnTo>
                      <a:pt x="238" y="837"/>
                    </a:lnTo>
                    <a:lnTo>
                      <a:pt x="250" y="817"/>
                    </a:lnTo>
                    <a:lnTo>
                      <a:pt x="250" y="787"/>
                    </a:lnTo>
                    <a:lnTo>
                      <a:pt x="263" y="767"/>
                    </a:lnTo>
                    <a:lnTo>
                      <a:pt x="263" y="728"/>
                    </a:lnTo>
                    <a:lnTo>
                      <a:pt x="275" y="688"/>
                    </a:lnTo>
                    <a:lnTo>
                      <a:pt x="288" y="648"/>
                    </a:lnTo>
                    <a:lnTo>
                      <a:pt x="313" y="608"/>
                    </a:lnTo>
                    <a:lnTo>
                      <a:pt x="313" y="578"/>
                    </a:lnTo>
                    <a:lnTo>
                      <a:pt x="325" y="558"/>
                    </a:lnTo>
                    <a:lnTo>
                      <a:pt x="325" y="528"/>
                    </a:lnTo>
                    <a:lnTo>
                      <a:pt x="351" y="508"/>
                    </a:lnTo>
                    <a:lnTo>
                      <a:pt x="351" y="468"/>
                    </a:lnTo>
                    <a:lnTo>
                      <a:pt x="376" y="449"/>
                    </a:lnTo>
                    <a:lnTo>
                      <a:pt x="388" y="419"/>
                    </a:lnTo>
                    <a:lnTo>
                      <a:pt x="401" y="389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173200" y="3225960"/>
                <a:ext cx="268200" cy="345960"/>
              </a:xfrm>
              <a:custGeom>
                <a:avLst/>
                <a:gdLst/>
                <a:ahLst/>
                <a:rect l="l" t="t" r="r" b="b"/>
                <a:pathLst>
                  <a:path w="539" h="748">
                    <a:moveTo>
                      <a:pt x="126" y="0"/>
                    </a:moveTo>
                    <a:lnTo>
                      <a:pt x="113" y="10"/>
                    </a:lnTo>
                    <a:lnTo>
                      <a:pt x="88" y="40"/>
                    </a:lnTo>
                    <a:lnTo>
                      <a:pt x="88" y="60"/>
                    </a:lnTo>
                    <a:lnTo>
                      <a:pt x="76" y="100"/>
                    </a:lnTo>
                    <a:lnTo>
                      <a:pt x="63" y="130"/>
                    </a:lnTo>
                    <a:lnTo>
                      <a:pt x="50" y="170"/>
                    </a:lnTo>
                    <a:lnTo>
                      <a:pt x="38" y="209"/>
                    </a:lnTo>
                    <a:lnTo>
                      <a:pt x="25" y="249"/>
                    </a:lnTo>
                    <a:lnTo>
                      <a:pt x="13" y="269"/>
                    </a:lnTo>
                    <a:lnTo>
                      <a:pt x="13" y="299"/>
                    </a:lnTo>
                    <a:lnTo>
                      <a:pt x="13" y="319"/>
                    </a:lnTo>
                    <a:lnTo>
                      <a:pt x="13" y="349"/>
                    </a:lnTo>
                    <a:lnTo>
                      <a:pt x="0" y="369"/>
                    </a:lnTo>
                    <a:lnTo>
                      <a:pt x="0" y="399"/>
                    </a:lnTo>
                    <a:lnTo>
                      <a:pt x="0" y="429"/>
                    </a:lnTo>
                    <a:lnTo>
                      <a:pt x="0" y="449"/>
                    </a:lnTo>
                    <a:lnTo>
                      <a:pt x="0" y="479"/>
                    </a:lnTo>
                    <a:lnTo>
                      <a:pt x="0" y="508"/>
                    </a:lnTo>
                    <a:lnTo>
                      <a:pt x="0" y="538"/>
                    </a:lnTo>
                    <a:lnTo>
                      <a:pt x="0" y="558"/>
                    </a:lnTo>
                    <a:lnTo>
                      <a:pt x="389" y="748"/>
                    </a:lnTo>
                    <a:lnTo>
                      <a:pt x="389" y="738"/>
                    </a:lnTo>
                    <a:lnTo>
                      <a:pt x="389" y="708"/>
                    </a:lnTo>
                    <a:lnTo>
                      <a:pt x="389" y="678"/>
                    </a:lnTo>
                    <a:lnTo>
                      <a:pt x="389" y="648"/>
                    </a:lnTo>
                    <a:lnTo>
                      <a:pt x="401" y="618"/>
                    </a:lnTo>
                    <a:lnTo>
                      <a:pt x="401" y="588"/>
                    </a:lnTo>
                    <a:lnTo>
                      <a:pt x="414" y="538"/>
                    </a:lnTo>
                    <a:lnTo>
                      <a:pt x="426" y="498"/>
                    </a:lnTo>
                    <a:lnTo>
                      <a:pt x="439" y="449"/>
                    </a:lnTo>
                    <a:lnTo>
                      <a:pt x="451" y="399"/>
                    </a:lnTo>
                    <a:lnTo>
                      <a:pt x="451" y="369"/>
                    </a:lnTo>
                    <a:lnTo>
                      <a:pt x="464" y="349"/>
                    </a:lnTo>
                    <a:lnTo>
                      <a:pt x="476" y="319"/>
                    </a:lnTo>
                    <a:lnTo>
                      <a:pt x="476" y="289"/>
                    </a:lnTo>
                    <a:lnTo>
                      <a:pt x="489" y="259"/>
                    </a:lnTo>
                    <a:lnTo>
                      <a:pt x="501" y="229"/>
                    </a:lnTo>
                    <a:lnTo>
                      <a:pt x="514" y="200"/>
                    </a:lnTo>
                    <a:lnTo>
                      <a:pt x="539" y="17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91440" y="3355200"/>
                <a:ext cx="324000" cy="304200"/>
              </a:xfrm>
              <a:custGeom>
                <a:avLst/>
                <a:gdLst/>
                <a:ahLst/>
                <a:rect l="l" t="t" r="r" b="b"/>
                <a:pathLst>
                  <a:path w="651" h="658">
                    <a:moveTo>
                      <a:pt x="238" y="0"/>
                    </a:moveTo>
                    <a:lnTo>
                      <a:pt x="238" y="10"/>
                    </a:lnTo>
                    <a:lnTo>
                      <a:pt x="226" y="50"/>
                    </a:lnTo>
                    <a:lnTo>
                      <a:pt x="213" y="80"/>
                    </a:lnTo>
                    <a:lnTo>
                      <a:pt x="200" y="110"/>
                    </a:lnTo>
                    <a:lnTo>
                      <a:pt x="188" y="150"/>
                    </a:lnTo>
                    <a:lnTo>
                      <a:pt x="188" y="190"/>
                    </a:lnTo>
                    <a:lnTo>
                      <a:pt x="163" y="229"/>
                    </a:lnTo>
                    <a:lnTo>
                      <a:pt x="150" y="279"/>
                    </a:lnTo>
                    <a:lnTo>
                      <a:pt x="138" y="299"/>
                    </a:lnTo>
                    <a:lnTo>
                      <a:pt x="125" y="329"/>
                    </a:lnTo>
                    <a:lnTo>
                      <a:pt x="113" y="349"/>
                    </a:lnTo>
                    <a:lnTo>
                      <a:pt x="100" y="379"/>
                    </a:lnTo>
                    <a:lnTo>
                      <a:pt x="75" y="429"/>
                    </a:lnTo>
                    <a:lnTo>
                      <a:pt x="50" y="479"/>
                    </a:lnTo>
                    <a:lnTo>
                      <a:pt x="38" y="498"/>
                    </a:lnTo>
                    <a:lnTo>
                      <a:pt x="25" y="528"/>
                    </a:lnTo>
                    <a:lnTo>
                      <a:pt x="0" y="558"/>
                    </a:lnTo>
                    <a:lnTo>
                      <a:pt x="0" y="588"/>
                    </a:lnTo>
                    <a:lnTo>
                      <a:pt x="388" y="658"/>
                    </a:lnTo>
                    <a:lnTo>
                      <a:pt x="388" y="648"/>
                    </a:lnTo>
                    <a:lnTo>
                      <a:pt x="426" y="608"/>
                    </a:lnTo>
                    <a:lnTo>
                      <a:pt x="438" y="578"/>
                    </a:lnTo>
                    <a:lnTo>
                      <a:pt x="463" y="548"/>
                    </a:lnTo>
                    <a:lnTo>
                      <a:pt x="489" y="508"/>
                    </a:lnTo>
                    <a:lnTo>
                      <a:pt x="514" y="479"/>
                    </a:lnTo>
                    <a:lnTo>
                      <a:pt x="539" y="429"/>
                    </a:lnTo>
                    <a:lnTo>
                      <a:pt x="564" y="389"/>
                    </a:lnTo>
                    <a:lnTo>
                      <a:pt x="576" y="339"/>
                    </a:lnTo>
                    <a:lnTo>
                      <a:pt x="601" y="299"/>
                    </a:lnTo>
                    <a:lnTo>
                      <a:pt x="614" y="269"/>
                    </a:lnTo>
                    <a:lnTo>
                      <a:pt x="614" y="239"/>
                    </a:lnTo>
                    <a:lnTo>
                      <a:pt x="626" y="209"/>
                    </a:lnTo>
                    <a:lnTo>
                      <a:pt x="639" y="190"/>
                    </a:lnTo>
                    <a:lnTo>
                      <a:pt x="639" y="160"/>
                    </a:lnTo>
                    <a:lnTo>
                      <a:pt x="639" y="140"/>
                    </a:lnTo>
                    <a:lnTo>
                      <a:pt x="639" y="110"/>
                    </a:lnTo>
                    <a:lnTo>
                      <a:pt x="651" y="90"/>
                    </a:lnTo>
                    <a:lnTo>
                      <a:pt x="238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208920" y="3392280"/>
                <a:ext cx="336960" cy="248760"/>
              </a:xfrm>
              <a:custGeom>
                <a:avLst/>
                <a:gdLst/>
                <a:ahLst/>
                <a:rect l="l" t="t" r="r" b="b"/>
                <a:pathLst>
                  <a:path w="677" h="538">
                    <a:moveTo>
                      <a:pt x="176" y="80"/>
                    </a:moveTo>
                    <a:lnTo>
                      <a:pt x="163" y="90"/>
                    </a:lnTo>
                    <a:lnTo>
                      <a:pt x="163" y="120"/>
                    </a:lnTo>
                    <a:lnTo>
                      <a:pt x="151" y="129"/>
                    </a:lnTo>
                    <a:lnTo>
                      <a:pt x="151" y="159"/>
                    </a:lnTo>
                    <a:lnTo>
                      <a:pt x="151" y="189"/>
                    </a:lnTo>
                    <a:lnTo>
                      <a:pt x="138" y="219"/>
                    </a:lnTo>
                    <a:lnTo>
                      <a:pt x="126" y="249"/>
                    </a:lnTo>
                    <a:lnTo>
                      <a:pt x="113" y="289"/>
                    </a:lnTo>
                    <a:lnTo>
                      <a:pt x="88" y="329"/>
                    </a:lnTo>
                    <a:lnTo>
                      <a:pt x="76" y="369"/>
                    </a:lnTo>
                    <a:lnTo>
                      <a:pt x="63" y="409"/>
                    </a:lnTo>
                    <a:lnTo>
                      <a:pt x="50" y="448"/>
                    </a:lnTo>
                    <a:lnTo>
                      <a:pt x="25" y="498"/>
                    </a:lnTo>
                    <a:lnTo>
                      <a:pt x="0" y="538"/>
                    </a:lnTo>
                    <a:lnTo>
                      <a:pt x="25" y="538"/>
                    </a:lnTo>
                    <a:lnTo>
                      <a:pt x="63" y="528"/>
                    </a:lnTo>
                    <a:lnTo>
                      <a:pt x="88" y="518"/>
                    </a:lnTo>
                    <a:lnTo>
                      <a:pt x="138" y="508"/>
                    </a:lnTo>
                    <a:lnTo>
                      <a:pt x="176" y="488"/>
                    </a:lnTo>
                    <a:lnTo>
                      <a:pt x="226" y="458"/>
                    </a:lnTo>
                    <a:lnTo>
                      <a:pt x="276" y="438"/>
                    </a:lnTo>
                    <a:lnTo>
                      <a:pt x="326" y="409"/>
                    </a:lnTo>
                    <a:lnTo>
                      <a:pt x="376" y="369"/>
                    </a:lnTo>
                    <a:lnTo>
                      <a:pt x="426" y="319"/>
                    </a:lnTo>
                    <a:lnTo>
                      <a:pt x="464" y="279"/>
                    </a:lnTo>
                    <a:lnTo>
                      <a:pt x="526" y="229"/>
                    </a:lnTo>
                    <a:lnTo>
                      <a:pt x="539" y="199"/>
                    </a:lnTo>
                    <a:lnTo>
                      <a:pt x="564" y="179"/>
                    </a:lnTo>
                    <a:lnTo>
                      <a:pt x="576" y="149"/>
                    </a:lnTo>
                    <a:lnTo>
                      <a:pt x="602" y="120"/>
                    </a:lnTo>
                    <a:lnTo>
                      <a:pt x="627" y="90"/>
                    </a:lnTo>
                    <a:lnTo>
                      <a:pt x="639" y="60"/>
                    </a:lnTo>
                    <a:lnTo>
                      <a:pt x="652" y="20"/>
                    </a:lnTo>
                    <a:lnTo>
                      <a:pt x="677" y="0"/>
                    </a:lnTo>
                    <a:lnTo>
                      <a:pt x="176" y="80"/>
                    </a:lnTo>
                    <a:lnTo>
                      <a:pt x="176" y="8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611000" y="4438800"/>
                <a:ext cx="598680" cy="318240"/>
              </a:xfrm>
              <a:custGeom>
                <a:avLst/>
                <a:gdLst/>
                <a:ahLst/>
                <a:rect l="l" t="t" r="r" b="b"/>
                <a:pathLst>
                  <a:path w="1202" h="688">
                    <a:moveTo>
                      <a:pt x="752" y="0"/>
                    </a:moveTo>
                    <a:lnTo>
                      <a:pt x="739" y="0"/>
                    </a:lnTo>
                    <a:lnTo>
                      <a:pt x="726" y="20"/>
                    </a:lnTo>
                    <a:lnTo>
                      <a:pt x="714" y="30"/>
                    </a:lnTo>
                    <a:lnTo>
                      <a:pt x="701" y="60"/>
                    </a:lnTo>
                    <a:lnTo>
                      <a:pt x="676" y="90"/>
                    </a:lnTo>
                    <a:lnTo>
                      <a:pt x="639" y="120"/>
                    </a:lnTo>
                    <a:lnTo>
                      <a:pt x="601" y="169"/>
                    </a:lnTo>
                    <a:lnTo>
                      <a:pt x="564" y="209"/>
                    </a:lnTo>
                    <a:lnTo>
                      <a:pt x="501" y="249"/>
                    </a:lnTo>
                    <a:lnTo>
                      <a:pt x="451" y="309"/>
                    </a:lnTo>
                    <a:lnTo>
                      <a:pt x="426" y="329"/>
                    </a:lnTo>
                    <a:lnTo>
                      <a:pt x="401" y="349"/>
                    </a:lnTo>
                    <a:lnTo>
                      <a:pt x="363" y="379"/>
                    </a:lnTo>
                    <a:lnTo>
                      <a:pt x="326" y="409"/>
                    </a:lnTo>
                    <a:lnTo>
                      <a:pt x="288" y="428"/>
                    </a:lnTo>
                    <a:lnTo>
                      <a:pt x="251" y="458"/>
                    </a:lnTo>
                    <a:lnTo>
                      <a:pt x="213" y="478"/>
                    </a:lnTo>
                    <a:lnTo>
                      <a:pt x="163" y="508"/>
                    </a:lnTo>
                    <a:lnTo>
                      <a:pt x="125" y="528"/>
                    </a:lnTo>
                    <a:lnTo>
                      <a:pt x="88" y="558"/>
                    </a:lnTo>
                    <a:lnTo>
                      <a:pt x="38" y="588"/>
                    </a:lnTo>
                    <a:lnTo>
                      <a:pt x="0" y="618"/>
                    </a:lnTo>
                    <a:lnTo>
                      <a:pt x="476" y="688"/>
                    </a:lnTo>
                    <a:lnTo>
                      <a:pt x="476" y="678"/>
                    </a:lnTo>
                    <a:lnTo>
                      <a:pt x="489" y="678"/>
                    </a:lnTo>
                    <a:lnTo>
                      <a:pt x="514" y="668"/>
                    </a:lnTo>
                    <a:lnTo>
                      <a:pt x="551" y="658"/>
                    </a:lnTo>
                    <a:lnTo>
                      <a:pt x="589" y="628"/>
                    </a:lnTo>
                    <a:lnTo>
                      <a:pt x="639" y="618"/>
                    </a:lnTo>
                    <a:lnTo>
                      <a:pt x="701" y="588"/>
                    </a:lnTo>
                    <a:lnTo>
                      <a:pt x="764" y="558"/>
                    </a:lnTo>
                    <a:lnTo>
                      <a:pt x="814" y="518"/>
                    </a:lnTo>
                    <a:lnTo>
                      <a:pt x="877" y="478"/>
                    </a:lnTo>
                    <a:lnTo>
                      <a:pt x="902" y="448"/>
                    </a:lnTo>
                    <a:lnTo>
                      <a:pt x="939" y="428"/>
                    </a:lnTo>
                    <a:lnTo>
                      <a:pt x="964" y="399"/>
                    </a:lnTo>
                    <a:lnTo>
                      <a:pt x="1002" y="369"/>
                    </a:lnTo>
                    <a:lnTo>
                      <a:pt x="1027" y="329"/>
                    </a:lnTo>
                    <a:lnTo>
                      <a:pt x="1052" y="299"/>
                    </a:lnTo>
                    <a:lnTo>
                      <a:pt x="1077" y="259"/>
                    </a:lnTo>
                    <a:lnTo>
                      <a:pt x="1115" y="229"/>
                    </a:lnTo>
                    <a:lnTo>
                      <a:pt x="1127" y="189"/>
                    </a:lnTo>
                    <a:lnTo>
                      <a:pt x="1152" y="149"/>
                    </a:lnTo>
                    <a:lnTo>
                      <a:pt x="1177" y="110"/>
                    </a:lnTo>
                    <a:lnTo>
                      <a:pt x="1202" y="60"/>
                    </a:lnTo>
                    <a:lnTo>
                      <a:pt x="752" y="0"/>
                    </a:lnTo>
                    <a:lnTo>
                      <a:pt x="752" y="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16800" y="4489920"/>
                <a:ext cx="380520" cy="253440"/>
              </a:xfrm>
              <a:custGeom>
                <a:avLst/>
                <a:gdLst/>
                <a:ahLst/>
                <a:rect l="l" t="t" r="r" b="b"/>
                <a:pathLst>
                  <a:path w="764" h="548">
                    <a:moveTo>
                      <a:pt x="475" y="0"/>
                    </a:moveTo>
                    <a:lnTo>
                      <a:pt x="463" y="10"/>
                    </a:lnTo>
                    <a:lnTo>
                      <a:pt x="450" y="49"/>
                    </a:lnTo>
                    <a:lnTo>
                      <a:pt x="438" y="69"/>
                    </a:lnTo>
                    <a:lnTo>
                      <a:pt x="425" y="99"/>
                    </a:lnTo>
                    <a:lnTo>
                      <a:pt x="400" y="139"/>
                    </a:lnTo>
                    <a:lnTo>
                      <a:pt x="375" y="179"/>
                    </a:lnTo>
                    <a:lnTo>
                      <a:pt x="338" y="209"/>
                    </a:lnTo>
                    <a:lnTo>
                      <a:pt x="313" y="259"/>
                    </a:lnTo>
                    <a:lnTo>
                      <a:pt x="275" y="299"/>
                    </a:lnTo>
                    <a:lnTo>
                      <a:pt x="238" y="348"/>
                    </a:lnTo>
                    <a:lnTo>
                      <a:pt x="175" y="398"/>
                    </a:lnTo>
                    <a:lnTo>
                      <a:pt x="125" y="448"/>
                    </a:lnTo>
                    <a:lnTo>
                      <a:pt x="100" y="468"/>
                    </a:lnTo>
                    <a:lnTo>
                      <a:pt x="62" y="498"/>
                    </a:lnTo>
                    <a:lnTo>
                      <a:pt x="25" y="518"/>
                    </a:lnTo>
                    <a:lnTo>
                      <a:pt x="0" y="548"/>
                    </a:lnTo>
                    <a:lnTo>
                      <a:pt x="25" y="538"/>
                    </a:lnTo>
                    <a:lnTo>
                      <a:pt x="50" y="538"/>
                    </a:lnTo>
                    <a:lnTo>
                      <a:pt x="87" y="538"/>
                    </a:lnTo>
                    <a:lnTo>
                      <a:pt x="125" y="538"/>
                    </a:lnTo>
                    <a:lnTo>
                      <a:pt x="175" y="528"/>
                    </a:lnTo>
                    <a:lnTo>
                      <a:pt x="225" y="518"/>
                    </a:lnTo>
                    <a:lnTo>
                      <a:pt x="275" y="518"/>
                    </a:lnTo>
                    <a:lnTo>
                      <a:pt x="325" y="508"/>
                    </a:lnTo>
                    <a:lnTo>
                      <a:pt x="375" y="488"/>
                    </a:lnTo>
                    <a:lnTo>
                      <a:pt x="425" y="478"/>
                    </a:lnTo>
                    <a:lnTo>
                      <a:pt x="488" y="458"/>
                    </a:lnTo>
                    <a:lnTo>
                      <a:pt x="551" y="448"/>
                    </a:lnTo>
                    <a:lnTo>
                      <a:pt x="601" y="428"/>
                    </a:lnTo>
                    <a:lnTo>
                      <a:pt x="651" y="408"/>
                    </a:lnTo>
                    <a:lnTo>
                      <a:pt x="713" y="388"/>
                    </a:lnTo>
                    <a:lnTo>
                      <a:pt x="764" y="368"/>
                    </a:lnTo>
                    <a:lnTo>
                      <a:pt x="475" y="0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774320" y="4056120"/>
                <a:ext cx="324000" cy="410400"/>
              </a:xfrm>
              <a:custGeom>
                <a:avLst/>
                <a:gdLst/>
                <a:ahLst/>
                <a:rect l="l" t="t" r="r" b="b"/>
                <a:pathLst>
                  <a:path w="651" h="887">
                    <a:moveTo>
                      <a:pt x="175" y="149"/>
                    </a:moveTo>
                    <a:lnTo>
                      <a:pt x="175" y="149"/>
                    </a:lnTo>
                    <a:lnTo>
                      <a:pt x="175" y="169"/>
                    </a:lnTo>
                    <a:lnTo>
                      <a:pt x="175" y="179"/>
                    </a:lnTo>
                    <a:lnTo>
                      <a:pt x="175" y="209"/>
                    </a:lnTo>
                    <a:lnTo>
                      <a:pt x="163" y="229"/>
                    </a:lnTo>
                    <a:lnTo>
                      <a:pt x="163" y="269"/>
                    </a:lnTo>
                    <a:lnTo>
                      <a:pt x="163" y="309"/>
                    </a:lnTo>
                    <a:lnTo>
                      <a:pt x="163" y="359"/>
                    </a:lnTo>
                    <a:lnTo>
                      <a:pt x="150" y="379"/>
                    </a:lnTo>
                    <a:lnTo>
                      <a:pt x="150" y="408"/>
                    </a:lnTo>
                    <a:lnTo>
                      <a:pt x="138" y="438"/>
                    </a:lnTo>
                    <a:lnTo>
                      <a:pt x="138" y="468"/>
                    </a:lnTo>
                    <a:lnTo>
                      <a:pt x="125" y="498"/>
                    </a:lnTo>
                    <a:lnTo>
                      <a:pt x="113" y="528"/>
                    </a:lnTo>
                    <a:lnTo>
                      <a:pt x="113" y="558"/>
                    </a:lnTo>
                    <a:lnTo>
                      <a:pt x="100" y="598"/>
                    </a:lnTo>
                    <a:lnTo>
                      <a:pt x="87" y="628"/>
                    </a:lnTo>
                    <a:lnTo>
                      <a:pt x="87" y="658"/>
                    </a:lnTo>
                    <a:lnTo>
                      <a:pt x="75" y="697"/>
                    </a:lnTo>
                    <a:lnTo>
                      <a:pt x="62" y="737"/>
                    </a:lnTo>
                    <a:lnTo>
                      <a:pt x="37" y="767"/>
                    </a:lnTo>
                    <a:lnTo>
                      <a:pt x="25" y="807"/>
                    </a:lnTo>
                    <a:lnTo>
                      <a:pt x="12" y="847"/>
                    </a:lnTo>
                    <a:lnTo>
                      <a:pt x="0" y="887"/>
                    </a:lnTo>
                    <a:lnTo>
                      <a:pt x="451" y="737"/>
                    </a:lnTo>
                    <a:lnTo>
                      <a:pt x="451" y="717"/>
                    </a:lnTo>
                    <a:lnTo>
                      <a:pt x="476" y="687"/>
                    </a:lnTo>
                    <a:lnTo>
                      <a:pt x="488" y="658"/>
                    </a:lnTo>
                    <a:lnTo>
                      <a:pt x="501" y="628"/>
                    </a:lnTo>
                    <a:lnTo>
                      <a:pt x="526" y="598"/>
                    </a:lnTo>
                    <a:lnTo>
                      <a:pt x="551" y="558"/>
                    </a:lnTo>
                    <a:lnTo>
                      <a:pt x="551" y="528"/>
                    </a:lnTo>
                    <a:lnTo>
                      <a:pt x="563" y="508"/>
                    </a:lnTo>
                    <a:lnTo>
                      <a:pt x="563" y="478"/>
                    </a:lnTo>
                    <a:lnTo>
                      <a:pt x="576" y="448"/>
                    </a:lnTo>
                    <a:lnTo>
                      <a:pt x="576" y="418"/>
                    </a:lnTo>
                    <a:lnTo>
                      <a:pt x="588" y="389"/>
                    </a:lnTo>
                    <a:lnTo>
                      <a:pt x="601" y="359"/>
                    </a:lnTo>
                    <a:lnTo>
                      <a:pt x="614" y="329"/>
                    </a:lnTo>
                    <a:lnTo>
                      <a:pt x="614" y="289"/>
                    </a:lnTo>
                    <a:lnTo>
                      <a:pt x="626" y="249"/>
                    </a:lnTo>
                    <a:lnTo>
                      <a:pt x="626" y="209"/>
                    </a:lnTo>
                    <a:lnTo>
                      <a:pt x="639" y="169"/>
                    </a:lnTo>
                    <a:lnTo>
                      <a:pt x="639" y="129"/>
                    </a:lnTo>
                    <a:lnTo>
                      <a:pt x="639" y="90"/>
                    </a:lnTo>
                    <a:lnTo>
                      <a:pt x="639" y="40"/>
                    </a:lnTo>
                    <a:lnTo>
                      <a:pt x="651" y="0"/>
                    </a:lnTo>
                    <a:lnTo>
                      <a:pt x="175" y="149"/>
                    </a:lnTo>
                    <a:lnTo>
                      <a:pt x="175" y="149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294680" y="4388040"/>
                <a:ext cx="374040" cy="332280"/>
              </a:xfrm>
              <a:custGeom>
                <a:avLst/>
                <a:gdLst/>
                <a:ahLst/>
                <a:rect l="l" t="t" r="r" b="b"/>
                <a:pathLst>
                  <a:path w="751" h="718">
                    <a:moveTo>
                      <a:pt x="212" y="0"/>
                    </a:moveTo>
                    <a:lnTo>
                      <a:pt x="212" y="10"/>
                    </a:lnTo>
                    <a:lnTo>
                      <a:pt x="212" y="30"/>
                    </a:lnTo>
                    <a:lnTo>
                      <a:pt x="212" y="50"/>
                    </a:lnTo>
                    <a:lnTo>
                      <a:pt x="200" y="80"/>
                    </a:lnTo>
                    <a:lnTo>
                      <a:pt x="200" y="120"/>
                    </a:lnTo>
                    <a:lnTo>
                      <a:pt x="200" y="140"/>
                    </a:lnTo>
                    <a:lnTo>
                      <a:pt x="200" y="160"/>
                    </a:lnTo>
                    <a:lnTo>
                      <a:pt x="200" y="180"/>
                    </a:lnTo>
                    <a:lnTo>
                      <a:pt x="200" y="210"/>
                    </a:lnTo>
                    <a:lnTo>
                      <a:pt x="187" y="230"/>
                    </a:lnTo>
                    <a:lnTo>
                      <a:pt x="187" y="259"/>
                    </a:lnTo>
                    <a:lnTo>
                      <a:pt x="175" y="289"/>
                    </a:lnTo>
                    <a:lnTo>
                      <a:pt x="175" y="319"/>
                    </a:lnTo>
                    <a:lnTo>
                      <a:pt x="162" y="349"/>
                    </a:lnTo>
                    <a:lnTo>
                      <a:pt x="150" y="369"/>
                    </a:lnTo>
                    <a:lnTo>
                      <a:pt x="137" y="409"/>
                    </a:lnTo>
                    <a:lnTo>
                      <a:pt x="137" y="439"/>
                    </a:lnTo>
                    <a:lnTo>
                      <a:pt x="125" y="469"/>
                    </a:lnTo>
                    <a:lnTo>
                      <a:pt x="112" y="499"/>
                    </a:lnTo>
                    <a:lnTo>
                      <a:pt x="87" y="538"/>
                    </a:lnTo>
                    <a:lnTo>
                      <a:pt x="75" y="568"/>
                    </a:lnTo>
                    <a:lnTo>
                      <a:pt x="50" y="608"/>
                    </a:lnTo>
                    <a:lnTo>
                      <a:pt x="37" y="648"/>
                    </a:lnTo>
                    <a:lnTo>
                      <a:pt x="25" y="678"/>
                    </a:lnTo>
                    <a:lnTo>
                      <a:pt x="0" y="718"/>
                    </a:lnTo>
                    <a:lnTo>
                      <a:pt x="25" y="708"/>
                    </a:lnTo>
                    <a:lnTo>
                      <a:pt x="62" y="688"/>
                    </a:lnTo>
                    <a:lnTo>
                      <a:pt x="112" y="678"/>
                    </a:lnTo>
                    <a:lnTo>
                      <a:pt x="125" y="658"/>
                    </a:lnTo>
                    <a:lnTo>
                      <a:pt x="162" y="648"/>
                    </a:lnTo>
                    <a:lnTo>
                      <a:pt x="187" y="628"/>
                    </a:lnTo>
                    <a:lnTo>
                      <a:pt x="225" y="618"/>
                    </a:lnTo>
                    <a:lnTo>
                      <a:pt x="250" y="598"/>
                    </a:lnTo>
                    <a:lnTo>
                      <a:pt x="288" y="588"/>
                    </a:lnTo>
                    <a:lnTo>
                      <a:pt x="325" y="568"/>
                    </a:lnTo>
                    <a:lnTo>
                      <a:pt x="363" y="548"/>
                    </a:lnTo>
                    <a:lnTo>
                      <a:pt x="388" y="528"/>
                    </a:lnTo>
                    <a:lnTo>
                      <a:pt x="425" y="499"/>
                    </a:lnTo>
                    <a:lnTo>
                      <a:pt x="450" y="479"/>
                    </a:lnTo>
                    <a:lnTo>
                      <a:pt x="488" y="459"/>
                    </a:lnTo>
                    <a:lnTo>
                      <a:pt x="513" y="429"/>
                    </a:lnTo>
                    <a:lnTo>
                      <a:pt x="551" y="399"/>
                    </a:lnTo>
                    <a:lnTo>
                      <a:pt x="576" y="369"/>
                    </a:lnTo>
                    <a:lnTo>
                      <a:pt x="613" y="349"/>
                    </a:lnTo>
                    <a:lnTo>
                      <a:pt x="638" y="319"/>
                    </a:lnTo>
                    <a:lnTo>
                      <a:pt x="663" y="289"/>
                    </a:lnTo>
                    <a:lnTo>
                      <a:pt x="676" y="249"/>
                    </a:lnTo>
                    <a:lnTo>
                      <a:pt x="701" y="230"/>
                    </a:lnTo>
                    <a:lnTo>
                      <a:pt x="713" y="190"/>
                    </a:lnTo>
                    <a:lnTo>
                      <a:pt x="738" y="160"/>
                    </a:lnTo>
                    <a:lnTo>
                      <a:pt x="751" y="130"/>
                    </a:lnTo>
                    <a:lnTo>
                      <a:pt x="751" y="100"/>
                    </a:lnTo>
                    <a:lnTo>
                      <a:pt x="212" y="0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859720" y="3415320"/>
                <a:ext cx="299160" cy="262800"/>
              </a:xfrm>
              <a:custGeom>
                <a:avLst/>
                <a:gdLst/>
                <a:ahLst/>
                <a:rect l="l" t="t" r="r" b="b"/>
                <a:pathLst>
                  <a:path w="601" h="568">
                    <a:moveTo>
                      <a:pt x="213" y="0"/>
                    </a:moveTo>
                    <a:lnTo>
                      <a:pt x="213" y="20"/>
                    </a:lnTo>
                    <a:lnTo>
                      <a:pt x="213" y="40"/>
                    </a:lnTo>
                    <a:lnTo>
                      <a:pt x="200" y="70"/>
                    </a:lnTo>
                    <a:lnTo>
                      <a:pt x="200" y="109"/>
                    </a:lnTo>
                    <a:lnTo>
                      <a:pt x="188" y="139"/>
                    </a:lnTo>
                    <a:lnTo>
                      <a:pt x="175" y="179"/>
                    </a:lnTo>
                    <a:lnTo>
                      <a:pt x="163" y="219"/>
                    </a:lnTo>
                    <a:lnTo>
                      <a:pt x="150" y="259"/>
                    </a:lnTo>
                    <a:lnTo>
                      <a:pt x="138" y="299"/>
                    </a:lnTo>
                    <a:lnTo>
                      <a:pt x="113" y="339"/>
                    </a:lnTo>
                    <a:lnTo>
                      <a:pt x="100" y="378"/>
                    </a:lnTo>
                    <a:lnTo>
                      <a:pt x="75" y="418"/>
                    </a:lnTo>
                    <a:lnTo>
                      <a:pt x="63" y="458"/>
                    </a:lnTo>
                    <a:lnTo>
                      <a:pt x="38" y="488"/>
                    </a:lnTo>
                    <a:lnTo>
                      <a:pt x="13" y="528"/>
                    </a:lnTo>
                    <a:lnTo>
                      <a:pt x="0" y="558"/>
                    </a:lnTo>
                    <a:lnTo>
                      <a:pt x="363" y="568"/>
                    </a:lnTo>
                    <a:lnTo>
                      <a:pt x="376" y="558"/>
                    </a:lnTo>
                    <a:lnTo>
                      <a:pt x="401" y="518"/>
                    </a:lnTo>
                    <a:lnTo>
                      <a:pt x="413" y="488"/>
                    </a:lnTo>
                    <a:lnTo>
                      <a:pt x="438" y="468"/>
                    </a:lnTo>
                    <a:lnTo>
                      <a:pt x="451" y="428"/>
                    </a:lnTo>
                    <a:lnTo>
                      <a:pt x="476" y="398"/>
                    </a:lnTo>
                    <a:lnTo>
                      <a:pt x="501" y="359"/>
                    </a:lnTo>
                    <a:lnTo>
                      <a:pt x="526" y="319"/>
                    </a:lnTo>
                    <a:lnTo>
                      <a:pt x="539" y="269"/>
                    </a:lnTo>
                    <a:lnTo>
                      <a:pt x="564" y="219"/>
                    </a:lnTo>
                    <a:lnTo>
                      <a:pt x="576" y="169"/>
                    </a:lnTo>
                    <a:lnTo>
                      <a:pt x="589" y="129"/>
                    </a:lnTo>
                    <a:lnTo>
                      <a:pt x="589" y="79"/>
                    </a:lnTo>
                    <a:lnTo>
                      <a:pt x="601" y="30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509560" y="3129480"/>
                <a:ext cx="430200" cy="165960"/>
              </a:xfrm>
              <a:custGeom>
                <a:avLst/>
                <a:gdLst/>
                <a:ahLst/>
                <a:rect l="l" t="t" r="r" b="b"/>
                <a:pathLst>
                  <a:path w="864" h="359">
                    <a:moveTo>
                      <a:pt x="0" y="10"/>
                    </a:moveTo>
                    <a:lnTo>
                      <a:pt x="12" y="30"/>
                    </a:lnTo>
                    <a:lnTo>
                      <a:pt x="50" y="70"/>
                    </a:lnTo>
                    <a:lnTo>
                      <a:pt x="87" y="100"/>
                    </a:lnTo>
                    <a:lnTo>
                      <a:pt x="125" y="129"/>
                    </a:lnTo>
                    <a:lnTo>
                      <a:pt x="162" y="159"/>
                    </a:lnTo>
                    <a:lnTo>
                      <a:pt x="225" y="199"/>
                    </a:lnTo>
                    <a:lnTo>
                      <a:pt x="275" y="229"/>
                    </a:lnTo>
                    <a:lnTo>
                      <a:pt x="338" y="259"/>
                    </a:lnTo>
                    <a:lnTo>
                      <a:pt x="375" y="279"/>
                    </a:lnTo>
                    <a:lnTo>
                      <a:pt x="413" y="289"/>
                    </a:lnTo>
                    <a:lnTo>
                      <a:pt x="450" y="309"/>
                    </a:lnTo>
                    <a:lnTo>
                      <a:pt x="488" y="319"/>
                    </a:lnTo>
                    <a:lnTo>
                      <a:pt x="526" y="329"/>
                    </a:lnTo>
                    <a:lnTo>
                      <a:pt x="576" y="339"/>
                    </a:lnTo>
                    <a:lnTo>
                      <a:pt x="613" y="339"/>
                    </a:lnTo>
                    <a:lnTo>
                      <a:pt x="663" y="349"/>
                    </a:lnTo>
                    <a:lnTo>
                      <a:pt x="713" y="359"/>
                    </a:lnTo>
                    <a:lnTo>
                      <a:pt x="764" y="359"/>
                    </a:lnTo>
                    <a:lnTo>
                      <a:pt x="814" y="359"/>
                    </a:lnTo>
                    <a:lnTo>
                      <a:pt x="864" y="359"/>
                    </a:lnTo>
                    <a:lnTo>
                      <a:pt x="826" y="329"/>
                    </a:lnTo>
                    <a:lnTo>
                      <a:pt x="776" y="299"/>
                    </a:lnTo>
                    <a:lnTo>
                      <a:pt x="726" y="259"/>
                    </a:lnTo>
                    <a:lnTo>
                      <a:pt x="676" y="229"/>
                    </a:lnTo>
                    <a:lnTo>
                      <a:pt x="638" y="199"/>
                    </a:lnTo>
                    <a:lnTo>
                      <a:pt x="613" y="179"/>
                    </a:lnTo>
                    <a:lnTo>
                      <a:pt x="588" y="149"/>
                    </a:lnTo>
                    <a:lnTo>
                      <a:pt x="563" y="129"/>
                    </a:lnTo>
                    <a:lnTo>
                      <a:pt x="526" y="90"/>
                    </a:lnTo>
                    <a:lnTo>
                      <a:pt x="501" y="60"/>
                    </a:lnTo>
                    <a:lnTo>
                      <a:pt x="488" y="30"/>
                    </a:lnTo>
                    <a:lnTo>
                      <a:pt x="463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208320" y="2949480"/>
                <a:ext cx="387000" cy="216720"/>
              </a:xfrm>
              <a:custGeom>
                <a:avLst/>
                <a:gdLst/>
                <a:ahLst/>
                <a:rect l="l" t="t" r="r" b="b"/>
                <a:pathLst>
                  <a:path w="777" h="469">
                    <a:moveTo>
                      <a:pt x="0" y="150"/>
                    </a:moveTo>
                    <a:lnTo>
                      <a:pt x="0" y="160"/>
                    </a:lnTo>
                    <a:lnTo>
                      <a:pt x="25" y="180"/>
                    </a:lnTo>
                    <a:lnTo>
                      <a:pt x="38" y="190"/>
                    </a:lnTo>
                    <a:lnTo>
                      <a:pt x="63" y="220"/>
                    </a:lnTo>
                    <a:lnTo>
                      <a:pt x="75" y="249"/>
                    </a:lnTo>
                    <a:lnTo>
                      <a:pt x="113" y="269"/>
                    </a:lnTo>
                    <a:lnTo>
                      <a:pt x="138" y="299"/>
                    </a:lnTo>
                    <a:lnTo>
                      <a:pt x="176" y="319"/>
                    </a:lnTo>
                    <a:lnTo>
                      <a:pt x="213" y="349"/>
                    </a:lnTo>
                    <a:lnTo>
                      <a:pt x="263" y="379"/>
                    </a:lnTo>
                    <a:lnTo>
                      <a:pt x="301" y="399"/>
                    </a:lnTo>
                    <a:lnTo>
                      <a:pt x="351" y="429"/>
                    </a:lnTo>
                    <a:lnTo>
                      <a:pt x="401" y="449"/>
                    </a:lnTo>
                    <a:lnTo>
                      <a:pt x="464" y="469"/>
                    </a:lnTo>
                    <a:lnTo>
                      <a:pt x="777" y="279"/>
                    </a:lnTo>
                    <a:lnTo>
                      <a:pt x="764" y="269"/>
                    </a:lnTo>
                    <a:lnTo>
                      <a:pt x="727" y="259"/>
                    </a:lnTo>
                    <a:lnTo>
                      <a:pt x="689" y="239"/>
                    </a:lnTo>
                    <a:lnTo>
                      <a:pt x="626" y="210"/>
                    </a:lnTo>
                    <a:lnTo>
                      <a:pt x="601" y="190"/>
                    </a:lnTo>
                    <a:lnTo>
                      <a:pt x="564" y="170"/>
                    </a:lnTo>
                    <a:lnTo>
                      <a:pt x="526" y="150"/>
                    </a:lnTo>
                    <a:lnTo>
                      <a:pt x="501" y="120"/>
                    </a:lnTo>
                    <a:lnTo>
                      <a:pt x="451" y="90"/>
                    </a:lnTo>
                    <a:lnTo>
                      <a:pt x="426" y="60"/>
                    </a:lnTo>
                    <a:lnTo>
                      <a:pt x="389" y="30"/>
                    </a:lnTo>
                    <a:lnTo>
                      <a:pt x="351" y="0"/>
                    </a:lnTo>
                    <a:lnTo>
                      <a:pt x="0" y="15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507480" y="2714040"/>
                <a:ext cx="274320" cy="281160"/>
              </a:xfrm>
              <a:custGeom>
                <a:avLst/>
                <a:gdLst/>
                <a:ahLst/>
                <a:rect l="l" t="t" r="r" b="b"/>
                <a:pathLst>
                  <a:path w="551" h="608">
                    <a:moveTo>
                      <a:pt x="0" y="389"/>
                    </a:moveTo>
                    <a:lnTo>
                      <a:pt x="314" y="608"/>
                    </a:lnTo>
                    <a:lnTo>
                      <a:pt x="326" y="588"/>
                    </a:lnTo>
                    <a:lnTo>
                      <a:pt x="339" y="568"/>
                    </a:lnTo>
                    <a:lnTo>
                      <a:pt x="351" y="548"/>
                    </a:lnTo>
                    <a:lnTo>
                      <a:pt x="376" y="518"/>
                    </a:lnTo>
                    <a:lnTo>
                      <a:pt x="389" y="488"/>
                    </a:lnTo>
                    <a:lnTo>
                      <a:pt x="414" y="459"/>
                    </a:lnTo>
                    <a:lnTo>
                      <a:pt x="426" y="419"/>
                    </a:lnTo>
                    <a:lnTo>
                      <a:pt x="451" y="389"/>
                    </a:lnTo>
                    <a:lnTo>
                      <a:pt x="464" y="339"/>
                    </a:lnTo>
                    <a:lnTo>
                      <a:pt x="476" y="299"/>
                    </a:lnTo>
                    <a:lnTo>
                      <a:pt x="489" y="249"/>
                    </a:lnTo>
                    <a:lnTo>
                      <a:pt x="514" y="209"/>
                    </a:lnTo>
                    <a:lnTo>
                      <a:pt x="514" y="179"/>
                    </a:lnTo>
                    <a:lnTo>
                      <a:pt x="526" y="160"/>
                    </a:lnTo>
                    <a:lnTo>
                      <a:pt x="526" y="130"/>
                    </a:lnTo>
                    <a:lnTo>
                      <a:pt x="539" y="110"/>
                    </a:lnTo>
                    <a:lnTo>
                      <a:pt x="539" y="80"/>
                    </a:lnTo>
                    <a:lnTo>
                      <a:pt x="539" y="50"/>
                    </a:lnTo>
                    <a:lnTo>
                      <a:pt x="539" y="20"/>
                    </a:lnTo>
                    <a:lnTo>
                      <a:pt x="551" y="0"/>
                    </a:lnTo>
                    <a:lnTo>
                      <a:pt x="501" y="40"/>
                    </a:lnTo>
                    <a:lnTo>
                      <a:pt x="464" y="70"/>
                    </a:lnTo>
                    <a:lnTo>
                      <a:pt x="414" y="110"/>
                    </a:lnTo>
                    <a:lnTo>
                      <a:pt x="376" y="150"/>
                    </a:lnTo>
                    <a:lnTo>
                      <a:pt x="339" y="179"/>
                    </a:lnTo>
                    <a:lnTo>
                      <a:pt x="288" y="209"/>
                    </a:lnTo>
                    <a:lnTo>
                      <a:pt x="238" y="239"/>
                    </a:lnTo>
                    <a:lnTo>
                      <a:pt x="201" y="269"/>
                    </a:lnTo>
                    <a:lnTo>
                      <a:pt x="151" y="289"/>
                    </a:lnTo>
                    <a:lnTo>
                      <a:pt x="113" y="309"/>
                    </a:lnTo>
                    <a:lnTo>
                      <a:pt x="76" y="329"/>
                    </a:lnTo>
                    <a:lnTo>
                      <a:pt x="51" y="359"/>
                    </a:lnTo>
                    <a:lnTo>
                      <a:pt x="13" y="379"/>
                    </a:lnTo>
                    <a:lnTo>
                      <a:pt x="0" y="389"/>
                    </a:lnTo>
                    <a:lnTo>
                      <a:pt x="0" y="389"/>
                    </a:lnTo>
                    <a:close/>
                  </a:path>
                </a:pathLst>
              </a:cu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865080" y="744480"/>
              <a:ext cx="8274240" cy="5183280"/>
            </a:xfrm>
            <a:prstGeom prst="irregularSeal1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70120" y="747720"/>
              <a:ext cx="8273880" cy="5183280"/>
            </a:xfrm>
            <a:prstGeom prst="irregularSeal1">
              <a:avLst/>
            </a:prstGeom>
            <a:gradFill rotWithShape="0">
              <a:gsLst>
                <a:gs pos="0">
                  <a:srgbClr val="fff200">
                    <a:alpha val="20000"/>
                  </a:srgbClr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2290680" y="2327400"/>
            <a:ext cx="488880" cy="1296720"/>
          </a:xfrm>
          <a:custGeom>
            <a:avLst/>
            <a:gdLst/>
            <a:ahLst/>
            <a:rect l="l" t="t" r="r" b="b"/>
            <a:pathLst>
              <a:path w="949" h="2911">
                <a:moveTo>
                  <a:pt x="949" y="0"/>
                </a:moveTo>
                <a:cubicBezTo>
                  <a:pt x="879" y="288"/>
                  <a:pt x="776" y="570"/>
                  <a:pt x="704" y="858"/>
                </a:cubicBezTo>
                <a:cubicBezTo>
                  <a:pt x="667" y="1005"/>
                  <a:pt x="688" y="1058"/>
                  <a:pt x="582" y="1165"/>
                </a:cubicBezTo>
                <a:cubicBezTo>
                  <a:pt x="572" y="1195"/>
                  <a:pt x="568" y="1229"/>
                  <a:pt x="551" y="1256"/>
                </a:cubicBezTo>
                <a:cubicBezTo>
                  <a:pt x="536" y="1281"/>
                  <a:pt x="508" y="1295"/>
                  <a:pt x="490" y="1318"/>
                </a:cubicBezTo>
                <a:cubicBezTo>
                  <a:pt x="345" y="1501"/>
                  <a:pt x="509" y="1331"/>
                  <a:pt x="367" y="1471"/>
                </a:cubicBezTo>
                <a:cubicBezTo>
                  <a:pt x="283" y="1725"/>
                  <a:pt x="193" y="1979"/>
                  <a:pt x="122" y="2237"/>
                </a:cubicBezTo>
                <a:cubicBezTo>
                  <a:pt x="69" y="2431"/>
                  <a:pt x="39" y="2622"/>
                  <a:pt x="0" y="2819"/>
                </a:cubicBezTo>
                <a:cubicBezTo>
                  <a:pt x="10" y="2850"/>
                  <a:pt x="30" y="2911"/>
                  <a:pt x="30" y="2911"/>
                </a:cubicBezTo>
              </a:path>
            </a:pathLst>
          </a:custGeom>
          <a:noFill/>
          <a:ln w="254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452680" y="1398600"/>
            <a:ext cx="901800" cy="1093680"/>
          </a:xfrm>
          <a:custGeom>
            <a:avLst/>
            <a:gdLst/>
            <a:ahLst/>
            <a:rect l="l" t="t" r="r" b="b"/>
            <a:pathLst>
              <a:path w="1750" h="2453">
                <a:moveTo>
                  <a:pt x="331" y="2206"/>
                </a:moveTo>
                <a:cubicBezTo>
                  <a:pt x="260" y="2159"/>
                  <a:pt x="229" y="2148"/>
                  <a:pt x="178" y="2083"/>
                </a:cubicBezTo>
                <a:cubicBezTo>
                  <a:pt x="33" y="1900"/>
                  <a:pt x="197" y="2070"/>
                  <a:pt x="55" y="1930"/>
                </a:cubicBezTo>
                <a:cubicBezTo>
                  <a:pt x="0" y="1763"/>
                  <a:pt x="10" y="1834"/>
                  <a:pt x="55" y="1562"/>
                </a:cubicBezTo>
                <a:cubicBezTo>
                  <a:pt x="60" y="1530"/>
                  <a:pt x="63" y="1494"/>
                  <a:pt x="86" y="1471"/>
                </a:cubicBezTo>
                <a:cubicBezTo>
                  <a:pt x="109" y="1448"/>
                  <a:pt x="147" y="1450"/>
                  <a:pt x="178" y="1440"/>
                </a:cubicBezTo>
                <a:cubicBezTo>
                  <a:pt x="238" y="1349"/>
                  <a:pt x="242" y="1330"/>
                  <a:pt x="331" y="1256"/>
                </a:cubicBezTo>
                <a:cubicBezTo>
                  <a:pt x="359" y="1232"/>
                  <a:pt x="395" y="1219"/>
                  <a:pt x="423" y="1195"/>
                </a:cubicBezTo>
                <a:cubicBezTo>
                  <a:pt x="554" y="1086"/>
                  <a:pt x="667" y="966"/>
                  <a:pt x="821" y="888"/>
                </a:cubicBezTo>
                <a:lnTo>
                  <a:pt x="883" y="245"/>
                </a:lnTo>
                <a:lnTo>
                  <a:pt x="1373" y="0"/>
                </a:lnTo>
                <a:lnTo>
                  <a:pt x="1649" y="521"/>
                </a:lnTo>
                <a:cubicBezTo>
                  <a:pt x="1567" y="633"/>
                  <a:pt x="1474" y="738"/>
                  <a:pt x="1403" y="858"/>
                </a:cubicBezTo>
                <a:cubicBezTo>
                  <a:pt x="1370" y="914"/>
                  <a:pt x="1342" y="1042"/>
                  <a:pt x="1342" y="1042"/>
                </a:cubicBezTo>
                <a:cubicBezTo>
                  <a:pt x="1457" y="1494"/>
                  <a:pt x="1750" y="2282"/>
                  <a:pt x="1250" y="2451"/>
                </a:cubicBezTo>
                <a:cubicBezTo>
                  <a:pt x="1148" y="2441"/>
                  <a:pt x="1041" y="2453"/>
                  <a:pt x="944" y="2420"/>
                </a:cubicBezTo>
                <a:cubicBezTo>
                  <a:pt x="909" y="2408"/>
                  <a:pt x="909" y="2354"/>
                  <a:pt x="883" y="2328"/>
                </a:cubicBezTo>
                <a:cubicBezTo>
                  <a:pt x="867" y="2312"/>
                  <a:pt x="842" y="2308"/>
                  <a:pt x="821" y="229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1407960" y="1362240"/>
            <a:ext cx="6274080" cy="301464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3"/>
          <a:stretch/>
        </p:blipFill>
        <p:spPr>
          <a:xfrm>
            <a:off x="38268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4"/>
          <a:stretch/>
        </p:blipFill>
        <p:spPr>
          <a:xfrm>
            <a:off x="9255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7" dur="7114" fill="hold"/>
                                        <p:tgtEl>
                                          <p:spTgt spid="5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35" repeatCount="3000">
                                  <p:stCondLst>
                                    <p:cond delay="5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7114"/>
                            </p:stCondLst>
                            <p:childTnLst>
                              <p:par>
                                <p:cTn id="3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1271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7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8" dur="1271" fill="hold"/>
                                        <p:tgtEl>
                                          <p:spTgt spid="5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red-lightning" descr=""/>
          <p:cNvPicPr/>
          <p:nvPr/>
        </p:nvPicPr>
        <p:blipFill>
          <a:blip r:embed="rId1"/>
          <a:stretch/>
        </p:blipFill>
        <p:spPr>
          <a:xfrm rot="828000">
            <a:off x="4358880" y="1193400"/>
            <a:ext cx="1044720" cy="1900440"/>
          </a:xfrm>
          <a:prstGeom prst="rect">
            <a:avLst/>
          </a:prstGeom>
          <a:ln w="0">
            <a:noFill/>
          </a:ln>
        </p:spPr>
      </p:pic>
      <p:pic>
        <p:nvPicPr>
          <p:cNvPr id="512" name="red-lightning" descr=""/>
          <p:cNvPicPr/>
          <p:nvPr/>
        </p:nvPicPr>
        <p:blipFill>
          <a:blip r:embed="rId2"/>
          <a:stretch/>
        </p:blipFill>
        <p:spPr>
          <a:xfrm rot="1356000">
            <a:off x="3014640" y="3900600"/>
            <a:ext cx="1096920" cy="184140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green-lightning" descr=""/>
          <p:cNvPicPr/>
          <p:nvPr/>
        </p:nvPicPr>
        <p:blipFill>
          <a:blip r:embed="rId3"/>
          <a:stretch/>
        </p:blipFill>
        <p:spPr>
          <a:xfrm flipH="1" rot="9106800">
            <a:off x="6066000" y="3811320"/>
            <a:ext cx="839520" cy="1992240"/>
          </a:xfrm>
          <a:prstGeom prst="rect">
            <a:avLst/>
          </a:prstGeom>
          <a:ln w="0">
            <a:noFill/>
          </a:ln>
        </p:spPr>
      </p:pic>
      <p:pic>
        <p:nvPicPr>
          <p:cNvPr id="515" name="green-lightning" descr=""/>
          <p:cNvPicPr/>
          <p:nvPr/>
        </p:nvPicPr>
        <p:blipFill>
          <a:blip r:embed="rId4"/>
          <a:stretch/>
        </p:blipFill>
        <p:spPr>
          <a:xfrm rot="19554000">
            <a:off x="2690280" y="1437840"/>
            <a:ext cx="839880" cy="1992240"/>
          </a:xfrm>
          <a:prstGeom prst="rect">
            <a:avLst/>
          </a:prstGeom>
          <a:ln w="0">
            <a:noFill/>
          </a:ln>
        </p:spPr>
      </p:pic>
      <p:pic>
        <p:nvPicPr>
          <p:cNvPr id="516" name="green-lightning" descr=""/>
          <p:cNvPicPr/>
          <p:nvPr/>
        </p:nvPicPr>
        <p:blipFill>
          <a:blip r:embed="rId5"/>
          <a:stretch/>
        </p:blipFill>
        <p:spPr>
          <a:xfrm flipH="1" rot="13740600">
            <a:off x="2379960" y="3603960"/>
            <a:ext cx="622440" cy="2008440"/>
          </a:xfrm>
          <a:prstGeom prst="rect">
            <a:avLst/>
          </a:prstGeom>
          <a:ln w="0">
            <a:noFill/>
          </a:ln>
        </p:spPr>
      </p:pic>
      <p:pic>
        <p:nvPicPr>
          <p:cNvPr id="517" name="green-lightning" descr=""/>
          <p:cNvPicPr/>
          <p:nvPr/>
        </p:nvPicPr>
        <p:blipFill>
          <a:blip r:embed="rId6"/>
          <a:stretch/>
        </p:blipFill>
        <p:spPr>
          <a:xfrm rot="1693200">
            <a:off x="5684400" y="1344600"/>
            <a:ext cx="839880" cy="1992240"/>
          </a:xfrm>
          <a:prstGeom prst="rect">
            <a:avLst/>
          </a:prstGeom>
          <a:ln w="0">
            <a:noFill/>
          </a:ln>
        </p:spPr>
      </p:pic>
      <p:pic>
        <p:nvPicPr>
          <p:cNvPr id="518" name="blue-lightning" descr=""/>
          <p:cNvPicPr/>
          <p:nvPr/>
        </p:nvPicPr>
        <p:blipFill>
          <a:blip r:embed="rId7"/>
          <a:stretch/>
        </p:blipFill>
        <p:spPr>
          <a:xfrm rot="9448200">
            <a:off x="4892400" y="3774600"/>
            <a:ext cx="682560" cy="1619280"/>
          </a:xfrm>
          <a:prstGeom prst="rect">
            <a:avLst/>
          </a:prstGeom>
          <a:ln w="0">
            <a:noFill/>
          </a:ln>
        </p:spPr>
      </p:pic>
      <p:pic>
        <p:nvPicPr>
          <p:cNvPr id="519" name="blue-lightning" descr=""/>
          <p:cNvPicPr/>
          <p:nvPr/>
        </p:nvPicPr>
        <p:blipFill>
          <a:blip r:embed="rId8"/>
          <a:stretch/>
        </p:blipFill>
        <p:spPr>
          <a:xfrm rot="2465400">
            <a:off x="6743880" y="1960560"/>
            <a:ext cx="682560" cy="1619280"/>
          </a:xfrm>
          <a:prstGeom prst="rect">
            <a:avLst/>
          </a:prstGeom>
          <a:ln w="0">
            <a:noFill/>
          </a:ln>
        </p:spPr>
      </p:pic>
      <p:pic>
        <p:nvPicPr>
          <p:cNvPr id="520" name="blue-lightning" descr=""/>
          <p:cNvPicPr/>
          <p:nvPr/>
        </p:nvPicPr>
        <p:blipFill>
          <a:blip r:embed="rId9"/>
          <a:stretch/>
        </p:blipFill>
        <p:spPr>
          <a:xfrm rot="13265400">
            <a:off x="1304280" y="3647520"/>
            <a:ext cx="682560" cy="1618920"/>
          </a:xfrm>
          <a:prstGeom prst="rect">
            <a:avLst/>
          </a:prstGeom>
          <a:ln w="0">
            <a:noFill/>
          </a:ln>
        </p:spPr>
      </p:pic>
      <p:pic>
        <p:nvPicPr>
          <p:cNvPr id="521" name="purple-lightning" descr=""/>
          <p:cNvPicPr/>
          <p:nvPr/>
        </p:nvPicPr>
        <p:blipFill>
          <a:blip r:embed="rId10"/>
          <a:stretch/>
        </p:blipFill>
        <p:spPr>
          <a:xfrm rot="8484600">
            <a:off x="7164000" y="4089240"/>
            <a:ext cx="565200" cy="1339920"/>
          </a:xfrm>
          <a:prstGeom prst="rect">
            <a:avLst/>
          </a:prstGeom>
          <a:ln w="0">
            <a:noFill/>
          </a:ln>
        </p:spPr>
      </p:pic>
      <p:pic>
        <p:nvPicPr>
          <p:cNvPr id="522" name="purple-lightning" descr=""/>
          <p:cNvPicPr/>
          <p:nvPr/>
        </p:nvPicPr>
        <p:blipFill>
          <a:blip r:embed="rId11"/>
          <a:stretch/>
        </p:blipFill>
        <p:spPr>
          <a:xfrm rot="19135800">
            <a:off x="1892160" y="1992240"/>
            <a:ext cx="565200" cy="1339920"/>
          </a:xfrm>
          <a:prstGeom prst="rect">
            <a:avLst/>
          </a:prstGeom>
          <a:ln w="0">
            <a:noFill/>
          </a:ln>
        </p:spPr>
      </p:pic>
      <p:pic>
        <p:nvPicPr>
          <p:cNvPr id="523" name="Activate" descr=""/>
          <p:cNvPicPr/>
          <p:nvPr/>
        </p:nvPicPr>
        <p:blipFill>
          <a:blip r:embed="rId12"/>
          <a:stretch/>
        </p:blipFill>
        <p:spPr>
          <a:xfrm>
            <a:off x="-371520" y="2651040"/>
            <a:ext cx="9829800" cy="1998720"/>
          </a:xfrm>
          <a:prstGeom prst="rect">
            <a:avLst/>
          </a:prstGeom>
          <a:ln w="0">
            <a:noFill/>
          </a:ln>
        </p:spPr>
      </p:pic>
      <p:pic>
        <p:nvPicPr>
          <p:cNvPr id="524" name="hand-1" descr=""/>
          <p:cNvPicPr/>
          <p:nvPr/>
        </p:nvPicPr>
        <p:blipFill>
          <a:blip r:embed="rId13"/>
          <a:stretch/>
        </p:blipFill>
        <p:spPr>
          <a:xfrm rot="17898600">
            <a:off x="-117360" y="5428800"/>
            <a:ext cx="4327560" cy="3241440"/>
          </a:xfrm>
          <a:prstGeom prst="rect">
            <a:avLst/>
          </a:prstGeom>
          <a:ln w="0">
            <a:noFill/>
          </a:ln>
        </p:spPr>
      </p:pic>
      <p:pic>
        <p:nvPicPr>
          <p:cNvPr id="525" name="hand-2" descr=""/>
          <p:cNvPicPr/>
          <p:nvPr/>
        </p:nvPicPr>
        <p:blipFill>
          <a:blip r:embed="rId14"/>
          <a:stretch/>
        </p:blipFill>
        <p:spPr>
          <a:xfrm rot="19041000">
            <a:off x="4520880" y="-1881360"/>
            <a:ext cx="5226120" cy="36468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1252440" y="-18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5"/>
          <a:stretch/>
        </p:blipFill>
        <p:spPr>
          <a:xfrm>
            <a:off x="0" y="5707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16"/>
          <a:stretch/>
        </p:blipFill>
        <p:spPr>
          <a:xfrm>
            <a:off x="284040" y="5705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1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1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2" dur="1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5" dur="1" fill="hold"/>
                                        <p:tgtEl>
                                          <p:spTgt spid="5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2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5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It’s not a secr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It’s not a fairyta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It’s not made 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Jonah was in a wha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For three whole days, 1 2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The greatest treas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The Word God’s people wro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It’s in the Bi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When Noah built a bo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And it rained and rain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6477120" y="2147760"/>
            <a:ext cx="2666880" cy="327672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 flipH="1">
            <a:off x="-343440" y="2106720"/>
            <a:ext cx="26672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God’s promises are tr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the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He’s the only w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God’s promises are tr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the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He’s the only w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For your every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It’s not a secr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It’s not a fairyta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It’s not made 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Jonah was in a wha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Arial"/>
              </a:rPr>
              <a:t>For three whole days, 1 2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9163080" y="5824440"/>
            <a:ext cx="85248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96296E-006 L -1.12031 -0.00625 E">
                                      <p:cBhvr>
                                        <p:cTn id="461" dur="5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The greatest treas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The Word God’s people wro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It’s in the Bi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When Noah built a bo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Arial"/>
              </a:rPr>
              <a:t>And it rained and rain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6477120" y="2147760"/>
            <a:ext cx="2666880" cy="327672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 flipH="1">
            <a:off x="-343440" y="2106720"/>
            <a:ext cx="26672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God’s promises are tr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the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He’s the only w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God’s promises are tr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the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He’s the only w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God’s promises are tr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he rainbow’s in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To show the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He’s the only w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Arial"/>
              </a:rPr>
              <a:t>For your every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-984240" y="3371760"/>
            <a:ext cx="11820600" cy="41292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2200320" y="81360"/>
            <a:ext cx="5451480" cy="4282200"/>
            <a:chOff x="2200320" y="81360"/>
            <a:chExt cx="5451480" cy="4282200"/>
          </a:xfrm>
        </p:grpSpPr>
        <p:grpSp>
          <p:nvGrpSpPr>
            <p:cNvPr id="548" name=""/>
            <p:cNvGrpSpPr/>
            <p:nvPr/>
          </p:nvGrpSpPr>
          <p:grpSpPr>
            <a:xfrm>
              <a:off x="2319480" y="405360"/>
              <a:ext cx="4642560" cy="3216600"/>
              <a:chOff x="2319480" y="405360"/>
              <a:chExt cx="4642560" cy="3216600"/>
            </a:xfrm>
          </p:grpSpPr>
          <p:sp>
            <p:nvSpPr>
              <p:cNvPr id="549" name=""/>
              <p:cNvSpPr/>
              <p:nvPr/>
            </p:nvSpPr>
            <p:spPr>
              <a:xfrm>
                <a:off x="2742120" y="480960"/>
                <a:ext cx="4219920" cy="3141000"/>
              </a:xfrm>
              <a:custGeom>
                <a:avLst/>
                <a:gdLst/>
                <a:ahLst/>
                <a:rect l="l" t="t" r="r" b="b"/>
                <a:pathLst>
                  <a:path w="3434" h="2692">
                    <a:moveTo>
                      <a:pt x="2304" y="480"/>
                    </a:moveTo>
                    <a:lnTo>
                      <a:pt x="2138" y="505"/>
                    </a:lnTo>
                    <a:lnTo>
                      <a:pt x="1911" y="505"/>
                    </a:lnTo>
                    <a:lnTo>
                      <a:pt x="1787" y="501"/>
                    </a:lnTo>
                    <a:lnTo>
                      <a:pt x="1712" y="447"/>
                    </a:lnTo>
                    <a:lnTo>
                      <a:pt x="1676" y="415"/>
                    </a:lnTo>
                    <a:lnTo>
                      <a:pt x="1660" y="359"/>
                    </a:lnTo>
                    <a:lnTo>
                      <a:pt x="1667" y="244"/>
                    </a:lnTo>
                    <a:lnTo>
                      <a:pt x="1673" y="135"/>
                    </a:lnTo>
                    <a:lnTo>
                      <a:pt x="1636" y="58"/>
                    </a:lnTo>
                    <a:lnTo>
                      <a:pt x="1564" y="0"/>
                    </a:lnTo>
                    <a:lnTo>
                      <a:pt x="1467" y="0"/>
                    </a:lnTo>
                    <a:lnTo>
                      <a:pt x="1364" y="39"/>
                    </a:lnTo>
                    <a:lnTo>
                      <a:pt x="1223" y="124"/>
                    </a:lnTo>
                    <a:lnTo>
                      <a:pt x="1099" y="239"/>
                    </a:lnTo>
                    <a:lnTo>
                      <a:pt x="1035" y="356"/>
                    </a:lnTo>
                    <a:lnTo>
                      <a:pt x="1026" y="471"/>
                    </a:lnTo>
                    <a:lnTo>
                      <a:pt x="1047" y="595"/>
                    </a:lnTo>
                    <a:lnTo>
                      <a:pt x="1043" y="646"/>
                    </a:lnTo>
                    <a:lnTo>
                      <a:pt x="1022" y="676"/>
                    </a:lnTo>
                    <a:lnTo>
                      <a:pt x="971" y="706"/>
                    </a:lnTo>
                    <a:lnTo>
                      <a:pt x="886" y="710"/>
                    </a:lnTo>
                    <a:lnTo>
                      <a:pt x="753" y="698"/>
                    </a:lnTo>
                    <a:lnTo>
                      <a:pt x="551" y="625"/>
                    </a:lnTo>
                    <a:lnTo>
                      <a:pt x="479" y="620"/>
                    </a:lnTo>
                    <a:lnTo>
                      <a:pt x="415" y="659"/>
                    </a:lnTo>
                    <a:lnTo>
                      <a:pt x="372" y="736"/>
                    </a:lnTo>
                    <a:lnTo>
                      <a:pt x="377" y="834"/>
                    </a:lnTo>
                    <a:lnTo>
                      <a:pt x="424" y="924"/>
                    </a:lnTo>
                    <a:lnTo>
                      <a:pt x="544" y="997"/>
                    </a:lnTo>
                    <a:lnTo>
                      <a:pt x="668" y="1074"/>
                    </a:lnTo>
                    <a:lnTo>
                      <a:pt x="695" y="1132"/>
                    </a:lnTo>
                    <a:lnTo>
                      <a:pt x="689" y="1193"/>
                    </a:lnTo>
                    <a:lnTo>
                      <a:pt x="647" y="1237"/>
                    </a:lnTo>
                    <a:lnTo>
                      <a:pt x="586" y="1258"/>
                    </a:lnTo>
                    <a:lnTo>
                      <a:pt x="457" y="1246"/>
                    </a:lnTo>
                    <a:lnTo>
                      <a:pt x="317" y="1207"/>
                    </a:lnTo>
                    <a:lnTo>
                      <a:pt x="202" y="1207"/>
                    </a:lnTo>
                    <a:lnTo>
                      <a:pt x="99" y="1250"/>
                    </a:lnTo>
                    <a:lnTo>
                      <a:pt x="13" y="1370"/>
                    </a:lnTo>
                    <a:lnTo>
                      <a:pt x="0" y="1455"/>
                    </a:lnTo>
                    <a:lnTo>
                      <a:pt x="27" y="1506"/>
                    </a:lnTo>
                    <a:lnTo>
                      <a:pt x="112" y="1553"/>
                    </a:lnTo>
                    <a:lnTo>
                      <a:pt x="248" y="1591"/>
                    </a:lnTo>
                    <a:lnTo>
                      <a:pt x="457" y="1627"/>
                    </a:lnTo>
                    <a:lnTo>
                      <a:pt x="629" y="1673"/>
                    </a:lnTo>
                    <a:lnTo>
                      <a:pt x="732" y="1707"/>
                    </a:lnTo>
                    <a:lnTo>
                      <a:pt x="758" y="1757"/>
                    </a:lnTo>
                    <a:lnTo>
                      <a:pt x="753" y="1802"/>
                    </a:lnTo>
                    <a:lnTo>
                      <a:pt x="663" y="1844"/>
                    </a:lnTo>
                    <a:lnTo>
                      <a:pt x="479" y="1943"/>
                    </a:lnTo>
                    <a:lnTo>
                      <a:pt x="369" y="2016"/>
                    </a:lnTo>
                    <a:lnTo>
                      <a:pt x="317" y="2088"/>
                    </a:lnTo>
                    <a:lnTo>
                      <a:pt x="296" y="2152"/>
                    </a:lnTo>
                    <a:lnTo>
                      <a:pt x="282" y="2234"/>
                    </a:lnTo>
                    <a:lnTo>
                      <a:pt x="291" y="2298"/>
                    </a:lnTo>
                    <a:lnTo>
                      <a:pt x="330" y="2379"/>
                    </a:lnTo>
                    <a:lnTo>
                      <a:pt x="411" y="2479"/>
                    </a:lnTo>
                    <a:lnTo>
                      <a:pt x="487" y="2508"/>
                    </a:lnTo>
                    <a:lnTo>
                      <a:pt x="569" y="2512"/>
                    </a:lnTo>
                    <a:lnTo>
                      <a:pt x="675" y="2503"/>
                    </a:lnTo>
                    <a:lnTo>
                      <a:pt x="783" y="2460"/>
                    </a:lnTo>
                    <a:lnTo>
                      <a:pt x="864" y="2384"/>
                    </a:lnTo>
                    <a:lnTo>
                      <a:pt x="919" y="2285"/>
                    </a:lnTo>
                    <a:lnTo>
                      <a:pt x="958" y="2182"/>
                    </a:lnTo>
                    <a:lnTo>
                      <a:pt x="992" y="2119"/>
                    </a:lnTo>
                    <a:lnTo>
                      <a:pt x="1043" y="2080"/>
                    </a:lnTo>
                    <a:lnTo>
                      <a:pt x="1107" y="2075"/>
                    </a:lnTo>
                    <a:lnTo>
                      <a:pt x="1164" y="2114"/>
                    </a:lnTo>
                    <a:lnTo>
                      <a:pt x="1195" y="2201"/>
                    </a:lnTo>
                    <a:lnTo>
                      <a:pt x="1233" y="2361"/>
                    </a:lnTo>
                    <a:lnTo>
                      <a:pt x="1228" y="2485"/>
                    </a:lnTo>
                    <a:lnTo>
                      <a:pt x="1245" y="2550"/>
                    </a:lnTo>
                    <a:lnTo>
                      <a:pt x="1291" y="2576"/>
                    </a:lnTo>
                    <a:lnTo>
                      <a:pt x="1394" y="2568"/>
                    </a:lnTo>
                    <a:lnTo>
                      <a:pt x="1501" y="2490"/>
                    </a:lnTo>
                    <a:lnTo>
                      <a:pt x="1612" y="2375"/>
                    </a:lnTo>
                    <a:lnTo>
                      <a:pt x="1715" y="2230"/>
                    </a:lnTo>
                    <a:lnTo>
                      <a:pt x="1796" y="2161"/>
                    </a:lnTo>
                    <a:lnTo>
                      <a:pt x="1842" y="2140"/>
                    </a:lnTo>
                    <a:lnTo>
                      <a:pt x="1911" y="2152"/>
                    </a:lnTo>
                    <a:lnTo>
                      <a:pt x="1993" y="2216"/>
                    </a:lnTo>
                    <a:lnTo>
                      <a:pt x="2067" y="2308"/>
                    </a:lnTo>
                    <a:lnTo>
                      <a:pt x="2223" y="2480"/>
                    </a:lnTo>
                    <a:lnTo>
                      <a:pt x="2347" y="2611"/>
                    </a:lnTo>
                    <a:lnTo>
                      <a:pt x="2425" y="2653"/>
                    </a:lnTo>
                    <a:lnTo>
                      <a:pt x="2544" y="2692"/>
                    </a:lnTo>
                    <a:lnTo>
                      <a:pt x="2625" y="2687"/>
                    </a:lnTo>
                    <a:lnTo>
                      <a:pt x="2685" y="2657"/>
                    </a:lnTo>
                    <a:lnTo>
                      <a:pt x="2736" y="2606"/>
                    </a:lnTo>
                    <a:lnTo>
                      <a:pt x="2762" y="2529"/>
                    </a:lnTo>
                    <a:lnTo>
                      <a:pt x="2770" y="2457"/>
                    </a:lnTo>
                    <a:lnTo>
                      <a:pt x="2723" y="2365"/>
                    </a:lnTo>
                    <a:lnTo>
                      <a:pt x="2625" y="2246"/>
                    </a:lnTo>
                    <a:lnTo>
                      <a:pt x="2441" y="2131"/>
                    </a:lnTo>
                    <a:lnTo>
                      <a:pt x="2428" y="2092"/>
                    </a:lnTo>
                    <a:lnTo>
                      <a:pt x="2462" y="2067"/>
                    </a:lnTo>
                    <a:lnTo>
                      <a:pt x="2556" y="2058"/>
                    </a:lnTo>
                    <a:lnTo>
                      <a:pt x="2762" y="2075"/>
                    </a:lnTo>
                    <a:lnTo>
                      <a:pt x="3108" y="2122"/>
                    </a:lnTo>
                    <a:lnTo>
                      <a:pt x="3257" y="2144"/>
                    </a:lnTo>
                    <a:lnTo>
                      <a:pt x="3360" y="2144"/>
                    </a:lnTo>
                    <a:lnTo>
                      <a:pt x="3420" y="2114"/>
                    </a:lnTo>
                    <a:lnTo>
                      <a:pt x="3434" y="2043"/>
                    </a:lnTo>
                    <a:lnTo>
                      <a:pt x="3390" y="1965"/>
                    </a:lnTo>
                    <a:lnTo>
                      <a:pt x="3275" y="1869"/>
                    </a:lnTo>
                    <a:lnTo>
                      <a:pt x="3160" y="1811"/>
                    </a:lnTo>
                    <a:lnTo>
                      <a:pt x="3006" y="1759"/>
                    </a:lnTo>
                    <a:lnTo>
                      <a:pt x="2800" y="1699"/>
                    </a:lnTo>
                    <a:lnTo>
                      <a:pt x="2699" y="1632"/>
                    </a:lnTo>
                    <a:lnTo>
                      <a:pt x="2673" y="1575"/>
                    </a:lnTo>
                    <a:lnTo>
                      <a:pt x="2694" y="1503"/>
                    </a:lnTo>
                    <a:lnTo>
                      <a:pt x="2774" y="1437"/>
                    </a:lnTo>
                    <a:lnTo>
                      <a:pt x="3006" y="1356"/>
                    </a:lnTo>
                    <a:lnTo>
                      <a:pt x="3133" y="1322"/>
                    </a:lnTo>
                    <a:lnTo>
                      <a:pt x="3212" y="1301"/>
                    </a:lnTo>
                    <a:lnTo>
                      <a:pt x="3270" y="1271"/>
                    </a:lnTo>
                    <a:lnTo>
                      <a:pt x="3290" y="1220"/>
                    </a:lnTo>
                    <a:lnTo>
                      <a:pt x="3262" y="1160"/>
                    </a:lnTo>
                    <a:lnTo>
                      <a:pt x="3209" y="1126"/>
                    </a:lnTo>
                    <a:lnTo>
                      <a:pt x="3103" y="1099"/>
                    </a:lnTo>
                    <a:lnTo>
                      <a:pt x="3009" y="1096"/>
                    </a:lnTo>
                    <a:lnTo>
                      <a:pt x="2912" y="1113"/>
                    </a:lnTo>
                    <a:lnTo>
                      <a:pt x="2689" y="1160"/>
                    </a:lnTo>
                    <a:lnTo>
                      <a:pt x="2540" y="1177"/>
                    </a:lnTo>
                    <a:lnTo>
                      <a:pt x="2438" y="1177"/>
                    </a:lnTo>
                    <a:lnTo>
                      <a:pt x="2407" y="1129"/>
                    </a:lnTo>
                    <a:lnTo>
                      <a:pt x="2407" y="1057"/>
                    </a:lnTo>
                    <a:lnTo>
                      <a:pt x="2453" y="984"/>
                    </a:lnTo>
                    <a:lnTo>
                      <a:pt x="2531" y="929"/>
                    </a:lnTo>
                    <a:lnTo>
                      <a:pt x="2643" y="860"/>
                    </a:lnTo>
                    <a:lnTo>
                      <a:pt x="2441" y="885"/>
                    </a:lnTo>
                    <a:lnTo>
                      <a:pt x="2299" y="863"/>
                    </a:lnTo>
                    <a:lnTo>
                      <a:pt x="2214" y="816"/>
                    </a:lnTo>
                    <a:lnTo>
                      <a:pt x="2168" y="779"/>
                    </a:lnTo>
                    <a:lnTo>
                      <a:pt x="2168" y="698"/>
                    </a:lnTo>
                    <a:lnTo>
                      <a:pt x="2223" y="569"/>
                    </a:lnTo>
                    <a:lnTo>
                      <a:pt x="2271" y="513"/>
                    </a:lnTo>
                    <a:lnTo>
                      <a:pt x="2304" y="480"/>
                    </a:lnTo>
                    <a:lnTo>
                      <a:pt x="2304" y="48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142320" y="1210320"/>
                <a:ext cx="649800" cy="274320"/>
              </a:xfrm>
              <a:custGeom>
                <a:avLst/>
                <a:gdLst/>
                <a:ahLst/>
                <a:rect l="l" t="t" r="r" b="b"/>
                <a:pathLst>
                  <a:path w="529" h="235">
                    <a:moveTo>
                      <a:pt x="0" y="196"/>
                    </a:moveTo>
                    <a:lnTo>
                      <a:pt x="179" y="73"/>
                    </a:lnTo>
                    <a:lnTo>
                      <a:pt x="303" y="12"/>
                    </a:lnTo>
                    <a:lnTo>
                      <a:pt x="414" y="0"/>
                    </a:lnTo>
                    <a:lnTo>
                      <a:pt x="499" y="25"/>
                    </a:lnTo>
                    <a:lnTo>
                      <a:pt x="529" y="73"/>
                    </a:lnTo>
                    <a:lnTo>
                      <a:pt x="525" y="128"/>
                    </a:lnTo>
                    <a:lnTo>
                      <a:pt x="469" y="171"/>
                    </a:lnTo>
                    <a:lnTo>
                      <a:pt x="345" y="218"/>
                    </a:lnTo>
                    <a:lnTo>
                      <a:pt x="234" y="235"/>
                    </a:lnTo>
                    <a:lnTo>
                      <a:pt x="88" y="209"/>
                    </a:lnTo>
                    <a:lnTo>
                      <a:pt x="0" y="196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366280" y="2453400"/>
                <a:ext cx="677160" cy="663840"/>
              </a:xfrm>
              <a:custGeom>
                <a:avLst/>
                <a:gdLst/>
                <a:ahLst/>
                <a:rect l="l" t="t" r="r" b="b"/>
                <a:pathLst>
                  <a:path w="551" h="569">
                    <a:moveTo>
                      <a:pt x="46" y="25"/>
                    </a:moveTo>
                    <a:lnTo>
                      <a:pt x="131" y="0"/>
                    </a:lnTo>
                    <a:lnTo>
                      <a:pt x="237" y="13"/>
                    </a:lnTo>
                    <a:lnTo>
                      <a:pt x="419" y="57"/>
                    </a:lnTo>
                    <a:lnTo>
                      <a:pt x="483" y="103"/>
                    </a:lnTo>
                    <a:lnTo>
                      <a:pt x="551" y="223"/>
                    </a:lnTo>
                    <a:lnTo>
                      <a:pt x="542" y="333"/>
                    </a:lnTo>
                    <a:lnTo>
                      <a:pt x="457" y="480"/>
                    </a:lnTo>
                    <a:lnTo>
                      <a:pt x="375" y="547"/>
                    </a:lnTo>
                    <a:lnTo>
                      <a:pt x="294" y="569"/>
                    </a:lnTo>
                    <a:lnTo>
                      <a:pt x="234" y="531"/>
                    </a:lnTo>
                    <a:lnTo>
                      <a:pt x="212" y="467"/>
                    </a:lnTo>
                    <a:lnTo>
                      <a:pt x="251" y="377"/>
                    </a:lnTo>
                    <a:lnTo>
                      <a:pt x="310" y="275"/>
                    </a:lnTo>
                    <a:lnTo>
                      <a:pt x="209" y="283"/>
                    </a:lnTo>
                    <a:lnTo>
                      <a:pt x="87" y="287"/>
                    </a:lnTo>
                    <a:lnTo>
                      <a:pt x="22" y="242"/>
                    </a:lnTo>
                    <a:lnTo>
                      <a:pt x="0" y="184"/>
                    </a:lnTo>
                    <a:lnTo>
                      <a:pt x="3" y="69"/>
                    </a:lnTo>
                    <a:lnTo>
                      <a:pt x="46" y="25"/>
                    </a:lnTo>
                    <a:lnTo>
                      <a:pt x="46" y="25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707920" y="405360"/>
                <a:ext cx="4218480" cy="3140640"/>
              </a:xfrm>
              <a:custGeom>
                <a:avLst/>
                <a:gdLst/>
                <a:ahLst/>
                <a:rect l="l" t="t" r="r" b="b"/>
                <a:pathLst>
                  <a:path w="3433" h="2692">
                    <a:moveTo>
                      <a:pt x="2304" y="480"/>
                    </a:moveTo>
                    <a:lnTo>
                      <a:pt x="2137" y="506"/>
                    </a:lnTo>
                    <a:lnTo>
                      <a:pt x="1910" y="506"/>
                    </a:lnTo>
                    <a:lnTo>
                      <a:pt x="1786" y="501"/>
                    </a:lnTo>
                    <a:lnTo>
                      <a:pt x="1711" y="448"/>
                    </a:lnTo>
                    <a:lnTo>
                      <a:pt x="1675" y="416"/>
                    </a:lnTo>
                    <a:lnTo>
                      <a:pt x="1658" y="359"/>
                    </a:lnTo>
                    <a:lnTo>
                      <a:pt x="1666" y="244"/>
                    </a:lnTo>
                    <a:lnTo>
                      <a:pt x="1673" y="135"/>
                    </a:lnTo>
                    <a:lnTo>
                      <a:pt x="1635" y="58"/>
                    </a:lnTo>
                    <a:lnTo>
                      <a:pt x="1564" y="0"/>
                    </a:lnTo>
                    <a:lnTo>
                      <a:pt x="1466" y="0"/>
                    </a:lnTo>
                    <a:lnTo>
                      <a:pt x="1363" y="39"/>
                    </a:lnTo>
                    <a:lnTo>
                      <a:pt x="1222" y="124"/>
                    </a:lnTo>
                    <a:lnTo>
                      <a:pt x="1098" y="240"/>
                    </a:lnTo>
                    <a:lnTo>
                      <a:pt x="1034" y="356"/>
                    </a:lnTo>
                    <a:lnTo>
                      <a:pt x="1025" y="471"/>
                    </a:lnTo>
                    <a:lnTo>
                      <a:pt x="1046" y="595"/>
                    </a:lnTo>
                    <a:lnTo>
                      <a:pt x="1043" y="646"/>
                    </a:lnTo>
                    <a:lnTo>
                      <a:pt x="1021" y="676"/>
                    </a:lnTo>
                    <a:lnTo>
                      <a:pt x="970" y="706"/>
                    </a:lnTo>
                    <a:lnTo>
                      <a:pt x="885" y="711"/>
                    </a:lnTo>
                    <a:lnTo>
                      <a:pt x="752" y="697"/>
                    </a:lnTo>
                    <a:lnTo>
                      <a:pt x="551" y="625"/>
                    </a:lnTo>
                    <a:lnTo>
                      <a:pt x="478" y="621"/>
                    </a:lnTo>
                    <a:lnTo>
                      <a:pt x="414" y="660"/>
                    </a:lnTo>
                    <a:lnTo>
                      <a:pt x="371" y="736"/>
                    </a:lnTo>
                    <a:lnTo>
                      <a:pt x="375" y="835"/>
                    </a:lnTo>
                    <a:lnTo>
                      <a:pt x="423" y="925"/>
                    </a:lnTo>
                    <a:lnTo>
                      <a:pt x="542" y="998"/>
                    </a:lnTo>
                    <a:lnTo>
                      <a:pt x="667" y="1074"/>
                    </a:lnTo>
                    <a:lnTo>
                      <a:pt x="695" y="1133"/>
                    </a:lnTo>
                    <a:lnTo>
                      <a:pt x="687" y="1194"/>
                    </a:lnTo>
                    <a:lnTo>
                      <a:pt x="644" y="1237"/>
                    </a:lnTo>
                    <a:lnTo>
                      <a:pt x="586" y="1258"/>
                    </a:lnTo>
                    <a:lnTo>
                      <a:pt x="457" y="1246"/>
                    </a:lnTo>
                    <a:lnTo>
                      <a:pt x="316" y="1207"/>
                    </a:lnTo>
                    <a:lnTo>
                      <a:pt x="200" y="1207"/>
                    </a:lnTo>
                    <a:lnTo>
                      <a:pt x="97" y="1250"/>
                    </a:lnTo>
                    <a:lnTo>
                      <a:pt x="12" y="1370"/>
                    </a:lnTo>
                    <a:lnTo>
                      <a:pt x="0" y="1455"/>
                    </a:lnTo>
                    <a:lnTo>
                      <a:pt x="25" y="1506"/>
                    </a:lnTo>
                    <a:lnTo>
                      <a:pt x="111" y="1554"/>
                    </a:lnTo>
                    <a:lnTo>
                      <a:pt x="248" y="1593"/>
                    </a:lnTo>
                    <a:lnTo>
                      <a:pt x="457" y="1626"/>
                    </a:lnTo>
                    <a:lnTo>
                      <a:pt x="628" y="1674"/>
                    </a:lnTo>
                    <a:lnTo>
                      <a:pt x="731" y="1708"/>
                    </a:lnTo>
                    <a:lnTo>
                      <a:pt x="756" y="1758"/>
                    </a:lnTo>
                    <a:lnTo>
                      <a:pt x="752" y="1802"/>
                    </a:lnTo>
                    <a:lnTo>
                      <a:pt x="662" y="1844"/>
                    </a:lnTo>
                    <a:lnTo>
                      <a:pt x="478" y="1943"/>
                    </a:lnTo>
                    <a:lnTo>
                      <a:pt x="368" y="2016"/>
                    </a:lnTo>
                    <a:lnTo>
                      <a:pt x="316" y="2088"/>
                    </a:lnTo>
                    <a:lnTo>
                      <a:pt x="294" y="2152"/>
                    </a:lnTo>
                    <a:lnTo>
                      <a:pt x="281" y="2234"/>
                    </a:lnTo>
                    <a:lnTo>
                      <a:pt x="290" y="2299"/>
                    </a:lnTo>
                    <a:lnTo>
                      <a:pt x="329" y="2380"/>
                    </a:lnTo>
                    <a:lnTo>
                      <a:pt x="412" y="2480"/>
                    </a:lnTo>
                    <a:lnTo>
                      <a:pt x="487" y="2508"/>
                    </a:lnTo>
                    <a:lnTo>
                      <a:pt x="568" y="2512"/>
                    </a:lnTo>
                    <a:lnTo>
                      <a:pt x="675" y="2504"/>
                    </a:lnTo>
                    <a:lnTo>
                      <a:pt x="782" y="2460"/>
                    </a:lnTo>
                    <a:lnTo>
                      <a:pt x="862" y="2384"/>
                    </a:lnTo>
                    <a:lnTo>
                      <a:pt x="919" y="2285"/>
                    </a:lnTo>
                    <a:lnTo>
                      <a:pt x="958" y="2182"/>
                    </a:lnTo>
                    <a:lnTo>
                      <a:pt x="991" y="2118"/>
                    </a:lnTo>
                    <a:lnTo>
                      <a:pt x="1043" y="2080"/>
                    </a:lnTo>
                    <a:lnTo>
                      <a:pt x="1107" y="2076"/>
                    </a:lnTo>
                    <a:lnTo>
                      <a:pt x="1162" y="2115"/>
                    </a:lnTo>
                    <a:lnTo>
                      <a:pt x="1194" y="2201"/>
                    </a:lnTo>
                    <a:lnTo>
                      <a:pt x="1232" y="2363"/>
                    </a:lnTo>
                    <a:lnTo>
                      <a:pt x="1227" y="2487"/>
                    </a:lnTo>
                    <a:lnTo>
                      <a:pt x="1243" y="2550"/>
                    </a:lnTo>
                    <a:lnTo>
                      <a:pt x="1291" y="2577"/>
                    </a:lnTo>
                    <a:lnTo>
                      <a:pt x="1393" y="2568"/>
                    </a:lnTo>
                    <a:lnTo>
                      <a:pt x="1500" y="2492"/>
                    </a:lnTo>
                    <a:lnTo>
                      <a:pt x="1611" y="2375"/>
                    </a:lnTo>
                    <a:lnTo>
                      <a:pt x="1714" y="2230"/>
                    </a:lnTo>
                    <a:lnTo>
                      <a:pt x="1795" y="2161"/>
                    </a:lnTo>
                    <a:lnTo>
                      <a:pt x="1842" y="2140"/>
                    </a:lnTo>
                    <a:lnTo>
                      <a:pt x="1910" y="2152"/>
                    </a:lnTo>
                    <a:lnTo>
                      <a:pt x="1992" y="2217"/>
                    </a:lnTo>
                    <a:lnTo>
                      <a:pt x="2066" y="2307"/>
                    </a:lnTo>
                    <a:lnTo>
                      <a:pt x="2221" y="2482"/>
                    </a:lnTo>
                    <a:lnTo>
                      <a:pt x="2346" y="2612"/>
                    </a:lnTo>
                    <a:lnTo>
                      <a:pt x="2423" y="2653"/>
                    </a:lnTo>
                    <a:lnTo>
                      <a:pt x="2543" y="2692"/>
                    </a:lnTo>
                    <a:lnTo>
                      <a:pt x="2624" y="2688"/>
                    </a:lnTo>
                    <a:lnTo>
                      <a:pt x="2684" y="2658"/>
                    </a:lnTo>
                    <a:lnTo>
                      <a:pt x="2736" y="2607"/>
                    </a:lnTo>
                    <a:lnTo>
                      <a:pt x="2761" y="2529"/>
                    </a:lnTo>
                    <a:lnTo>
                      <a:pt x="2769" y="2456"/>
                    </a:lnTo>
                    <a:lnTo>
                      <a:pt x="2722" y="2366"/>
                    </a:lnTo>
                    <a:lnTo>
                      <a:pt x="2624" y="2247"/>
                    </a:lnTo>
                    <a:lnTo>
                      <a:pt x="2440" y="2131"/>
                    </a:lnTo>
                    <a:lnTo>
                      <a:pt x="2428" y="2093"/>
                    </a:lnTo>
                    <a:lnTo>
                      <a:pt x="2461" y="2067"/>
                    </a:lnTo>
                    <a:lnTo>
                      <a:pt x="2555" y="2058"/>
                    </a:lnTo>
                    <a:lnTo>
                      <a:pt x="2761" y="2076"/>
                    </a:lnTo>
                    <a:lnTo>
                      <a:pt x="3108" y="2122"/>
                    </a:lnTo>
                    <a:lnTo>
                      <a:pt x="3257" y="2145"/>
                    </a:lnTo>
                    <a:lnTo>
                      <a:pt x="3359" y="2145"/>
                    </a:lnTo>
                    <a:lnTo>
                      <a:pt x="3419" y="2115"/>
                    </a:lnTo>
                    <a:lnTo>
                      <a:pt x="3433" y="2043"/>
                    </a:lnTo>
                    <a:lnTo>
                      <a:pt x="3389" y="1964"/>
                    </a:lnTo>
                    <a:lnTo>
                      <a:pt x="3274" y="1871"/>
                    </a:lnTo>
                    <a:lnTo>
                      <a:pt x="3159" y="1810"/>
                    </a:lnTo>
                    <a:lnTo>
                      <a:pt x="3005" y="1759"/>
                    </a:lnTo>
                    <a:lnTo>
                      <a:pt x="2800" y="1699"/>
                    </a:lnTo>
                    <a:lnTo>
                      <a:pt x="2698" y="1633"/>
                    </a:lnTo>
                    <a:lnTo>
                      <a:pt x="2671" y="1575"/>
                    </a:lnTo>
                    <a:lnTo>
                      <a:pt x="2692" y="1502"/>
                    </a:lnTo>
                    <a:lnTo>
                      <a:pt x="2773" y="1439"/>
                    </a:lnTo>
                    <a:lnTo>
                      <a:pt x="3005" y="1357"/>
                    </a:lnTo>
                    <a:lnTo>
                      <a:pt x="3133" y="1322"/>
                    </a:lnTo>
                    <a:lnTo>
                      <a:pt x="3212" y="1301"/>
                    </a:lnTo>
                    <a:lnTo>
                      <a:pt x="3269" y="1271"/>
                    </a:lnTo>
                    <a:lnTo>
                      <a:pt x="3289" y="1221"/>
                    </a:lnTo>
                    <a:lnTo>
                      <a:pt x="3260" y="1161"/>
                    </a:lnTo>
                    <a:lnTo>
                      <a:pt x="3208" y="1126"/>
                    </a:lnTo>
                    <a:lnTo>
                      <a:pt x="3103" y="1101"/>
                    </a:lnTo>
                    <a:lnTo>
                      <a:pt x="3009" y="1096"/>
                    </a:lnTo>
                    <a:lnTo>
                      <a:pt x="2911" y="1113"/>
                    </a:lnTo>
                    <a:lnTo>
                      <a:pt x="2688" y="1161"/>
                    </a:lnTo>
                    <a:lnTo>
                      <a:pt x="2539" y="1177"/>
                    </a:lnTo>
                    <a:lnTo>
                      <a:pt x="2438" y="1177"/>
                    </a:lnTo>
                    <a:lnTo>
                      <a:pt x="2406" y="1131"/>
                    </a:lnTo>
                    <a:lnTo>
                      <a:pt x="2406" y="1057"/>
                    </a:lnTo>
                    <a:lnTo>
                      <a:pt x="2453" y="984"/>
                    </a:lnTo>
                    <a:lnTo>
                      <a:pt x="2530" y="929"/>
                    </a:lnTo>
                    <a:lnTo>
                      <a:pt x="2640" y="860"/>
                    </a:lnTo>
                    <a:lnTo>
                      <a:pt x="2440" y="886"/>
                    </a:lnTo>
                    <a:lnTo>
                      <a:pt x="2299" y="864"/>
                    </a:lnTo>
                    <a:lnTo>
                      <a:pt x="2213" y="816"/>
                    </a:lnTo>
                    <a:lnTo>
                      <a:pt x="2167" y="779"/>
                    </a:lnTo>
                    <a:lnTo>
                      <a:pt x="2167" y="697"/>
                    </a:lnTo>
                    <a:lnTo>
                      <a:pt x="2222" y="570"/>
                    </a:lnTo>
                    <a:lnTo>
                      <a:pt x="2269" y="513"/>
                    </a:lnTo>
                    <a:lnTo>
                      <a:pt x="2304" y="480"/>
                    </a:lnTo>
                    <a:lnTo>
                      <a:pt x="2304" y="48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106680" y="1134720"/>
                <a:ext cx="649800" cy="273960"/>
              </a:xfrm>
              <a:custGeom>
                <a:avLst/>
                <a:gdLst/>
                <a:ahLst/>
                <a:rect l="l" t="t" r="r" b="b"/>
                <a:pathLst>
                  <a:path w="529" h="235">
                    <a:moveTo>
                      <a:pt x="0" y="198"/>
                    </a:moveTo>
                    <a:lnTo>
                      <a:pt x="179" y="72"/>
                    </a:lnTo>
                    <a:lnTo>
                      <a:pt x="303" y="14"/>
                    </a:lnTo>
                    <a:lnTo>
                      <a:pt x="414" y="0"/>
                    </a:lnTo>
                    <a:lnTo>
                      <a:pt x="499" y="26"/>
                    </a:lnTo>
                    <a:lnTo>
                      <a:pt x="529" y="72"/>
                    </a:lnTo>
                    <a:lnTo>
                      <a:pt x="524" y="129"/>
                    </a:lnTo>
                    <a:lnTo>
                      <a:pt x="469" y="171"/>
                    </a:lnTo>
                    <a:lnTo>
                      <a:pt x="345" y="219"/>
                    </a:lnTo>
                    <a:lnTo>
                      <a:pt x="234" y="235"/>
                    </a:lnTo>
                    <a:lnTo>
                      <a:pt x="89" y="210"/>
                    </a:lnTo>
                    <a:lnTo>
                      <a:pt x="0" y="198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319480" y="2377440"/>
                <a:ext cx="677160" cy="664920"/>
              </a:xfrm>
              <a:custGeom>
                <a:avLst/>
                <a:gdLst/>
                <a:ahLst/>
                <a:rect l="l" t="t" r="r" b="b"/>
                <a:pathLst>
                  <a:path w="551" h="570">
                    <a:moveTo>
                      <a:pt x="55" y="27"/>
                    </a:moveTo>
                    <a:lnTo>
                      <a:pt x="140" y="0"/>
                    </a:lnTo>
                    <a:lnTo>
                      <a:pt x="247" y="14"/>
                    </a:lnTo>
                    <a:lnTo>
                      <a:pt x="392" y="57"/>
                    </a:lnTo>
                    <a:lnTo>
                      <a:pt x="503" y="140"/>
                    </a:lnTo>
                    <a:lnTo>
                      <a:pt x="543" y="236"/>
                    </a:lnTo>
                    <a:lnTo>
                      <a:pt x="551" y="335"/>
                    </a:lnTo>
                    <a:lnTo>
                      <a:pt x="465" y="480"/>
                    </a:lnTo>
                    <a:lnTo>
                      <a:pt x="384" y="549"/>
                    </a:lnTo>
                    <a:lnTo>
                      <a:pt x="303" y="570"/>
                    </a:lnTo>
                    <a:lnTo>
                      <a:pt x="243" y="531"/>
                    </a:lnTo>
                    <a:lnTo>
                      <a:pt x="222" y="467"/>
                    </a:lnTo>
                    <a:lnTo>
                      <a:pt x="260" y="377"/>
                    </a:lnTo>
                    <a:lnTo>
                      <a:pt x="319" y="274"/>
                    </a:lnTo>
                    <a:lnTo>
                      <a:pt x="217" y="283"/>
                    </a:lnTo>
                    <a:lnTo>
                      <a:pt x="111" y="289"/>
                    </a:lnTo>
                    <a:lnTo>
                      <a:pt x="33" y="248"/>
                    </a:lnTo>
                    <a:lnTo>
                      <a:pt x="0" y="142"/>
                    </a:lnTo>
                    <a:lnTo>
                      <a:pt x="13" y="69"/>
                    </a:lnTo>
                    <a:lnTo>
                      <a:pt x="55" y="27"/>
                    </a:lnTo>
                    <a:lnTo>
                      <a:pt x="55" y="27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748760" y="960840"/>
                <a:ext cx="632520" cy="157320"/>
              </a:xfrm>
              <a:custGeom>
                <a:avLst/>
                <a:gdLst/>
                <a:ahLst/>
                <a:rect l="l" t="t" r="r" b="b"/>
                <a:pathLst>
                  <a:path w="515" h="135">
                    <a:moveTo>
                      <a:pt x="0" y="0"/>
                    </a:moveTo>
                    <a:lnTo>
                      <a:pt x="89" y="40"/>
                    </a:lnTo>
                    <a:lnTo>
                      <a:pt x="204" y="61"/>
                    </a:lnTo>
                    <a:lnTo>
                      <a:pt x="305" y="66"/>
                    </a:lnTo>
                    <a:lnTo>
                      <a:pt x="416" y="61"/>
                    </a:lnTo>
                    <a:lnTo>
                      <a:pt x="515" y="52"/>
                    </a:lnTo>
                    <a:lnTo>
                      <a:pt x="405" y="97"/>
                    </a:lnTo>
                    <a:lnTo>
                      <a:pt x="290" y="130"/>
                    </a:lnTo>
                    <a:lnTo>
                      <a:pt x="189" y="135"/>
                    </a:lnTo>
                    <a:lnTo>
                      <a:pt x="112" y="120"/>
                    </a:lnTo>
                    <a:lnTo>
                      <a:pt x="45" y="76"/>
                    </a:lnTo>
                    <a:lnTo>
                      <a:pt x="2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032720" y="479880"/>
                <a:ext cx="476280" cy="699840"/>
              </a:xfrm>
              <a:custGeom>
                <a:avLst/>
                <a:gdLst/>
                <a:ahLst/>
                <a:rect l="l" t="t" r="r" b="b"/>
                <a:pathLst>
                  <a:path w="388" h="600">
                    <a:moveTo>
                      <a:pt x="388" y="0"/>
                    </a:moveTo>
                    <a:lnTo>
                      <a:pt x="264" y="54"/>
                    </a:lnTo>
                    <a:lnTo>
                      <a:pt x="136" y="139"/>
                    </a:lnTo>
                    <a:lnTo>
                      <a:pt x="55" y="220"/>
                    </a:lnTo>
                    <a:lnTo>
                      <a:pt x="16" y="307"/>
                    </a:lnTo>
                    <a:lnTo>
                      <a:pt x="0" y="392"/>
                    </a:lnTo>
                    <a:lnTo>
                      <a:pt x="13" y="493"/>
                    </a:lnTo>
                    <a:lnTo>
                      <a:pt x="70" y="600"/>
                    </a:lnTo>
                    <a:lnTo>
                      <a:pt x="71" y="464"/>
                    </a:lnTo>
                    <a:lnTo>
                      <a:pt x="86" y="360"/>
                    </a:lnTo>
                    <a:lnTo>
                      <a:pt x="116" y="268"/>
                    </a:lnTo>
                    <a:lnTo>
                      <a:pt x="178" y="166"/>
                    </a:lnTo>
                    <a:lnTo>
                      <a:pt x="254" y="96"/>
                    </a:lnTo>
                    <a:lnTo>
                      <a:pt x="388" y="0"/>
                    </a:lnTo>
                    <a:lnTo>
                      <a:pt x="388" y="0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227400" y="1224360"/>
                <a:ext cx="319320" cy="359280"/>
              </a:xfrm>
              <a:custGeom>
                <a:avLst/>
                <a:gdLst/>
                <a:ahLst/>
                <a:rect l="l" t="t" r="r" b="b"/>
                <a:pathLst>
                  <a:path w="260" h="308">
                    <a:moveTo>
                      <a:pt x="19" y="0"/>
                    </a:moveTo>
                    <a:lnTo>
                      <a:pt x="85" y="25"/>
                    </a:lnTo>
                    <a:lnTo>
                      <a:pt x="90" y="43"/>
                    </a:lnTo>
                    <a:lnTo>
                      <a:pt x="61" y="77"/>
                    </a:lnTo>
                    <a:lnTo>
                      <a:pt x="61" y="112"/>
                    </a:lnTo>
                    <a:lnTo>
                      <a:pt x="89" y="173"/>
                    </a:lnTo>
                    <a:lnTo>
                      <a:pt x="174" y="248"/>
                    </a:lnTo>
                    <a:lnTo>
                      <a:pt x="260" y="308"/>
                    </a:lnTo>
                    <a:lnTo>
                      <a:pt x="133" y="270"/>
                    </a:lnTo>
                    <a:lnTo>
                      <a:pt x="27" y="188"/>
                    </a:lnTo>
                    <a:lnTo>
                      <a:pt x="0" y="97"/>
                    </a:lnTo>
                    <a:lnTo>
                      <a:pt x="0" y="3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788920" y="1978200"/>
                <a:ext cx="821880" cy="380160"/>
              </a:xfrm>
              <a:custGeom>
                <a:avLst/>
                <a:gdLst/>
                <a:ahLst/>
                <a:rect l="l" t="t" r="r" b="b"/>
                <a:pathLst>
                  <a:path w="669" h="326">
                    <a:moveTo>
                      <a:pt x="12" y="0"/>
                    </a:moveTo>
                    <a:lnTo>
                      <a:pt x="39" y="56"/>
                    </a:lnTo>
                    <a:lnTo>
                      <a:pt x="133" y="77"/>
                    </a:lnTo>
                    <a:lnTo>
                      <a:pt x="384" y="133"/>
                    </a:lnTo>
                    <a:lnTo>
                      <a:pt x="526" y="178"/>
                    </a:lnTo>
                    <a:lnTo>
                      <a:pt x="590" y="223"/>
                    </a:lnTo>
                    <a:lnTo>
                      <a:pt x="669" y="326"/>
                    </a:lnTo>
                    <a:lnTo>
                      <a:pt x="538" y="251"/>
                    </a:lnTo>
                    <a:lnTo>
                      <a:pt x="389" y="213"/>
                    </a:lnTo>
                    <a:lnTo>
                      <a:pt x="230" y="197"/>
                    </a:lnTo>
                    <a:lnTo>
                      <a:pt x="118" y="158"/>
                    </a:lnTo>
                    <a:lnTo>
                      <a:pt x="24" y="113"/>
                    </a:lnTo>
                    <a:lnTo>
                      <a:pt x="0" y="7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362320" y="2457720"/>
                <a:ext cx="270000" cy="207720"/>
              </a:xfrm>
              <a:custGeom>
                <a:avLst/>
                <a:gdLst/>
                <a:ahLst/>
                <a:rect l="l" t="t" r="r" b="b"/>
                <a:pathLst>
                  <a:path w="220" h="178">
                    <a:moveTo>
                      <a:pt x="53" y="0"/>
                    </a:moveTo>
                    <a:lnTo>
                      <a:pt x="36" y="56"/>
                    </a:lnTo>
                    <a:lnTo>
                      <a:pt x="78" y="110"/>
                    </a:lnTo>
                    <a:lnTo>
                      <a:pt x="142" y="148"/>
                    </a:lnTo>
                    <a:lnTo>
                      <a:pt x="220" y="178"/>
                    </a:lnTo>
                    <a:lnTo>
                      <a:pt x="112" y="175"/>
                    </a:lnTo>
                    <a:lnTo>
                      <a:pt x="41" y="144"/>
                    </a:lnTo>
                    <a:lnTo>
                      <a:pt x="0" y="79"/>
                    </a:lnTo>
                    <a:lnTo>
                      <a:pt x="0" y="43"/>
                    </a:lnTo>
                    <a:lnTo>
                      <a:pt x="26" y="1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156120" y="3017880"/>
                <a:ext cx="632520" cy="286920"/>
              </a:xfrm>
              <a:custGeom>
                <a:avLst/>
                <a:gdLst/>
                <a:ahLst/>
                <a:rect l="l" t="t" r="r" b="b"/>
                <a:pathLst>
                  <a:path w="515" h="246">
                    <a:moveTo>
                      <a:pt x="0" y="67"/>
                    </a:moveTo>
                    <a:lnTo>
                      <a:pt x="89" y="102"/>
                    </a:lnTo>
                    <a:lnTo>
                      <a:pt x="207" y="134"/>
                    </a:lnTo>
                    <a:lnTo>
                      <a:pt x="297" y="130"/>
                    </a:lnTo>
                    <a:lnTo>
                      <a:pt x="376" y="106"/>
                    </a:lnTo>
                    <a:lnTo>
                      <a:pt x="445" y="71"/>
                    </a:lnTo>
                    <a:lnTo>
                      <a:pt x="515" y="0"/>
                    </a:lnTo>
                    <a:lnTo>
                      <a:pt x="490" y="87"/>
                    </a:lnTo>
                    <a:lnTo>
                      <a:pt x="432" y="172"/>
                    </a:lnTo>
                    <a:lnTo>
                      <a:pt x="352" y="220"/>
                    </a:lnTo>
                    <a:lnTo>
                      <a:pt x="257" y="246"/>
                    </a:lnTo>
                    <a:lnTo>
                      <a:pt x="160" y="230"/>
                    </a:lnTo>
                    <a:lnTo>
                      <a:pt x="64" y="190"/>
                    </a:lnTo>
                    <a:lnTo>
                      <a:pt x="16" y="13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253400" y="3041280"/>
                <a:ext cx="461880" cy="310320"/>
              </a:xfrm>
              <a:custGeom>
                <a:avLst/>
                <a:gdLst/>
                <a:ahLst/>
                <a:rect l="l" t="t" r="r" b="b"/>
                <a:pathLst>
                  <a:path w="376" h="266">
                    <a:moveTo>
                      <a:pt x="36" y="69"/>
                    </a:moveTo>
                    <a:lnTo>
                      <a:pt x="50" y="127"/>
                    </a:lnTo>
                    <a:lnTo>
                      <a:pt x="104" y="169"/>
                    </a:lnTo>
                    <a:lnTo>
                      <a:pt x="178" y="151"/>
                    </a:lnTo>
                    <a:lnTo>
                      <a:pt x="257" y="104"/>
                    </a:lnTo>
                    <a:lnTo>
                      <a:pt x="376" y="0"/>
                    </a:lnTo>
                    <a:lnTo>
                      <a:pt x="318" y="79"/>
                    </a:lnTo>
                    <a:lnTo>
                      <a:pt x="247" y="167"/>
                    </a:lnTo>
                    <a:lnTo>
                      <a:pt x="187" y="230"/>
                    </a:lnTo>
                    <a:lnTo>
                      <a:pt x="133" y="261"/>
                    </a:lnTo>
                    <a:lnTo>
                      <a:pt x="73" y="266"/>
                    </a:lnTo>
                    <a:lnTo>
                      <a:pt x="20" y="255"/>
                    </a:lnTo>
                    <a:lnTo>
                      <a:pt x="0" y="191"/>
                    </a:lnTo>
                    <a:lnTo>
                      <a:pt x="6" y="119"/>
                    </a:lnTo>
                    <a:lnTo>
                      <a:pt x="36" y="69"/>
                    </a:lnTo>
                    <a:lnTo>
                      <a:pt x="36" y="69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819040" y="1918800"/>
                <a:ext cx="674640" cy="411840"/>
              </a:xfrm>
              <a:custGeom>
                <a:avLst/>
                <a:gdLst/>
                <a:ahLst/>
                <a:rect l="l" t="t" r="r" b="b"/>
                <a:pathLst>
                  <a:path w="549" h="353">
                    <a:moveTo>
                      <a:pt x="549" y="0"/>
                    </a:moveTo>
                    <a:lnTo>
                      <a:pt x="389" y="45"/>
                    </a:lnTo>
                    <a:lnTo>
                      <a:pt x="253" y="97"/>
                    </a:lnTo>
                    <a:lnTo>
                      <a:pt x="164" y="147"/>
                    </a:lnTo>
                    <a:lnTo>
                      <a:pt x="120" y="194"/>
                    </a:lnTo>
                    <a:lnTo>
                      <a:pt x="92" y="246"/>
                    </a:lnTo>
                    <a:lnTo>
                      <a:pt x="98" y="314"/>
                    </a:lnTo>
                    <a:lnTo>
                      <a:pt x="119" y="353"/>
                    </a:lnTo>
                    <a:lnTo>
                      <a:pt x="53" y="326"/>
                    </a:lnTo>
                    <a:lnTo>
                      <a:pt x="7" y="269"/>
                    </a:lnTo>
                    <a:lnTo>
                      <a:pt x="0" y="184"/>
                    </a:lnTo>
                    <a:lnTo>
                      <a:pt x="51" y="115"/>
                    </a:lnTo>
                    <a:lnTo>
                      <a:pt x="135" y="75"/>
                    </a:lnTo>
                    <a:lnTo>
                      <a:pt x="270" y="39"/>
                    </a:lnTo>
                    <a:lnTo>
                      <a:pt x="425" y="9"/>
                    </a:lnTo>
                    <a:lnTo>
                      <a:pt x="549" y="0"/>
                    </a:lnTo>
                    <a:lnTo>
                      <a:pt x="549" y="0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319440" y="1183680"/>
                <a:ext cx="378360" cy="202680"/>
              </a:xfrm>
              <a:custGeom>
                <a:avLst/>
                <a:gdLst/>
                <a:ahLst/>
                <a:rect l="l" t="t" r="r" b="b"/>
                <a:pathLst>
                  <a:path w="308" h="174">
                    <a:moveTo>
                      <a:pt x="249" y="0"/>
                    </a:moveTo>
                    <a:lnTo>
                      <a:pt x="295" y="29"/>
                    </a:lnTo>
                    <a:lnTo>
                      <a:pt x="308" y="78"/>
                    </a:lnTo>
                    <a:lnTo>
                      <a:pt x="260" y="113"/>
                    </a:lnTo>
                    <a:lnTo>
                      <a:pt x="185" y="151"/>
                    </a:lnTo>
                    <a:lnTo>
                      <a:pt x="91" y="174"/>
                    </a:lnTo>
                    <a:lnTo>
                      <a:pt x="0" y="172"/>
                    </a:lnTo>
                    <a:lnTo>
                      <a:pt x="110" y="151"/>
                    </a:lnTo>
                    <a:lnTo>
                      <a:pt x="205" y="106"/>
                    </a:lnTo>
                    <a:lnTo>
                      <a:pt x="247" y="69"/>
                    </a:lnTo>
                    <a:lnTo>
                      <a:pt x="255" y="33"/>
                    </a:lnTo>
                    <a:lnTo>
                      <a:pt x="249" y="0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" name=""/>
            <p:cNvSpPr txBox="1"/>
            <p:nvPr/>
          </p:nvSpPr>
          <p:spPr>
            <a:xfrm rot="20605800">
              <a:off x="2535120" y="699840"/>
              <a:ext cx="4781520" cy="304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 Did This!"/>
                </a:rPr>
                <a:t>Kids </a:t>
              </a:r>
              <a:endPara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 Did This!"/>
                <a:ea typeface="I Did This!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 Did This!"/>
                </a:rPr>
                <a:t>@ </a:t>
              </a:r>
              <a:endPara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 Did This!"/>
                <a:ea typeface="I Did This!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 Did This!"/>
                </a:rPr>
                <a:t>One</a:t>
              </a:r>
              <a:endPara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 Did This!"/>
                <a:ea typeface="I Did This!"/>
              </a:endParaRPr>
            </a:p>
          </p:txBody>
        </p:sp>
      </p:grpSp>
      <p:sp>
        <p:nvSpPr>
          <p:cNvPr id="565" name=""/>
          <p:cNvSpPr txBox="1"/>
          <p:nvPr/>
        </p:nvSpPr>
        <p:spPr>
          <a:xfrm>
            <a:off x="1430280" y="4799160"/>
            <a:ext cx="64296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 Did This!"/>
              </a:rPr>
              <a:t>Have a GREAT week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 Did This!"/>
              <a:ea typeface="I Did This!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7" dur="252063" fill="hold"/>
                                        <p:tgtEl>
                                          <p:spTgt spid="5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36720" y="693720"/>
            <a:ext cx="5543640" cy="5543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23920"/>
            <a:ext cx="4680000" cy="46800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-270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1:19:01Z</dcterms:created>
  <dc:creator>GOO</dc:creator>
  <dc:description/>
  <dc:language>en-US</dc:language>
  <cp:lastModifiedBy>DG</cp:lastModifiedBy>
  <dcterms:modified xsi:type="dcterms:W3CDTF">2008-05-31T10:31:21Z</dcterms:modified>
  <cp:revision>129</cp:revision>
  <dc:subject/>
  <dc:title>Slide 1</dc:title>
</cp:coreProperties>
</file>